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7A9B-5010-4D74-A5F3-F524962B6D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C1CE-8833-46DF-8EAD-17BBDF9C92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A30A-9C3E-4FD8-9751-35E0868A1C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64D6-B850-4A49-B6CB-76A91C7816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06C0-95F1-4A2F-BB7B-11A264BD34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AD32-18F9-41C9-8AB0-AC2A01799F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6108-DD73-4860-AB84-0AB5D56CB1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4C4F-7103-4F12-BE2B-A5E6B6FF97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316D-F3CC-402C-B4C4-D96CBD56A5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E434-59B1-4D1E-843D-B55A6F8420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9A6A-CB22-4F1E-8E80-DA866DA8D1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7FB9-E5DD-4D42-A9B2-197A2AEA65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B325-0B20-49B7-9B2B-C5EE64BAF9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90D5-F44B-439D-9045-EAB38D8B02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DEEB-FA1B-4733-A926-5FF87EE951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ED4F-838F-4ADE-87BE-5281385640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DC96-5534-43EF-ACC3-17ADEC45C1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44C2-D347-4D93-B35B-471AF98F9C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AB9F-05EB-4EA1-BBB2-A27DE74276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1378-F8AA-4426-A827-A36CBC66D8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43FB-7D7E-4E8E-B823-8870341187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B248-A75B-4436-AECA-7500582F75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CC3B-D5DF-409F-8E5D-EE96CBC2A7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2D1C-AFFD-45C4-A6EA-9E50DE7B6A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7782-ADDC-46D2-8643-6656BD5FB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9591-01F9-490B-974A-2348045170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EE45-DB37-487E-89CB-F62EE4EC3B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395D-80B1-447D-A20E-42DC8DD5D7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BB98-53D0-4C47-9B7E-BBAEF8CB19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D390-1A81-4C8F-BEFC-F338951E98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B784-7D28-4ACB-9D4F-0C18A26192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776F-9BFE-496F-9EE4-D05A49376D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BE0E-E1AD-4EF9-8E76-C6C7B094B2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254E-05E0-4668-AFE1-1A7FD65F53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E412-C39E-45CC-98BC-A3F8D1AA1B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E485-3016-454F-BB9E-188CA4E906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7D01-AD4F-4022-8BDC-57B243033F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25AA-0BEC-400A-B4D5-410B779E77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3200-0AEB-4D57-9299-A47733239E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78B6-196D-449A-B5E8-E431CD2117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F05D-19E1-4C97-8794-E5CDA30C0E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FBE0-003E-4176-B207-B7C800163A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5F62-D880-41D7-ACBE-1D062F5E34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486D-917B-46DC-A2A4-EE585DB880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0FD0-51D2-47A4-8BD4-8939583CB6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4024-2F59-4AD6-A8B7-880C820F25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4A3F-B9A2-4BF0-888C-CDA061DB44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6E8A-DE64-4A3D-B5DA-93ADB24111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2DEE-96E3-4619-B091-F93AC1847F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9C7F-C280-45A7-AF53-AF95237403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9447-16B4-4C9F-B5B1-89CAF4EECB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3264-23F6-4C5C-B899-C3302B06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EBEC-942B-4693-B5F9-9CE74759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D8A-8449-432D-8FF9-97282183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8E88-2A6F-47D4-831C-DF8955B0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9D4-D0BB-435D-B2C6-1647B7C3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281-6D14-4F4A-830B-F57C1F40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9E5-713F-4B2D-BB9C-76556229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1D8-F36B-48A2-A70D-5A55BED5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945-3706-412A-992B-4487192B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F421-8E08-4511-9A65-62A7622A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6ECC-C9B8-41AF-AF7C-FB1C141D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C920-5657-4E9F-96A6-7451C037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81E7-0810-4793-9A56-2112BEF96CB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20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28640"/>
          <a:ext cx="8229600" cy="5004000"/>
        </p:xfrm>
        <a:graphic>
          <a:graphicData uri="http://schemas.openxmlformats.org/drawingml/2006/table">
            <a:tbl>
              <a:tblPr/>
              <a:tblGrid>
                <a:gridCol w="1297080"/>
                <a:gridCol w="503280"/>
                <a:gridCol w="950760"/>
                <a:gridCol w="1096920"/>
                <a:gridCol w="1095480"/>
                <a:gridCol w="1095480"/>
                <a:gridCol w="1095120"/>
                <a:gridCol w="1095480"/>
              </a:tblGrid>
              <a:tr h="54828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Число физических лиц» показывают только основных работников, имеющих трудовую книжку в данной медицинск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(всего) должна быть равна сумме строк 1, 2, 3, 4 по графам 3, 4, 5, 6, 7,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212760" y="1197000"/>
            <a:ext cx="8823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3=141.1000.1.03+141.1000.2.03+141.1000.3.03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4=141.1000.1.04+141.1000.2.04+141.1000.3.04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5=141.1000.1.05+141.1000.2.05+141.1000.3.05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17440" y="1197000"/>
            <a:ext cx="87519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, включая стационары на до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6=141.1000.1.06 + 141.1000.2.06 +141.1000.3.06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7=141.1000.1.07 + 141.1000.2.07 +141.1000.3.07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8=141.1000.1.08 + 141.1000.2.08 +141.1000.3.08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484280"/>
          <a:ext cx="8496360" cy="50990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64296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628640"/>
          <a:ext cx="8497800" cy="4853160"/>
        </p:xfrm>
        <a:graphic>
          <a:graphicData uri="http://schemas.openxmlformats.org/drawingml/2006/table">
            <a:tbl>
              <a:tblPr/>
              <a:tblGrid>
                <a:gridCol w="649440"/>
                <a:gridCol w="431640"/>
                <a:gridCol w="539640"/>
                <a:gridCol w="5414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от 9 декабря 1999 г. № 438 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960" y="155736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38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указываются данные о числе выписанных детей до 3 лет и проведенными ими пациенто-дн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320" y="58680"/>
            <a:ext cx="8713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0160" y="928800"/>
          <a:ext cx="8496000" cy="5742000"/>
        </p:xfrm>
        <a:graphic>
          <a:graphicData uri="http://schemas.openxmlformats.org/drawingml/2006/table">
            <a:tbl>
              <a:tblPr/>
              <a:tblGrid>
                <a:gridCol w="1079280"/>
                <a:gridCol w="412920"/>
                <a:gridCol w="647640"/>
                <a:gridCol w="503280"/>
                <a:gridCol w="504720"/>
                <a:gridCol w="503280"/>
                <a:gridCol w="576360"/>
                <a:gridCol w="720720"/>
                <a:gridCol w="576000"/>
                <a:gridCol w="576360"/>
                <a:gridCol w="503280"/>
                <a:gridCol w="720720"/>
                <a:gridCol w="647640"/>
                <a:gridCol w="523800"/>
              </a:tblGrid>
              <a:tr h="365400"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-годо-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го-д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нек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-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2898720" y="380052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820880" y="421956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394160" y="42195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0" y="42148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835680" y="46213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394160" y="4695840"/>
            <a:ext cx="87948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50072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85800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816200" y="56293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2901960" y="6207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643720" y="37861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8151840" y="37544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8070840" y="46465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8070840" y="6215040"/>
            <a:ext cx="83664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721480" y="61642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721480" y="45813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721480" y="51084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2832120" y="5118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8070840" y="50896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 графам 15-26 указываются сведения о числе коек, выписанных пациентах и проведенных ими пациенто-днях в дневных стационарах медицинских организаций, оказывающих помощь в амбулаторных условиях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стационары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2 - 75 по графам 15-26 заполняются данные только о работе дневных стационаров медицинских  организаций, оказывающих помощь в амбулаторных условиях по профиля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ационаров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331640"/>
            <a:ext cx="8229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1080" y="1214280"/>
            <a:ext cx="8605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4320" y="1082520"/>
            <a:ext cx="860580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4600" y="1315800"/>
            <a:ext cx="8301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93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268280"/>
            <a:ext cx="8535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2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28760" y="765000"/>
          <a:ext cx="8286480" cy="596124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552600"/>
                <a:gridCol w="722160"/>
                <a:gridCol w="814320"/>
                <a:gridCol w="695520"/>
                <a:gridCol w="931680"/>
                <a:gridCol w="812880"/>
                <a:gridCol w="814320"/>
              </a:tblGrid>
              <a:tr h="1461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1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4440" y="765000"/>
          <a:ext cx="8001000" cy="5793120"/>
        </p:xfrm>
        <a:graphic>
          <a:graphicData uri="http://schemas.openxmlformats.org/drawingml/2006/table">
            <a:tbl>
              <a:tblPr/>
              <a:tblGrid>
                <a:gridCol w="2544840"/>
                <a:gridCol w="288720"/>
                <a:gridCol w="590760"/>
                <a:gridCol w="718920"/>
                <a:gridCol w="865080"/>
                <a:gridCol w="648000"/>
                <a:gridCol w="693720"/>
                <a:gridCol w="825480"/>
                <a:gridCol w="825480"/>
              </a:tblGrid>
              <a:tr h="30492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356840"/>
            <a:ext cx="83912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2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+141.3000.21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+141.3500.22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, включая стационары на дому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+141.3000.21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+141.3500.22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00040" y="7858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полнительные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казателях работы дневных стационаров медицинских организаций, оказывающих помощь на дом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ционаров на дому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7400" y="333360"/>
            <a:ext cx="82566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ование субъекта Российской Федерации ___________________________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РАБОТЫ ДНЕВНЫХ СТАЦИОНАРОВ МЕДИЦИНСКИХ ОРГАНИЗАЦИЙ, ОКАЗЫВАЮЩИХ МЕДИЦИНСКУЮ ПОМОЩЬ НА ДОМУ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к дневных стационаров медицинских организаций, оказывающих медицинскую помощь на дому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2049480"/>
          <a:ext cx="8064720" cy="3176640"/>
        </p:xfrm>
        <a:graphic>
          <a:graphicData uri="http://schemas.openxmlformats.org/drawingml/2006/table">
            <a:tbl>
              <a:tblPr/>
              <a:tblGrid>
                <a:gridCol w="1584360"/>
                <a:gridCol w="360360"/>
                <a:gridCol w="358920"/>
                <a:gridCol w="504720"/>
                <a:gridCol w="503280"/>
                <a:gridCol w="576360"/>
                <a:gridCol w="544320"/>
                <a:gridCol w="573120"/>
                <a:gridCol w="498600"/>
                <a:gridCol w="466560"/>
                <a:gridCol w="561960"/>
                <a:gridCol w="561960"/>
                <a:gridCol w="517680"/>
                <a:gridCol w="452520"/>
              </a:tblGrid>
              <a:tr h="140760"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1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днего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-дов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до 3 л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160"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48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61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51480" rIns="5148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39640" y="5246640"/>
          <a:ext cx="8209080" cy="685800"/>
        </p:xfrm>
        <a:graphic>
          <a:graphicData uri="http://schemas.openxmlformats.org/drawingml/2006/table">
            <a:tbl>
              <a:tblPr/>
              <a:tblGrid>
                <a:gridCol w="149400"/>
                <a:gridCol w="2636640"/>
                <a:gridCol w="2819160"/>
                <a:gridCol w="1455120"/>
                <a:gridCol w="138960"/>
                <a:gridCol w="1009800"/>
              </a:tblGrid>
              <a:tr h="548280">
                <a:tc gridSpan="4"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 дневном стационаре при  подразделениях медицинских организаций, оказывающих медицинскую помощь  на дому всего 1________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етей 2 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75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39640" y="5950080"/>
          <a:ext cx="8136000" cy="365040"/>
        </p:xfrm>
        <a:graphic>
          <a:graphicData uri="http://schemas.openxmlformats.org/drawingml/2006/table">
            <a:tbl>
              <a:tblPr/>
              <a:tblGrid>
                <a:gridCol w="7373880"/>
                <a:gridCol w="439920"/>
                <a:gridCol w="322200"/>
              </a:tblGrid>
              <a:tr h="3650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исанных сельских жителей из дневных стационаров медицинских организаций, оказывающих медицинскую помощь  на дому 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1480" marR="5148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3560" y="5079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Взрослые (18 лет и старше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36680" y="1027080"/>
          <a:ext cx="8286480" cy="5775480"/>
        </p:xfrm>
        <a:graphic>
          <a:graphicData uri="http://schemas.openxmlformats.org/drawingml/2006/table">
            <a:tbl>
              <a:tblPr/>
              <a:tblGrid>
                <a:gridCol w="3558960"/>
                <a:gridCol w="360360"/>
                <a:gridCol w="720720"/>
                <a:gridCol w="1295640"/>
                <a:gridCol w="1368360"/>
                <a:gridCol w="9824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Состав пациентов в дневных стационарах медицинских организаций, оказывающих медицинскую помощь на дому, сроки и исходы лечени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New York"/>
                <a:ea typeface="Times New Roman"/>
              </a:rPr>
              <a:t>Дети (0-17 лет включительн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28760" y="957240"/>
          <a:ext cx="8229600" cy="5538960"/>
        </p:xfrm>
        <a:graphic>
          <a:graphicData uri="http://schemas.openxmlformats.org/drawingml/2006/table">
            <a:tbl>
              <a:tblPr/>
              <a:tblGrid>
                <a:gridCol w="3495600"/>
                <a:gridCol w="360360"/>
                <a:gridCol w="718920"/>
                <a:gridCol w="1440000"/>
                <a:gridCol w="1297080"/>
                <a:gridCol w="917640"/>
              </a:tblGrid>
              <a:tr h="304920"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30 декабря 2002 г. № 413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от 30.12.2002 г. № 413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13 ноября 2003 г. № 548 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cp:lastPrinted>2020-12-02T13:53:05Z</cp:lastPrinted>
  <dcterms:modified xsi:type="dcterms:W3CDTF">2020-12-03T06:27:00Z</dcterms:modified>
  <cp:revision>378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