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4C26-FFCB-491B-9B36-97016C023D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8D2B-6572-47EA-BD03-58634EA18F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6B3BDA-DFD4-49C6-93C0-FD1B61C7B5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D13B-FE08-4C4A-BE54-E7BBFF7127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9E4A-1127-4B80-9B7A-B56504DDF6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92EF-300A-4B4C-A3BA-288DAF5F47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9758-3F21-4E2C-B39C-9FD25A7D9F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EAE8-A5AE-4E52-A0C2-7D9E7721DD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C6D2-DB34-4BE8-9211-3A4008423D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8BC-48D9-40EE-BB37-E371FB32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8FD-EBB9-4B02-86CE-FF53EF1D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03E-7714-4C4B-BAAE-E2484BDD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91E-5F8A-4B65-A4F6-649CBA24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2DF2-EDDB-405A-A7C3-FBB03CFA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3B3-F255-4CC4-A7EC-1979E9B8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DB7-E4E7-42EA-95E5-96E34BA8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691-2B95-4547-BF7A-1D05B1A2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A8E-38A1-4CC4-9F33-A880F001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68E-58F4-4661-BFF5-04F85F49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099-9A58-48EF-9C4D-C754F440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1B6-29C3-4745-9EE5-35226401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71F4-5EB5-49C9-96A6-AB9CA7D5F8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5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5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5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6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6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6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cp:lastPrinted>2020-12-02T13:30:30Z</cp:lastPrinted>
  <dcterms:modified xsi:type="dcterms:W3CDTF">2020-12-03T06:24:11Z</dcterms:modified>
  <cp:revision>513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