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5D07-0BD1-4246-9965-519D077E54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CEFC-81D3-4015-A5FA-98652F2E44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33E346-20B3-483A-96D7-05DD9F66E1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2F7F-4E7E-4AF9-A52B-80B10B40BC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A7C0-7394-47CA-984B-854BE53A07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0871-90B4-4F2C-AAC1-4A895D47D8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B993-C809-454B-8D64-3294B4F6BB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70CF-14E7-4DEF-938B-382DB1B86A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D8C9-F852-4F70-9F48-AA268454BF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F53-C9C6-4FBB-8C83-DAFC4F58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880-B565-414B-81DE-18E069F2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CFF-A660-4B01-8FAB-13F2FC68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5C0-06D2-47FC-A154-617C02F5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667-84E5-4652-82B1-8063DDF3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114-E678-45F3-910B-DF372641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40F-8C95-405B-ADED-AA34CD85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75C-1C5C-4F24-B17A-A12F0D5F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8CE-201C-40B3-8586-4B54ED27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818-2E96-4EE4-B40F-1B5C253A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247-5A37-4021-A4E2-2AD2F721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DBC-9442-4DF6-90F2-C6875DFD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03B0-F7AC-42D5-824D-FDB79A348F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5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5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5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6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6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6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cp:lastPrinted>2020-12-02T13:30:30Z</cp:lastPrinted>
  <dcterms:modified xsi:type="dcterms:W3CDTF">2020-12-03T06:24:11Z</dcterms:modified>
  <cp:revision>513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