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724E-429A-4303-9F0E-AF8CFB16B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2C7D-9628-4FB2-9C5D-AB0AB15A8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D69A-804C-43E0-A582-BC476C9422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18AE-9C61-4FDE-9B52-FF0729F65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0D2E-8BDA-4444-A70C-C97F33691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2A09-5498-4853-B1ED-6CE9CEC751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2BFE-D107-41AE-B7C0-5F4C3ABDFE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0EBC-1AB3-41F4-89C4-11232F4CCF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1694-46D0-42BE-9E8B-1CCD5AD93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26E3-3A76-47BC-BB30-1E4195BC0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4C37-5F93-4BD3-8FDF-84E7E4069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0A26-85BA-458A-A777-378D24B31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7A0E-E086-475D-AB8C-72554B8F2A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735C-1DAE-4580-A477-D0AEC5FF2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A647-9BAC-458E-B3CB-BDAF72AC6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08B8-8788-41D5-9E15-98A84EE402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6DAD-162C-499F-ACDA-2E2F0718A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C2ED-99C6-4B70-AF4F-59E91B7FA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D0D4-C24A-47BA-968D-4DF683822C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B3F5-BB54-4090-831E-AA4AC8A9C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971F-24CC-489D-BA5B-8748FD14D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1F78-31E3-4121-9938-E33F100E0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CFB6-4E37-4EB2-8E29-CB874B14E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7DB4-376C-4E82-BBBA-BAB2ED1F0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DB1B-59CB-4B59-ACD2-ADB8E863D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5369-907C-4865-9406-10A79D7DF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93D5-3691-403E-A171-0D132DF99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AE1A-CBFE-4484-86BC-BA0613A93E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54CA-E9D9-4F63-A54C-E8F6288EB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FCB7-0970-4572-AA39-044075E0D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6BB7-40A4-4CA1-B117-BE77AE400F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31DE-39D9-4781-980E-B2384C531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9685-59EC-4CB2-817E-0CB027C6FA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27EE-3EB5-441A-AC30-E80EB94AD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B3B0-15EC-40D1-B581-2748978B27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ED3D-32A9-4C88-B929-E7BBF6F701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0EEE-6C97-4CF6-8180-44151AF48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5D3B-B0D0-4984-91A0-828F958545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6561-605C-468B-BA2F-142D4802F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578D-C032-4E8A-B6CB-4BEF8EAD0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E737-8984-49EE-B577-6BD7E82BC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CAE5-1519-4D64-9E3E-A9ED68B8A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6FC8-9E5C-481F-9583-3744A9FE1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3BF3-31D9-493B-B3AE-5187E6F8A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5E66-2AE9-443A-A9F4-746906CBB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DD77-BA90-4EAB-9C2B-52E285864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0496-6306-4949-8CA8-751ED898F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4EC7-04B5-4679-8101-1872F07CF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0C85-45AB-43FE-84E2-E066833D8E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2E01-B77E-4F76-8E24-8D0D503DF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7589-2544-4D24-A333-67F0812049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9E5-588E-4CF5-B72B-273A45D6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C62-BE53-417B-9D60-D115FE13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653-98A4-4D83-BB3B-2281B3CC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C406-EB54-400D-9B76-BB1F4E90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446-AE46-459D-9158-69BFE9FC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C15-79CE-43C7-AB6D-E6CA498A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018-EBDA-4B2B-A134-B626FB30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3EE-DBC5-40A0-8048-598627D7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069-C2A3-40E1-AC4C-8E341735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CD1-019E-43B0-B518-8852849B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7DD-8CC2-4622-AB80-D10888D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C7A-EB80-49DF-A2FB-315FBE5F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FD4C-C15B-413D-8D5D-2ECC6B1E6C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cp:lastPrinted>2020-12-02T13:53:05Z</cp:lastPrinted>
  <dcterms:modified xsi:type="dcterms:W3CDTF">2020-12-03T06:27:00Z</dcterms:modified>
  <cp:revision>378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