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9624-CD82-451B-8044-C8C5366BFD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E17C-A426-40A9-B52F-63E9DB80BE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24F84D-9F48-4DA5-9EB5-D943F0DD55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7718-43DB-4355-B1B7-6A0D2A2C33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41A5-54A1-439B-93F5-1ED125B6B1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548D-5606-4A95-BB86-7C92D6ED88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4D08-FCDC-4F33-993F-5A67597BFB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B9A8-4802-455E-AF34-00C05842E3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4957-8107-4CA7-8A48-58394997A8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6E6-1A8A-427F-A20B-8C8BC401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6EF-7D2A-4D6F-8CDA-2282939A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E48-C622-4186-9C6B-62C60E7A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63A-B16C-4B17-B06A-0BE76589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238-17F0-42DB-8477-A9B33D2D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489-ECC1-4DB1-A6E0-7DE5CEB4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990-1E17-4AEF-95AB-79535023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3DF-A82F-4133-8C27-B812C01A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308-8ED7-4C87-A589-15F3D67A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72C-8E9B-4C28-8ED7-CF9F1509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C86-51D5-439F-BB66-05092DD9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B21-E239-45BD-9BDD-E7AA7F24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D193-6E2A-43FF-A639-0974785301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5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5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5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6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6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6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cp:lastPrinted>2020-12-02T13:30:30Z</cp:lastPrinted>
  <dcterms:modified xsi:type="dcterms:W3CDTF">2020-12-03T06:24:11Z</dcterms:modified>
  <cp:revision>513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