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8EC4-AB25-46E3-A71E-09260D374F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DCA5-1556-4C12-873F-35619C971087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7761-A7A0-4EDD-89A6-96247735A7A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B03D-EF61-4888-9C50-B733F35E6CE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3E92-8F27-427E-A298-621E18F2280F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328E-752B-41F1-BD5B-38863CD32D3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AAC0-339A-42F3-AD0C-C97995F9729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041-9EE0-43D0-962B-C14D3E5703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3BA-F302-4304-881E-6A6EFDE7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4A2-D6B9-469E-A036-D8F0B03B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7A8C-0C2B-434C-A656-57B0682F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584-F7A0-41B4-951D-FA2F9266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475-FFDB-4DB8-8E4F-80F246F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DC7-928E-4665-A81C-77D9972F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E69-8FB1-4F58-9474-07E5B41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FDF-BC39-4C76-8041-48193A92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542-B342-489B-AF4F-1506AA85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53E-4700-429A-9DD9-7BFDCB47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0AB-1E82-406B-88F3-ABC6943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0A7-61BC-4E0F-8A51-356D3BAA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2179-BB16-452F-8AAC-20C030E72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04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0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87560"/>
            <a:ext cx="8480520" cy="367488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1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2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4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5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5"/>
            <p:cNvSpPr/>
            <p:nvPr/>
          </p:nvSpPr>
          <p:spPr>
            <a:xfrm>
              <a:off x="870120" y="2783880"/>
              <a:ext cx="183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7"/>
            <p:cNvSpPr/>
            <p:nvPr/>
          </p:nvSpPr>
          <p:spPr>
            <a:xfrm>
              <a:off x="1122120" y="4005000"/>
              <a:ext cx="10659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2"/>
            <p:cNvSpPr/>
            <p:nvPr/>
          </p:nvSpPr>
          <p:spPr>
            <a:xfrm>
              <a:off x="1284840" y="5333400"/>
              <a:ext cx="1162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6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7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0-12-02T13:49:49Z</dcterms:modified>
  <cp:revision>125</cp:revision>
  <dc:subject/>
  <dc:title>Презентация PowerPoint</dc:title>
</cp:coreProperties>
</file>