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3107-85B5-4E91-9A79-73E3CFCF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D8EB-1861-4F23-A493-DAD95004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0298-25A2-4CF9-B7E5-0C3B4392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6FB-7298-45B4-9825-1ACBCF02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68CE-450E-4B34-A42E-D84A8E2C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DF89-0A12-4B8F-9755-FD28FB34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E7FD-CFDF-4F19-9855-F9AA73AC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501C-B492-4D70-918B-F7759D44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11B8-C9CC-4F92-B75A-A9CFFCF1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7327-4C2F-4D90-A466-B7C60A70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674F-437B-4136-B0C0-D6C5837F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57F-A46E-4976-99B8-E4AEDB1B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080D-C6ED-4209-868F-73F61100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F226-903D-471D-BFE3-9431A109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30E9-9404-4D8B-B280-5E0EFB92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6032-1C02-4A2C-8C4A-B6A1F2D1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EB42-0317-409A-9C14-EB90190A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6DDA4-ED7C-4D35-8364-8FAFCA70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DFF78-4196-4272-A1EE-13FF16FD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67324-CC97-419C-BE33-0A348490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2473D-9AC8-4A12-AD7A-C3C76A88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9301A-174B-41C8-8CCB-FB466B0D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9AE-1E02-4F72-8C8D-25FBA0C6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39BF4-E19A-49F9-B369-F8EA2487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CA1E7-AFB0-4694-A45E-058F4D8B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4F86F-A053-467D-9372-763D2A8B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59C82-9F85-432A-B0F9-5A5D4518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92642-A5DD-4318-A506-2A764C4C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1A014-9DB1-40C6-AE38-881B327D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FFB58-F2CA-43C2-93F5-E0AEBF2D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1E34E-9C3F-4CCD-8FAE-94E63E82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9EAFB-495A-476B-8030-CF2167DC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ACC39-16E7-467B-A6EB-DCFAD822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08A-C95B-49E1-8D7B-A563D444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4B4A2-A512-4935-8D5C-9B14AA98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4127B-8C87-4D8A-8B25-78DDCAA9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BE1E4-7909-4B18-B3FA-C7B34627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195B7-253E-48C5-B836-F076C0E2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A9AC2-DDC4-4657-A23A-FE5A500F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2F789-2691-41E4-BDB7-C1F82271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23614-9E06-490F-9850-BD90F83D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FE44A-C5D3-47CF-8E32-C3D7FBA9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809CA-3ABB-40C3-A094-AF0DCC1E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0FC26-13F2-4ED9-B5CB-8A4DF420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A197-C1D1-4BDF-9BC1-3C39D0F1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9CA35-3461-42AC-AF59-2687EF84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6040C-C2AD-4EDF-88E2-87CAB075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25483-6DA3-4B51-B1B0-1D989EE0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4202D-2024-4840-8FA1-0E554D82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3F3BB-C954-4BFB-8C3D-EBA85A28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94F2D-7C0C-49DF-8DAD-E02F332C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816FB-5FF5-4B21-BDC0-5CBC8173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736D1-7257-4685-A931-B1FDF829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CA10E-F412-47FE-A016-946CD9BD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ACEC5-B4A4-4F25-AE7B-1E37ADBD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EDC-1D15-4D3E-8929-529F4C2C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0AC5C-FC0C-4664-876F-C0335DB0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76ED2-0244-4161-8ABC-79E1B9EB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4FC0E-4F57-495D-B393-C6E4C1AB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48970-8D5B-4254-AD4F-2197FACF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97874-3775-4D14-9B91-84C446CA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188A4-0E9F-4142-8E5C-5D84CB85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0C615-8F42-4050-8A63-C9A09C90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9C526-3890-4549-80DA-4122F8CE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38586-F960-4E9E-B82E-798C5E67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8C8AD-AA9B-4C24-BB64-E36FF194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53D-2B38-41C8-951B-6237C123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699C8-FEEE-4FB7-8B13-84C3F747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35F28-ED3B-4A81-B4B0-7DB9953B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0BD84-F143-4FCB-AF8E-FDFBC111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F41-95EB-4419-A485-563BCB1A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9C9-993F-4A6B-91E5-BB20E68B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388E-FB37-4A2D-B98F-AB4440DCDF3D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3D95-5F38-4EB3-88A2-A24AFD0033F3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4AE0-3077-4843-8014-6CD230EE4B13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44AE-4B6E-400D-BE05-A536EC0EB3CC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5518-0AEA-4A93-A6FE-DEBCC0F3683D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7B00-D383-4851-969B-0A9B19E04776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Рисунок 5" descr=""/>
          <p:cNvPicPr/>
          <p:nvPr/>
        </p:nvPicPr>
        <p:blipFill>
          <a:blip r:embed="rId2"/>
          <a:stretch/>
        </p:blipFill>
        <p:spPr>
          <a:xfrm>
            <a:off x="284040" y="182520"/>
            <a:ext cx="428760" cy="57960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3"/>
          <p:cNvSpPr/>
          <p:nvPr/>
        </p:nvSpPr>
        <p:spPr>
          <a:xfrm>
            <a:off x="762120" y="2887560"/>
            <a:ext cx="8076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ФСН №47 «Сведения о сети и деятельности медицинских организаци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есветайло Н.Я.</a:t>
            </a:r>
            <a:br>
              <a:rPr sz="24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оугольник 15"/>
          <p:cNvSpPr/>
          <p:nvPr/>
        </p:nvSpPr>
        <p:spPr>
          <a:xfrm>
            <a:off x="914400" y="18252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Центральный научно-исследовательский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институт организации и информатизации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здравоохранени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23"/>
          <p:cNvSpPr/>
          <p:nvPr/>
        </p:nvSpPr>
        <p:spPr>
          <a:xfrm>
            <a:off x="284040" y="56800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c5e53"/>
                </a:solidFill>
                <a:latin typeface="Montserrat SemiBold"/>
              </a:rPr>
              <a:t>www.mednet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8"/>
          <p:cNvSpPr/>
          <p:nvPr/>
        </p:nvSpPr>
        <p:spPr>
          <a:xfrm>
            <a:off x="457200" y="457200"/>
            <a:ext cx="152388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880" y="990720"/>
          <a:ext cx="8458200" cy="4911480"/>
        </p:xfrm>
        <a:graphic>
          <a:graphicData uri="http://schemas.openxmlformats.org/drawingml/2006/table">
            <a:tbl>
              <a:tblPr/>
              <a:tblGrid>
                <a:gridCol w="2667240"/>
                <a:gridCol w="457200"/>
                <a:gridCol w="609480"/>
                <a:gridCol w="609480"/>
                <a:gridCol w="533520"/>
                <a:gridCol w="533520"/>
                <a:gridCol w="761760"/>
                <a:gridCol w="1295640"/>
                <a:gridCol w="990360"/>
              </a:tblGrid>
              <a:tr h="2440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к врачам, включая профилактические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без посещений к стоматологам и зубным врача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ные в сельской мест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панс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ентры,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ысоких медицинских 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гене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иальн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  наркомани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. 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зиров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из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их сурдологические для де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2" name="Рисунок 6" descr=""/>
          <p:cNvPicPr/>
          <p:nvPr/>
        </p:nvPicPr>
        <p:blipFill>
          <a:blip r:embed="rId1"/>
          <a:stretch/>
        </p:blipFill>
        <p:spPr>
          <a:xfrm>
            <a:off x="8334360" y="228600"/>
            <a:ext cx="428760" cy="501480"/>
          </a:xfrm>
          <a:prstGeom prst="rect">
            <a:avLst/>
          </a:prstGeom>
          <a:ln w="0">
            <a:noFill/>
          </a:ln>
        </p:spPr>
      </p:pic>
      <p:sp>
        <p:nvSpPr>
          <p:cNvPr id="323" name="TextBox 1"/>
          <p:cNvSpPr/>
          <p:nvPr/>
        </p:nvSpPr>
        <p:spPr>
          <a:xfrm>
            <a:off x="4201200" y="457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Прямоугольник: скругленные углы 1"/>
          <p:cNvSpPr/>
          <p:nvPr/>
        </p:nvSpPr>
        <p:spPr>
          <a:xfrm>
            <a:off x="3657600" y="1990800"/>
            <a:ext cx="4983120" cy="116532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По строке 6 «Диспансеры» указываются сведения о диспансерах, оказывающих медицинскую помощь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Calibri"/>
              </a:rPr>
              <a:t>только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Прямоугольник: скругленные углы 2"/>
          <p:cNvSpPr/>
          <p:nvPr/>
        </p:nvSpPr>
        <p:spPr>
          <a:xfrm>
            <a:off x="3657600" y="3336840"/>
            <a:ext cx="498312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По строкам 7-21 указываются сведения о центрах, оказывающих медицинскую помощь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Calibri"/>
              </a:rPr>
              <a:t>только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в амбулаторных услов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Прямоугольник: скругленные углы 3"/>
          <p:cNvSpPr/>
          <p:nvPr/>
        </p:nvSpPr>
        <p:spPr>
          <a:xfrm>
            <a:off x="3657600" y="4403880"/>
            <a:ext cx="4983120" cy="131112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Если строка 7</a:t>
            </a:r>
            <a:r>
              <a:rPr b="1" lang="en-US" sz="1800" spc="-1" strike="noStrike">
                <a:solidFill>
                  <a:srgbClr val="990033"/>
                </a:solidFill>
                <a:latin typeface="Tw Cen MT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больше суммы строк </a:t>
            </a:r>
            <a:r>
              <a:rPr b="1" lang="en-US" sz="1800" spc="-1" strike="noStrike">
                <a:solidFill>
                  <a:srgbClr val="990033"/>
                </a:solidFill>
                <a:latin typeface="Tw Cen MT"/>
              </a:rPr>
              <a:t>c 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8 по 14, с 15 по 21 за счет «прочих» центров, непоименованных в боковике таблицы (разницу пояснить) – есть строка –специализированные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Стрелка: вниз 4"/>
          <p:cNvSpPr/>
          <p:nvPr/>
        </p:nvSpPr>
        <p:spPr>
          <a:xfrm rot="6678600">
            <a:off x="2618280" y="5305680"/>
            <a:ext cx="485640" cy="151956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d4f5f7"/>
          </a:solidFill>
          <a:ln w="1584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Прямоугольник: скругленные углы 5"/>
          <p:cNvSpPr/>
          <p:nvPr/>
        </p:nvSpPr>
        <p:spPr>
          <a:xfrm>
            <a:off x="3657600" y="5867280"/>
            <a:ext cx="4971960" cy="533520"/>
          </a:xfrm>
          <a:prstGeom prst="roundRect">
            <a:avLst>
              <a:gd name="adj" fmla="val 16667"/>
            </a:avLst>
          </a:prstGeom>
          <a:solidFill>
            <a:srgbClr val="d4f5f7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6295"/>
                </a:solidFill>
                <a:latin typeface="Calibri"/>
              </a:rPr>
              <a:t>Введен новый тип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3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4"/>
          <p:cNvSpPr/>
          <p:nvPr/>
        </p:nvSpPr>
        <p:spPr>
          <a:xfrm>
            <a:off x="103320" y="0"/>
            <a:ext cx="9040680" cy="7300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Рисунок 5" descr=""/>
          <p:cNvPicPr/>
          <p:nvPr/>
        </p:nvPicPr>
        <p:blipFill>
          <a:blip r:embed="rId2"/>
          <a:stretch/>
        </p:blipFill>
        <p:spPr>
          <a:xfrm>
            <a:off x="8562960" y="114480"/>
            <a:ext cx="428760" cy="50148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: скругленные углы 1"/>
          <p:cNvSpPr/>
          <p:nvPr/>
        </p:nvSpPr>
        <p:spPr>
          <a:xfrm>
            <a:off x="2895480" y="2665440"/>
            <a:ext cx="56674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. ДНЕВНЫЕ СТАЦИОНАРЫ ПО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ИПАМ МЕДИЦИНСК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Прямоугольник: скругленные углы 2"/>
          <p:cNvSpPr/>
          <p:nvPr/>
        </p:nvSpPr>
        <p:spPr>
          <a:xfrm>
            <a:off x="6400800" y="4191120"/>
            <a:ext cx="216216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650-06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8"/>
          <p:cNvSpPr/>
          <p:nvPr/>
        </p:nvSpPr>
        <p:spPr>
          <a:xfrm>
            <a:off x="380880" y="457200"/>
            <a:ext cx="160020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25"/>
          <p:cNvSpPr/>
          <p:nvPr/>
        </p:nvSpPr>
        <p:spPr>
          <a:xfrm>
            <a:off x="5511960" y="72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04920" y="838080"/>
          <a:ext cx="8686800" cy="5181840"/>
        </p:xfrm>
        <a:graphic>
          <a:graphicData uri="http://schemas.openxmlformats.org/drawingml/2006/table">
            <a:tbl>
              <a:tblPr/>
              <a:tblGrid>
                <a:gridCol w="1752480"/>
                <a:gridCol w="380880"/>
                <a:gridCol w="1371600"/>
                <a:gridCol w="1447920"/>
                <a:gridCol w="1523880"/>
                <a:gridCol w="1067040"/>
                <a:gridCol w="1143000"/>
              </a:tblGrid>
              <a:tr h="4266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дневные стацион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1" lang="ru-RU" sz="1200" spc="-1" strike="noStrike" u="sng">
                          <a:solidFill>
                            <a:srgbClr val="990033"/>
                          </a:solidFill>
                          <a:uFillTx/>
                          <a:latin typeface="Times New Roman"/>
                          <a:ea typeface="Times New Roman"/>
                        </a:rPr>
                        <a:t>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х стациона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,  областные, окружны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и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городские 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ие больницы скорой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,,,,,,,,,,,,,,,,,,,,,,,,,,,,,,,,,,,,,,,,,,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едицинские организации, оказывающие только платны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TextBox 3"/>
          <p:cNvSpPr/>
          <p:nvPr/>
        </p:nvSpPr>
        <p:spPr>
          <a:xfrm>
            <a:off x="4667760" y="4572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Внимание! Изменения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Прямоугольник: скругленные углы 1"/>
          <p:cNvSpPr/>
          <p:nvPr/>
        </p:nvSpPr>
        <p:spPr>
          <a:xfrm>
            <a:off x="2590920" y="2438280"/>
            <a:ext cx="6095880" cy="533520"/>
          </a:xfrm>
          <a:prstGeom prst="roundRect">
            <a:avLst>
              <a:gd name="adj" fmla="val 16667"/>
            </a:avLst>
          </a:prstGeom>
          <a:solidFill>
            <a:srgbClr val="d9f1ea"/>
          </a:solidFill>
          <a:ln w="15840">
            <a:solidFill>
              <a:srgbClr val="2e66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графе 3 указать число медицинских организаций, имеющих дневные стационары при</a:t>
            </a: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ационар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Прямоугольник: скругленные углы 3"/>
          <p:cNvSpPr/>
          <p:nvPr/>
        </p:nvSpPr>
        <p:spPr>
          <a:xfrm>
            <a:off x="2590920" y="3162240"/>
            <a:ext cx="60958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графе 3 может быть меньше сумме граф 4+5, так как медицинская организация может иметь и дневной стационар для взрослых, и дневной стационар для дет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Прямоугольник: скругленные углы 4"/>
          <p:cNvSpPr/>
          <p:nvPr/>
        </p:nvSpPr>
        <p:spPr>
          <a:xfrm>
            <a:off x="2593800" y="4794120"/>
            <a:ext cx="609624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2e66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именование – «хозрасчетные…» измене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Прямая со стрелкой 6"/>
          <p:cNvCxnSpPr/>
          <p:nvPr/>
        </p:nvCxnSpPr>
        <p:spPr>
          <a:xfrm flipH="1">
            <a:off x="1981080" y="5250960"/>
            <a:ext cx="603720" cy="235800"/>
          </a:xfrm>
          <a:prstGeom prst="straightConnector1">
            <a:avLst/>
          </a:prstGeom>
          <a:ln w="34920">
            <a:solidFill>
              <a:srgbClr val="2e663e"/>
            </a:solidFill>
            <a:miter/>
            <a:tailEnd len="med" type="triangle" w="med"/>
          </a:ln>
        </p:spPr>
      </p:cxnSp>
      <p:sp>
        <p:nvSpPr>
          <p:cNvPr id="342" name="Прямоугольник 9"/>
          <p:cNvSpPr/>
          <p:nvPr/>
        </p:nvSpPr>
        <p:spPr>
          <a:xfrm>
            <a:off x="228600" y="6062760"/>
            <a:ext cx="8610480" cy="554040"/>
          </a:xfrm>
          <a:prstGeom prst="rect">
            <a:avLst/>
          </a:prstGeom>
          <a:solidFill>
            <a:srgbClr val="e0edec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0000"/>
                </a:solidFill>
                <a:latin typeface="Calibri"/>
              </a:rPr>
              <a:t>Дневные стационары, открытые в домах ребенка, санаториях показываются по строке 46 (пояснительная прилагается). Наличие лицензии обязательно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: скругленные углы 2"/>
          <p:cNvSpPr/>
          <p:nvPr/>
        </p:nvSpPr>
        <p:spPr>
          <a:xfrm>
            <a:off x="2286000" y="1143000"/>
            <a:ext cx="6324480" cy="18288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БЩЕЕ ЧИСЛО ВРАЧЕБНЫХ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ПОСЕЩЕНИЙ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А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ЕЩ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 СТОМАТОЛОГА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ЗУБНЫМ ВРАЧ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Прямоугольник: скругленные углы 3"/>
          <p:cNvSpPr/>
          <p:nvPr/>
        </p:nvSpPr>
        <p:spPr>
          <a:xfrm>
            <a:off x="5943600" y="3505320"/>
            <a:ext cx="2590920" cy="121896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Прямоугольник 6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Рисунок 3" descr=""/>
          <p:cNvPicPr/>
          <p:nvPr/>
        </p:nvPicPr>
        <p:blipFill>
          <a:blip r:embed="rId1"/>
          <a:stretch/>
        </p:blipFill>
        <p:spPr>
          <a:xfrm>
            <a:off x="8319960" y="47520"/>
            <a:ext cx="4287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80880" y="285840"/>
            <a:ext cx="167652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2280" y="990720"/>
          <a:ext cx="8763120" cy="5740200"/>
        </p:xfrm>
        <a:graphic>
          <a:graphicData uri="http://schemas.openxmlformats.org/drawingml/2006/table">
            <a:tbl>
              <a:tblPr/>
              <a:tblGrid>
                <a:gridCol w="2638440"/>
                <a:gridCol w="471600"/>
                <a:gridCol w="547560"/>
                <a:gridCol w="1016280"/>
                <a:gridCol w="546120"/>
                <a:gridCol w="752400"/>
                <a:gridCol w="733320"/>
                <a:gridCol w="838080"/>
                <a:gridCol w="1219320"/>
              </a:tblGrid>
              <a:tr h="4572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посещений к врач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3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стоматологические поликли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консуль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мбулатории, поликлиники, оказывающие только пла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. организации особого ти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подразделения, оказывающие медицинскую помощь в амбулаторных условиях (входящие подразделени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(сумма строк 1 - 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0" name="Line 309"/>
          <p:cNvSpPr/>
          <p:nvPr/>
        </p:nvSpPr>
        <p:spPr>
          <a:xfrm>
            <a:off x="2666880" y="6019920"/>
            <a:ext cx="83844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6286680" y="3538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оугольник: скругленные углы 1"/>
          <p:cNvSpPr/>
          <p:nvPr/>
        </p:nvSpPr>
        <p:spPr>
          <a:xfrm>
            <a:off x="3486240" y="2819520"/>
            <a:ext cx="52578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таблицу включаются сведения о врачебных посещениях на основании данных, указанных в таблицах 2100, 2700 и 2105 ФФСН №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оугольник: скругленные углы 2"/>
          <p:cNvSpPr/>
          <p:nvPr/>
        </p:nvSpPr>
        <p:spPr>
          <a:xfrm>
            <a:off x="3505320" y="5638680"/>
            <a:ext cx="523872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строку 11 включаются посещения к врачам медицинских организаций, не указанных в строках с 1 по 10 таблицы, к врачам-стоматологам и зубным врачам санаторно-курортных и т.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оугольник: скругленные углы 3"/>
          <p:cNvSpPr/>
          <p:nvPr/>
        </p:nvSpPr>
        <p:spPr>
          <a:xfrm>
            <a:off x="3581280" y="4724280"/>
            <a:ext cx="5162760" cy="304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alibri"/>
              </a:rPr>
              <a:t>Строка переименов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Прямая со стрелкой 5"/>
          <p:cNvCxnSpPr/>
          <p:nvPr/>
        </p:nvCxnSpPr>
        <p:spPr>
          <a:xfrm>
            <a:off x="2666520" y="4876560"/>
            <a:ext cx="839160" cy="1080"/>
          </a:xfrm>
          <a:prstGeom prst="straightConnector1">
            <a:avLst/>
          </a:prstGeom>
          <a:ln w="47520">
            <a:solidFill>
              <a:srgbClr val="1cade4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8" descr=""/>
          <p:cNvPicPr/>
          <p:nvPr/>
        </p:nvPicPr>
        <p:blipFill>
          <a:blip r:embed="rId1"/>
          <a:stretch/>
        </p:blipFill>
        <p:spPr>
          <a:xfrm>
            <a:off x="8610480" y="71280"/>
            <a:ext cx="428760" cy="50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7" name=""/>
          <p:cNvGraphicFramePr/>
          <p:nvPr/>
        </p:nvGraphicFramePr>
        <p:xfrm>
          <a:off x="152280" y="517680"/>
          <a:ext cx="8534520" cy="4462200"/>
        </p:xfrm>
        <a:graphic>
          <a:graphicData uri="http://schemas.openxmlformats.org/drawingml/2006/table">
            <a:tbl>
              <a:tblPr/>
              <a:tblGrid>
                <a:gridCol w="2795760"/>
                <a:gridCol w="376200"/>
                <a:gridCol w="561960"/>
                <a:gridCol w="1131840"/>
                <a:gridCol w="633600"/>
                <a:gridCol w="787320"/>
                <a:gridCol w="709560"/>
                <a:gridCol w="770040"/>
                <a:gridCol w="768240"/>
              </a:tblGrid>
              <a:tr h="152640">
                <a:tc rowSpan="3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3">
                  <a:txBody>
                    <a:bodyPr lIns="27360" rIns="27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7360" marR="27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посещений к врач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-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елям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13320" rIns="13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-ной меди-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……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(сумма строк 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596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ока 12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едицинских организациях, </a:t>
                      </a:r>
                      <a:r>
                        <a:rPr b="0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расположенных в сельской мес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!!!!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972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по подчиненност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26600">
                <a:tc>
                  <a:txBody>
                    <a:bodyPr lIns="51840" rIns="51840" tIns="0" bIns="0" anchor="ctr">
                      <a:noAutofit/>
                    </a:bodyPr>
                    <a:p>
                      <a:pPr marL="179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у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3480">
                <a:tc>
                  <a:txBody>
                    <a:bodyPr lIns="51840" rIns="5184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клиники вузов и 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51840" rIns="51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58" name="Прямоугольник: скругленные углы 4"/>
          <p:cNvSpPr/>
          <p:nvPr/>
        </p:nvSpPr>
        <p:spPr>
          <a:xfrm>
            <a:off x="3429000" y="2209680"/>
            <a:ext cx="3505320" cy="2057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17ea7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трока 13 гр.8 не должна быть ровна стр.12 гр.8+стр.17 гр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трока 13 по всем графам должна соответствовать ф.30-село, т.е. включать посещения зубных врач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: скругленные углы 5"/>
          <p:cNvSpPr/>
          <p:nvPr/>
        </p:nvSpPr>
        <p:spPr>
          <a:xfrm>
            <a:off x="914400" y="5486400"/>
            <a:ext cx="7238880" cy="2286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гр.4,5 включаем данные из таблицы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5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: скругленные углы 1"/>
          <p:cNvSpPr/>
          <p:nvPr/>
        </p:nvSpPr>
        <p:spPr>
          <a:xfrm>
            <a:off x="2438280" y="2057400"/>
            <a:ext cx="64008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X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СТОМАТОЛОГИЧЕСКА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ПОМОЩ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Прямоугольник: скругленные углы 2"/>
          <p:cNvSpPr/>
          <p:nvPr/>
        </p:nvSpPr>
        <p:spPr>
          <a:xfrm>
            <a:off x="6095880" y="358128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9"/>
          <p:cNvSpPr/>
          <p:nvPr/>
        </p:nvSpPr>
        <p:spPr>
          <a:xfrm>
            <a:off x="380880" y="228600"/>
            <a:ext cx="160020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517680" y="685800"/>
          <a:ext cx="8534160" cy="5699160"/>
        </p:xfrm>
        <a:graphic>
          <a:graphicData uri="http://schemas.openxmlformats.org/drawingml/2006/table">
            <a:tbl>
              <a:tblPr/>
              <a:tblGrid>
                <a:gridCol w="2476440"/>
                <a:gridCol w="368280"/>
                <a:gridCol w="552240"/>
                <a:gridCol w="870120"/>
                <a:gridCol w="711000"/>
                <a:gridCol w="632160"/>
                <a:gridCol w="711000"/>
                <a:gridCol w="631800"/>
                <a:gridCol w="633600"/>
                <a:gridCol w="947520"/>
              </a:tblGrid>
              <a:tr h="1463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: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ждалось в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курсов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осещения к врачам амбулаторного приема (кроме стоматологов и зубных врачей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</a:tr>
              <a:tr h="3031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</a:tr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стоматологические поликли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оматологические поликлиники, оказывающие только платны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14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стоматологические и  ортопедические подразделения, отделения, кабин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медицинские организации</a:t>
                      </a: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имеющие только ортопедические подраздел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отделения, кабине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5" name="TextBox 1"/>
          <p:cNvSpPr/>
          <p:nvPr/>
        </p:nvSpPr>
        <p:spPr>
          <a:xfrm>
            <a:off x="4862520" y="114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имание! Изменения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Прямоугольник: скругленные углы 1"/>
          <p:cNvSpPr/>
          <p:nvPr/>
        </p:nvSpPr>
        <p:spPr>
          <a:xfrm>
            <a:off x="3505320" y="2516040"/>
            <a:ext cx="5257800" cy="83844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графе 3 строках 1-3 указывается чис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медицинских организаций стоматологическ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профил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Прямоугольник: скругленные углы 2"/>
          <p:cNvSpPr/>
          <p:nvPr/>
        </p:nvSpPr>
        <p:spPr>
          <a:xfrm>
            <a:off x="3581280" y="3732120"/>
            <a:ext cx="5181840" cy="122076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графе 3 строках 4-5 указывается чис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медицинских организаций, имеющ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оматологические и ортопедические подразделения</a:t>
            </a:r>
            <a:r>
              <a:rPr b="1" lang="en-US" sz="16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(отделения, кабинеты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Прямоугольник: скругленные углы 3"/>
          <p:cNvSpPr/>
          <p:nvPr/>
        </p:nvSpPr>
        <p:spPr>
          <a:xfrm>
            <a:off x="3581280" y="5230800"/>
            <a:ext cx="518184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В строку 4 включаются сведения п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санаторно-курортным организациям, домам ребе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Прямая со стрелкой 5"/>
          <p:cNvCxnSpPr/>
          <p:nvPr/>
        </p:nvCxnSpPr>
        <p:spPr>
          <a:xfrm flipV="1">
            <a:off x="3352320" y="4495320"/>
            <a:ext cx="229320" cy="15336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187200" y="946080"/>
          <a:ext cx="8839440" cy="4362480"/>
        </p:xfrm>
        <a:graphic>
          <a:graphicData uri="http://schemas.openxmlformats.org/drawingml/2006/table">
            <a:tbl>
              <a:tblPr/>
              <a:tblGrid>
                <a:gridCol w="1905120"/>
                <a:gridCol w="457200"/>
                <a:gridCol w="685800"/>
                <a:gridCol w="914400"/>
                <a:gridCol w="914400"/>
                <a:gridCol w="838080"/>
                <a:gridCol w="1143000"/>
                <a:gridCol w="914400"/>
                <a:gridCol w="1067040"/>
              </a:tblGrid>
              <a:tr h="1219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з них (из гр.3):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посеще-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ebd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ужда- лось в са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аниро-в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курсов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4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3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по подчиненности  (из стр.1+2+3): федер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у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1ea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34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Кроме того, клиники Вузов и 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Rectangle 29"/>
          <p:cNvSpPr/>
          <p:nvPr/>
        </p:nvSpPr>
        <p:spPr>
          <a:xfrm>
            <a:off x="457200" y="433440"/>
            <a:ext cx="1600200" cy="380880"/>
          </a:xfrm>
          <a:prstGeom prst="rect">
            <a:avLst/>
          </a:prstGeom>
          <a:solidFill>
            <a:srgbClr val="d4e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Прямоугольник: скругленные углы 1"/>
          <p:cNvSpPr/>
          <p:nvPr/>
        </p:nvSpPr>
        <p:spPr>
          <a:xfrm>
            <a:off x="2666880" y="2529000"/>
            <a:ext cx="6019920" cy="12366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Число посещений по графе 5 сумме строк 6+10 должно быть равно сумме посещений, указанных в ФФСН №30, таблице 2100 (сумма строк с 87 по 91) в графах 3 и 9, а также  таблице 2700 по строке 1, графе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Прямоугольник: скругленные углы 2"/>
          <p:cNvSpPr/>
          <p:nvPr/>
        </p:nvSpPr>
        <p:spPr>
          <a:xfrm>
            <a:off x="3048120" y="228600"/>
            <a:ext cx="5943600" cy="58248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Графы 6-9 заполняются по данным таблиц 2700 и 2710  ФФСН №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Значения, указанные в графе 7 должны быть не меньше, чем в графе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Прямоугольник: скругленные углы 3"/>
          <p:cNvSpPr/>
          <p:nvPr/>
        </p:nvSpPr>
        <p:spPr>
          <a:xfrm>
            <a:off x="187200" y="5510160"/>
            <a:ext cx="880452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 строке 10 показываем деятельность клиник Вузов и НИИ как самостоятельных (все графы), так и имеющих стоматологические кабинеты ( графы 5-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в строку 7 показываем только клиники Вузов и НИИ юридические лица. Деятельность клиник Вузов и НИИ, не юридических лиц, остается в строке 1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Прямоугольник: скругленные углы 4"/>
          <p:cNvSpPr/>
          <p:nvPr/>
        </p:nvSpPr>
        <p:spPr>
          <a:xfrm>
            <a:off x="2743200" y="3987720"/>
            <a:ext cx="6019920" cy="1201680"/>
          </a:xfrm>
          <a:prstGeom prst="roundRect">
            <a:avLst>
              <a:gd name="adj" fmla="val 16667"/>
            </a:avLst>
          </a:prstGeom>
          <a:solidFill>
            <a:srgbClr val="dfe3e5"/>
          </a:solidFill>
          <a:ln w="1584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Сумма строк 1, 2, 3, 10 должна быть равна сумме строк 7, 8, 9 </a:t>
            </a:r>
            <a:r>
              <a:rPr b="1" lang="ru-RU" sz="1800" spc="-1" strike="noStrike" u="sng">
                <a:solidFill>
                  <a:srgbClr val="990033"/>
                </a:solidFill>
                <a:uFillTx/>
                <a:latin typeface="Calibri"/>
              </a:rPr>
              <a:t>только в случае</a:t>
            </a:r>
            <a:r>
              <a:rPr b="1" lang="ru-RU" sz="1800" spc="-1" strike="noStrike">
                <a:solidFill>
                  <a:srgbClr val="990033"/>
                </a:solidFill>
                <a:latin typeface="Calibri"/>
              </a:rPr>
              <a:t> если Клиники ВУЗов и НИИ являются организациями стоматологического профил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9"/>
          <p:cNvSpPr/>
          <p:nvPr/>
        </p:nvSpPr>
        <p:spPr>
          <a:xfrm>
            <a:off x="380880" y="457200"/>
            <a:ext cx="1600200" cy="380880"/>
          </a:xfrm>
          <a:prstGeom prst="rect">
            <a:avLst/>
          </a:prstGeom>
          <a:solidFill>
            <a:srgbClr val="c6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1143000"/>
          <a:ext cx="8001000" cy="4640400"/>
        </p:xfrm>
        <a:graphic>
          <a:graphicData uri="http://schemas.openxmlformats.org/drawingml/2006/table">
            <a:tbl>
              <a:tblPr/>
              <a:tblGrid>
                <a:gridCol w="4435560"/>
                <a:gridCol w="714240"/>
                <a:gridCol w="1430280"/>
                <a:gridCol w="1420920"/>
              </a:tblGrid>
              <a:tr h="1335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курсов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сещения к врачам амбулаторного приема (кроме стоматологов и зубных врач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304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2970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матологические поликли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444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стоматологические поликли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оматологические поликлиники, оказывающие только платны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стоматологические и  ортопедические подразделения, отделения, кабин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медицинские организации</a:t>
                      </a: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имеющие только ортопедические подраздел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отделения, кабине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0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8" name="TextBox 1"/>
          <p:cNvSpPr/>
          <p:nvPr/>
        </p:nvSpPr>
        <p:spPr>
          <a:xfrm>
            <a:off x="457200" y="4738680"/>
            <a:ext cx="6553080" cy="1798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ещения врачей амбулаторного прима (не стоматологического профиля) в т.1000 показываются в графе 10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то могут быть врачи – члх, аллергологи, педиатры, оториноларингологи и т.д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медицинских организациях стоматологического профиля должна быть лиценз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х необходимо включить в табл.800 по соответствующим строкам в гр. 4 (амбулаторные услов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Рисунок 4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: скругленные углы 2"/>
          <p:cNvSpPr/>
          <p:nvPr/>
        </p:nvSpPr>
        <p:spPr>
          <a:xfrm>
            <a:off x="5105520" y="3527280"/>
            <a:ext cx="2133360" cy="609840"/>
          </a:xfrm>
          <a:prstGeom prst="roundRect">
            <a:avLst>
              <a:gd name="adj" fmla="val 16667"/>
            </a:avLst>
          </a:prstGeom>
          <a:solidFill>
            <a:srgbClr val="dfe3e5"/>
          </a:solidFill>
          <a:ln w="1584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ока 3 переименов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Прямая со стрелкой 4"/>
          <p:cNvCxnSpPr>
            <a:stCxn id="380" idx="1"/>
          </p:cNvCxnSpPr>
          <p:nvPr/>
        </p:nvCxnSpPr>
        <p:spPr>
          <a:xfrm flipH="1">
            <a:off x="4647960" y="3831840"/>
            <a:ext cx="457920" cy="1080"/>
          </a:xfrm>
          <a:prstGeom prst="straightConnector1">
            <a:avLst/>
          </a:prstGeom>
          <a:ln w="3816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382" name="Прямая со стрелкой 14"/>
          <p:cNvCxnSpPr/>
          <p:nvPr/>
        </p:nvCxnSpPr>
        <p:spPr>
          <a:xfrm flipV="1">
            <a:off x="7010280" y="4190760"/>
            <a:ext cx="991440" cy="2057760"/>
          </a:xfrm>
          <a:prstGeom prst="straightConnector1">
            <a:avLst/>
          </a:prstGeom>
          <a:ln w="31680">
            <a:solidFill>
              <a:srgbClr val="487b78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5" descr=""/>
          <p:cNvPicPr/>
          <p:nvPr/>
        </p:nvPicPr>
        <p:blipFill>
          <a:blip r:embed="rId2"/>
          <a:stretch/>
        </p:blipFill>
        <p:spPr>
          <a:xfrm>
            <a:off x="8443800" y="146160"/>
            <a:ext cx="428760" cy="5792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3"/>
          <p:cNvSpPr/>
          <p:nvPr/>
        </p:nvSpPr>
        <p:spPr>
          <a:xfrm>
            <a:off x="762120" y="288756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2284560" y="1357200"/>
            <a:ext cx="655308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I. ЛЕЧЕБНО-ПРОФИЛАКТИЧЕСК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МЕДИЦИНСКИЕ ОРГАНИЗАЦИИ 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МЕДИЦИНСКИЕ ОРГАНИЗАЦИ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ОСОБОГО ТИП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КАЗЫВАЮЩ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ДИЦИНСКУЮ ПОМОЩ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ЦИОНАРНЫХ И АМБУЛАТОРНЫХ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               УСЛОВИЯХ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аблица 01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3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: скругленные углы 1"/>
          <p:cNvSpPr/>
          <p:nvPr/>
        </p:nvSpPr>
        <p:spPr>
          <a:xfrm>
            <a:off x="1371600" y="2590920"/>
            <a:ext cx="70866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X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I. ТЕХНИЧЕСКОЕ СОСТОЯНИЕ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ЗДАНИЙ МЕДИЦИНСК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Прямоугольник: скругленные углы 2"/>
          <p:cNvSpPr/>
          <p:nvPr/>
        </p:nvSpPr>
        <p:spPr>
          <a:xfrm>
            <a:off x="5943600" y="42670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аблица 1200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76320" y="731880"/>
          <a:ext cx="8839080" cy="5440320"/>
        </p:xfrm>
        <a:graphic>
          <a:graphicData uri="http://schemas.openxmlformats.org/drawingml/2006/table">
            <a:tbl>
              <a:tblPr/>
              <a:tblGrid>
                <a:gridCol w="1371600"/>
                <a:gridCol w="533160"/>
                <a:gridCol w="762120"/>
                <a:gridCol w="762120"/>
                <a:gridCol w="990360"/>
                <a:gridCol w="762120"/>
                <a:gridCol w="762120"/>
                <a:gridCol w="1066680"/>
                <a:gridCol w="914400"/>
                <a:gridCol w="914400"/>
              </a:tblGrid>
              <a:tr h="4953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 в них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аварийном состоянии, требуют сн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реко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капитального ремо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находя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испособле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рендова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87b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87b7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6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72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 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8" name="Rectangle 29"/>
          <p:cNvSpPr/>
          <p:nvPr/>
        </p:nvSpPr>
        <p:spPr>
          <a:xfrm>
            <a:off x="457200" y="152280"/>
            <a:ext cx="1600200" cy="38124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Рисунок 10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: скругленные углы 2"/>
          <p:cNvSpPr/>
          <p:nvPr/>
        </p:nvSpPr>
        <p:spPr>
          <a:xfrm>
            <a:off x="2057400" y="3124080"/>
            <a:ext cx="6705720" cy="304812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а 3 не может быть больше графы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а 4 должна быть больше суммы граф с 5 по 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а 4 может быть больше суммы граф 8 и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дно и тоже здание не может быть проставлено и в 5, и в 6, и в 7 граф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афа 4 не может быть меньше любой из граф с 10 по 16 (виды благоустройств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228600" y="914400"/>
          <a:ext cx="8763120" cy="5199120"/>
        </p:xfrm>
        <a:graphic>
          <a:graphicData uri="http://schemas.openxmlformats.org/drawingml/2006/table">
            <a:tbl>
              <a:tblPr/>
              <a:tblGrid>
                <a:gridCol w="1371600"/>
                <a:gridCol w="457200"/>
                <a:gridCol w="1066680"/>
                <a:gridCol w="762120"/>
                <a:gridCol w="887400"/>
                <a:gridCol w="636480"/>
                <a:gridCol w="762120"/>
                <a:gridCol w="1066680"/>
                <a:gridCol w="1087560"/>
                <a:gridCol w="665280"/>
              </a:tblGrid>
              <a:tr h="2743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т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 в них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аварийном состоянии, требуют сн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реко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капитального ремо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находя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испособле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рендованных помеще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6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6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тные медицинск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Rectangle 29"/>
          <p:cNvSpPr/>
          <p:nvPr/>
        </p:nvSpPr>
        <p:spPr>
          <a:xfrm>
            <a:off x="457200" y="457200"/>
            <a:ext cx="160020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2133720" y="5743440"/>
            <a:ext cx="6629400" cy="3682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Строка 22 переименов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5715000" y="490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Рисунок 8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: скругленные углы 2"/>
          <p:cNvSpPr/>
          <p:nvPr/>
        </p:nvSpPr>
        <p:spPr>
          <a:xfrm>
            <a:off x="2209680" y="2743200"/>
            <a:ext cx="6553440" cy="266688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 19 заполняется по медицинским организациям, оказывающим медицинскую помощь в амбулаторных условиях, указанных по строке 2 таблицы 0600, а также стоматологическим поликлиникам, указанным по строке 1 таблицы 1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7b78"/>
                </a:solidFill>
                <a:latin typeface="Calibri"/>
              </a:rPr>
              <a:t>Строка 20 заполняется по медицинским организациям, оказывающим медицинскую помощь в амбулаторных условиях, указанных по строке 3 таблицы 0600, а также стоматологическим поликлиникам, указанным по строке 2 таблицы 1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8600" y="1066680"/>
          <a:ext cx="8763120" cy="3713400"/>
        </p:xfrm>
        <a:graphic>
          <a:graphicData uri="http://schemas.openxmlformats.org/drawingml/2006/table">
            <a:tbl>
              <a:tblPr/>
              <a:tblGrid>
                <a:gridCol w="1477800"/>
                <a:gridCol w="351000"/>
                <a:gridCol w="838080"/>
                <a:gridCol w="685800"/>
                <a:gridCol w="838440"/>
                <a:gridCol w="685800"/>
                <a:gridCol w="990360"/>
                <a:gridCol w="762120"/>
                <a:gridCol w="990720"/>
                <a:gridCol w="1143000"/>
              </a:tblGrid>
              <a:tr h="2743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зданий в них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из них (из гр. 4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ся в аварийном состоянии, требуют сно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реконстру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ют капитального ремо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находя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испособленных помещен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рендованных помещен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1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0" name="Rectangle 29"/>
          <p:cNvSpPr/>
          <p:nvPr/>
        </p:nvSpPr>
        <p:spPr>
          <a:xfrm>
            <a:off x="457200" y="457200"/>
            <a:ext cx="160020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: скругленные углы 1"/>
          <p:cNvSpPr/>
          <p:nvPr/>
        </p:nvSpPr>
        <p:spPr>
          <a:xfrm>
            <a:off x="596880" y="5181480"/>
            <a:ext cx="8305920" cy="157032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 24 должна быть равна сумме медицинских организаций, указанных в таблице 0400 по графе 3 строке 1, таблице 0450 графе 3 строке 1, таблице 0600 по графе 3 строке 23, таблица 1500 графа 3 строка 1, таблице 1600 графа 3 строка 1 и таблице 1600 графа 14 строка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Прямоугольник: скругленные углы 2"/>
          <p:cNvSpPr/>
          <p:nvPr/>
        </p:nvSpPr>
        <p:spPr>
          <a:xfrm>
            <a:off x="2182680" y="3048120"/>
            <a:ext cx="6705720" cy="160020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 23 должна быть равна сумме медицинских организаций, указанных в таблице 0100 по графе 3 строке 43, таблице 0600 по графе 3 строке 22 и таблице 1300 графе 3 строке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457200"/>
            <a:ext cx="1676520" cy="30492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3"/>
          <p:cNvSpPr/>
          <p:nvPr/>
        </p:nvSpPr>
        <p:spPr>
          <a:xfrm>
            <a:off x="5511960" y="72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4"/>
          <p:cNvSpPr/>
          <p:nvPr/>
        </p:nvSpPr>
        <p:spPr>
          <a:xfrm>
            <a:off x="4375080" y="684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52280" y="944640"/>
          <a:ext cx="8686800" cy="4030560"/>
        </p:xfrm>
        <a:graphic>
          <a:graphicData uri="http://schemas.openxmlformats.org/drawingml/2006/table">
            <a:tbl>
              <a:tblPr/>
              <a:tblGrid>
                <a:gridCol w="3048120"/>
                <a:gridCol w="457200"/>
                <a:gridCol w="914400"/>
                <a:gridCol w="334800"/>
                <a:gridCol w="731880"/>
                <a:gridCol w="1447920"/>
                <a:gridCol w="1752480"/>
              </a:tblGrid>
              <a:tr h="24408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лощадь зданий (кв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Число медицинских организаций</a:t>
                      </a: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здания которых находятся в аварийном состоянии или требуют сноса, реконструкции, и капитального ремо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 CYR"/>
                          <a:ea typeface="Times New Roman CYR"/>
                        </a:rPr>
                        <a:t>из них находящихся в аварийном состоянии, или требующих сноса, реконструкции и капитального ремон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 CYR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990033"/>
                          </a:solidFill>
                          <a:latin typeface="Times New Roman CYR"/>
                          <a:ea typeface="Times New Roman CYR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990033"/>
                          </a:solidFill>
                          <a:latin typeface="Times New Roman CYR"/>
                          <a:ea typeface="Times New Roman CYR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 CYR"/>
                        </a:rPr>
                        <a:t>из них: расположенные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(из суммы  строк 25+30): 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у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TextBox 1"/>
          <p:cNvSpPr/>
          <p:nvPr/>
        </p:nvSpPr>
        <p:spPr>
          <a:xfrm>
            <a:off x="755640" y="5029200"/>
            <a:ext cx="8077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Данные стр.25 и стр.30 по графам 18 и 19 необходимо сверить с данными за 2020 года. Предоставить пояснительную записку с указанием отклонения по количеству медицинских организаций (гр.19) и площади (гр.18), заверенную ответственным специалистом органа управления субъекта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Общая площадь зданий указывается с 1 знаком после запя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Данные по строке 26 должны быть сверены с ф.30 се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5-конечная звезда 2"/>
          <p:cNvSpPr/>
          <p:nvPr/>
        </p:nvSpPr>
        <p:spPr>
          <a:xfrm>
            <a:off x="291960" y="4800600"/>
            <a:ext cx="457200" cy="380880"/>
          </a:xfrm>
          <a:custGeom>
            <a:avLst/>
            <a:gdLst/>
            <a:ahLst/>
            <a:rect l="l" t="t" r="r" b="b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2" y="380999"/>
                </a:lnTo>
                <a:lnTo>
                  <a:pt x="228600" y="291056"/>
                </a:lnTo>
                <a:lnTo>
                  <a:pt x="87318" y="380999"/>
                </a:lnTo>
                <a:lnTo>
                  <a:pt x="141284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7ec492"/>
          </a:solidFill>
          <a:ln w="15840">
            <a:solidFill>
              <a:srgbClr val="117e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Прямая со стрелкой 3"/>
          <p:cNvCxnSpPr/>
          <p:nvPr/>
        </p:nvCxnSpPr>
        <p:spPr>
          <a:xfrm>
            <a:off x="749160" y="3428640"/>
            <a:ext cx="7200" cy="3048840"/>
          </a:xfrm>
          <a:prstGeom prst="straightConnector1">
            <a:avLst/>
          </a:prstGeom>
          <a:ln w="3168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411" name="Рисунок 9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: скругленные углы 1"/>
          <p:cNvSpPr/>
          <p:nvPr/>
        </p:nvSpPr>
        <p:spPr>
          <a:xfrm>
            <a:off x="3782880" y="2800440"/>
            <a:ext cx="5099040" cy="206676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графе 19 ук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число организаци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имеющих здания, находящиеся в аварийном состоянии или требующие капитального ремо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личество организаций, указанное в графе 19, необходимо согласовать с отделом главного инженера </a:t>
            </a: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ехнический отдел и т.д.) органа управления  в сфере охраны здоровья су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228600" y="1023840"/>
          <a:ext cx="8763120" cy="5114880"/>
        </p:xfrm>
        <a:graphic>
          <a:graphicData uri="http://schemas.openxmlformats.org/drawingml/2006/table">
            <a:tbl>
              <a:tblPr/>
              <a:tblGrid>
                <a:gridCol w="1946160"/>
                <a:gridCol w="392400"/>
                <a:gridCol w="556920"/>
                <a:gridCol w="533520"/>
                <a:gridCol w="533520"/>
                <a:gridCol w="533160"/>
                <a:gridCol w="762120"/>
                <a:gridCol w="533520"/>
                <a:gridCol w="609480"/>
                <a:gridCol w="838080"/>
                <a:gridCol w="533520"/>
                <a:gridCol w="457200"/>
                <a:gridCol w="533520"/>
              </a:tblGrid>
              <a:tr h="304920">
                <a:tc row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1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круглогодичного функцион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йко-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оступивших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х (из гр. 6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у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е трудоспо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али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до 17 лет вкл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з них (из гр.9): детей-инвали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(сумма строк 2+11+12+13+14+15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3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ии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(сумма строк 3+6+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 с род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ии - профилакто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язелечеб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ортные поликли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4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организац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едерального подчи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4" name="Rectangle 4275"/>
          <p:cNvSpPr/>
          <p:nvPr/>
        </p:nvSpPr>
        <p:spPr>
          <a:xfrm>
            <a:off x="2666880" y="3200400"/>
            <a:ext cx="609624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афа 3 должна быть равна сумме граф 11+12+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4295"/>
          <p:cNvSpPr/>
          <p:nvPr/>
        </p:nvSpPr>
        <p:spPr>
          <a:xfrm>
            <a:off x="2666880" y="3733920"/>
            <a:ext cx="6086520" cy="99036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Распределение числа поступивших лиц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.6 – всего – гр.9 = взросл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.6 – гр.9-гр.7 = взрослые трудоспособного возрас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4296"/>
          <p:cNvSpPr/>
          <p:nvPr/>
        </p:nvSpPr>
        <p:spPr>
          <a:xfrm>
            <a:off x="2666880" y="5376960"/>
            <a:ext cx="6096240" cy="38088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Графа 10 показывается из графы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1"/>
          <p:cNvSpPr/>
          <p:nvPr/>
        </p:nvSpPr>
        <p:spPr>
          <a:xfrm>
            <a:off x="304920" y="138240"/>
            <a:ext cx="79246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Раздел 16. Лечебно-профилактические медицинские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анаторно-курортные организации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1600 - 16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3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оугольник: скругленные углы 1"/>
          <p:cNvSpPr/>
          <p:nvPr/>
        </p:nvSpPr>
        <p:spPr>
          <a:xfrm>
            <a:off x="2368440" y="2209680"/>
            <a:ext cx="6048360" cy="167652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ШТАТНЫЕ И ЗАНЯТ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ЛЖНОСТИ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ЗИЧЕСК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Ц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ТИПАМ МЕДИЦИНСК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: скругленные углы 2"/>
          <p:cNvSpPr/>
          <p:nvPr/>
        </p:nvSpPr>
        <p:spPr>
          <a:xfrm>
            <a:off x="5791320" y="44956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1800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152280" y="762120"/>
          <a:ext cx="8839440" cy="5851440"/>
        </p:xfrm>
        <a:graphic>
          <a:graphicData uri="http://schemas.openxmlformats.org/drawingml/2006/table">
            <a:tbl>
              <a:tblPr/>
              <a:tblGrid>
                <a:gridCol w="3276720"/>
                <a:gridCol w="533520"/>
                <a:gridCol w="1927080"/>
                <a:gridCol w="1550880"/>
                <a:gridCol w="155124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3" name="Rectangle 108"/>
          <p:cNvSpPr/>
          <p:nvPr/>
        </p:nvSpPr>
        <p:spPr>
          <a:xfrm>
            <a:off x="457200" y="309600"/>
            <a:ext cx="1523880" cy="30492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"/>
          <p:cNvSpPr/>
          <p:nvPr/>
        </p:nvSpPr>
        <p:spPr>
          <a:xfrm>
            <a:off x="6030000" y="29376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рямоугольник: скругленные углы 1"/>
          <p:cNvSpPr/>
          <p:nvPr/>
        </p:nvSpPr>
        <p:spPr>
          <a:xfrm>
            <a:off x="3962520" y="1616040"/>
            <a:ext cx="5029200" cy="140004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строке 1 показываются данные по вс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рганизациям из таблицы 0100 строки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без учета строк 6, 21, 25,  27, 42, 43, 44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оторые будут указаны в соответствующ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троках таблиц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Прямоугольник: скругленные углы 2"/>
          <p:cNvSpPr/>
          <p:nvPr/>
        </p:nvSpPr>
        <p:spPr>
          <a:xfrm>
            <a:off x="4114800" y="3336840"/>
            <a:ext cx="2286000" cy="29116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911680"/>
              <a:gd name="textAreaBottom" fmla="*/ 2800080 h 2911680"/>
            </a:gdLst>
            <a:ahLst/>
            <a:rect l="textAreaLeft" t="textAreaTop" r="textAreaRight" b="textAreaBottom"/>
            <a:pathLst>
              <a:path w="21600" h="27511">
                <a:moveTo>
                  <a:pt x="3600" y="0"/>
                </a:moveTo>
                <a:arcTo wR="3600" hR="3600" stAng="16200000" swAng="-5400000"/>
                <a:lnTo>
                  <a:pt x="0" y="23911"/>
                </a:lnTo>
                <a:arcTo wR="3600" hR="3600" stAng="10800000" swAng="-5400000"/>
                <a:lnTo>
                  <a:pt x="18000" y="275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строке 16 указываются данные толь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анций скорой медицинской помощ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ведения по отделениям, входящим в состав других медицинских организаци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ючаются  в строки соответствующ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Прямоугольник: скругленные углы 3"/>
          <p:cNvSpPr/>
          <p:nvPr/>
        </p:nvSpPr>
        <p:spPr>
          <a:xfrm>
            <a:off x="6521400" y="3336840"/>
            <a:ext cx="2398680" cy="2911680"/>
          </a:xfrm>
          <a:custGeom>
            <a:avLst/>
            <a:gdLst>
              <a:gd name="textAreaLeft" fmla="*/ 117000 w 2398680"/>
              <a:gd name="textAreaRight" fmla="*/ 2281680 w 2398680"/>
              <a:gd name="textAreaTop" fmla="*/ 117000 h 2911680"/>
              <a:gd name="textAreaBottom" fmla="*/ 2794680 h 2911680"/>
            </a:gdLst>
            <a:ahLst/>
            <a:rect l="textAreaLeft" t="textAreaTop" r="textAreaRight" b="textAreaBottom"/>
            <a:pathLst>
              <a:path w="21600" h="26219">
                <a:moveTo>
                  <a:pt x="3600" y="0"/>
                </a:moveTo>
                <a:arcTo wR="3600" hR="3600" stAng="16200000" swAng="-5400000"/>
                <a:lnTo>
                  <a:pt x="0" y="22619"/>
                </a:lnTo>
                <a:arcTo wR="3600" hR="3600" stAng="10800000" swAng="-5400000"/>
                <a:lnTo>
                  <a:pt x="18000" y="262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строке 17 указываются данные толь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анций и центров переливания кров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ведения по отделениям, входящим в соста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ругих медицинских организаци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ючаются  в строки соответствующ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Прямоугольник: скругленные углы 4"/>
          <p:cNvSpPr/>
          <p:nvPr/>
        </p:nvSpPr>
        <p:spPr>
          <a:xfrm>
            <a:off x="2666880" y="157320"/>
            <a:ext cx="2590920" cy="57276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трока 25 переименов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152280" y="762120"/>
          <a:ext cx="8839440" cy="5790960"/>
        </p:xfrm>
        <a:graphic>
          <a:graphicData uri="http://schemas.openxmlformats.org/drawingml/2006/table">
            <a:tbl>
              <a:tblPr/>
              <a:tblGrid>
                <a:gridCol w="3276720"/>
                <a:gridCol w="533520"/>
                <a:gridCol w="1927080"/>
                <a:gridCol w="1550880"/>
                <a:gridCol w="155124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8c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c8c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1" name="Rectangle 108"/>
          <p:cNvSpPr/>
          <p:nvPr/>
        </p:nvSpPr>
        <p:spPr>
          <a:xfrm>
            <a:off x="301680" y="76320"/>
            <a:ext cx="1523880" cy="30456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Рисунок 6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: скругленные углы 1"/>
          <p:cNvSpPr/>
          <p:nvPr/>
        </p:nvSpPr>
        <p:spPr>
          <a:xfrm>
            <a:off x="4124160" y="1819440"/>
            <a:ext cx="4724640" cy="87624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рока 19 – медицинские организации особого типа, которые указаны в табл.0100 + табл.0600+ табл.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Прямоугольник: скругленные углы 3"/>
          <p:cNvSpPr/>
          <p:nvPr/>
        </p:nvSpPr>
        <p:spPr>
          <a:xfrm>
            <a:off x="4208400" y="3138480"/>
            <a:ext cx="4699080" cy="129528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умма строк 27+30 по графам 3, 4, 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должна быть рав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ФФСН №30, таблица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рока 244 по графам 3, 4, 9 соответствен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Прямоугольник: скругленные углы 4"/>
          <p:cNvSpPr/>
          <p:nvPr/>
        </p:nvSpPr>
        <p:spPr>
          <a:xfrm>
            <a:off x="4241880" y="4815000"/>
            <a:ext cx="4572000" cy="16002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умма строк 31+32+33 по графам 3, 4, 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должна быть рав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ФФСН №30, таблица 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трока 243 по графам 3, 4, 9 соответствен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Прямая со стрелкой 6"/>
          <p:cNvCxnSpPr/>
          <p:nvPr/>
        </p:nvCxnSpPr>
        <p:spPr>
          <a:xfrm flipV="1">
            <a:off x="3276720" y="2437560"/>
            <a:ext cx="848160" cy="1220040"/>
          </a:xfrm>
          <a:prstGeom prst="straightConnector1">
            <a:avLst/>
          </a:prstGeom>
          <a:ln w="3816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437" name="Прямая со стрелкой 9"/>
          <p:cNvCxnSpPr/>
          <p:nvPr/>
        </p:nvCxnSpPr>
        <p:spPr>
          <a:xfrm flipV="1">
            <a:off x="3962520" y="4433400"/>
            <a:ext cx="381600" cy="138960"/>
          </a:xfrm>
          <a:prstGeom prst="straightConnector1">
            <a:avLst/>
          </a:prstGeom>
          <a:ln w="3168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438" name="Прямая со стрелкой 16"/>
          <p:cNvCxnSpPr/>
          <p:nvPr/>
        </p:nvCxnSpPr>
        <p:spPr>
          <a:xfrm flipV="1">
            <a:off x="3962520" y="4433040"/>
            <a:ext cx="381600" cy="748440"/>
          </a:xfrm>
          <a:prstGeom prst="straightConnector1">
            <a:avLst/>
          </a:prstGeom>
          <a:ln w="31680">
            <a:solidFill>
              <a:srgbClr val="487b78"/>
            </a:solidFill>
            <a:miter/>
            <a:tailEnd len="med" type="triangle" w="med"/>
          </a:ln>
        </p:spPr>
      </p:cxnSp>
      <p:sp>
        <p:nvSpPr>
          <p:cNvPr id="439" name="Прямая соединительная линия 18"/>
          <p:cNvSpPr/>
          <p:nvPr/>
        </p:nvSpPr>
        <p:spPr>
          <a:xfrm>
            <a:off x="6400800" y="4429080"/>
            <a:ext cx="0" cy="385920"/>
          </a:xfrm>
          <a:prstGeom prst="line">
            <a:avLst/>
          </a:prstGeom>
          <a:ln w="5076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Прямая со стрелкой 25"/>
          <p:cNvCxnSpPr/>
          <p:nvPr/>
        </p:nvCxnSpPr>
        <p:spPr>
          <a:xfrm flipV="1">
            <a:off x="4114800" y="4585680"/>
            <a:ext cx="381600" cy="748440"/>
          </a:xfrm>
          <a:prstGeom prst="straightConnector1">
            <a:avLst/>
          </a:prstGeom>
          <a:ln w="31680">
            <a:solidFill>
              <a:srgbClr val="487b78"/>
            </a:solidFill>
            <a:miter/>
            <a:tailEnd len="med" type="triangle" w="med"/>
          </a:ln>
        </p:spPr>
      </p:cxnSp>
      <p:sp>
        <p:nvSpPr>
          <p:cNvPr id="441" name="Прямая соединительная линия 27"/>
          <p:cNvSpPr/>
          <p:nvPr/>
        </p:nvSpPr>
        <p:spPr>
          <a:xfrm>
            <a:off x="6558120" y="4421160"/>
            <a:ext cx="0" cy="385920"/>
          </a:xfrm>
          <a:prstGeom prst="line">
            <a:avLst/>
          </a:prstGeom>
          <a:ln w="5076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Правая фигурная скобка 22"/>
          <p:cNvSpPr/>
          <p:nvPr/>
        </p:nvSpPr>
        <p:spPr>
          <a:xfrm>
            <a:off x="3809880" y="5614920"/>
            <a:ext cx="432000" cy="86220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862200"/>
              <a:gd name="textAreaBottom" fmla="*/ 851040 h 86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1"/>
                  <a:pt x="10800" y="902"/>
                </a:cubicBezTo>
                <a:lnTo>
                  <a:pt x="10800" y="9898"/>
                </a:lnTo>
                <a:cubicBezTo>
                  <a:pt x="10800" y="10349"/>
                  <a:pt x="16200" y="10800"/>
                  <a:pt x="21600" y="10800"/>
                </a:cubicBezTo>
                <a:cubicBezTo>
                  <a:pt x="16200" y="10800"/>
                  <a:pt x="10800" y="11251"/>
                  <a:pt x="10800" y="11702"/>
                </a:cubicBezTo>
                <a:lnTo>
                  <a:pt x="10800" y="20698"/>
                </a:lnTo>
                <a:cubicBezTo>
                  <a:pt x="10800" y="2114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87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380880" y="138240"/>
            <a:ext cx="1676520" cy="3373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152280" y="838080"/>
          <a:ext cx="8839440" cy="5818320"/>
        </p:xfrm>
        <a:graphic>
          <a:graphicData uri="http://schemas.openxmlformats.org/drawingml/2006/table">
            <a:tbl>
              <a:tblPr/>
              <a:tblGrid>
                <a:gridCol w="2819520"/>
                <a:gridCol w="609480"/>
                <a:gridCol w="2567160"/>
                <a:gridCol w="1747800"/>
                <a:gridCol w="1095480"/>
              </a:tblGrid>
              <a:tr h="457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 с высшим профессиональным (немедицинским) образ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</a:tr>
              <a:tr h="27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5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45" name="Рисунок 7" descr=""/>
          <p:cNvPicPr/>
          <p:nvPr/>
        </p:nvPicPr>
        <p:blipFill>
          <a:blip r:embed="rId1"/>
          <a:stretch/>
        </p:blipFill>
        <p:spPr>
          <a:xfrm>
            <a:off x="8410680" y="228600"/>
            <a:ext cx="428400" cy="50148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: скругленные углы 1"/>
          <p:cNvSpPr/>
          <p:nvPr/>
        </p:nvSpPr>
        <p:spPr>
          <a:xfrm>
            <a:off x="3849840" y="1951200"/>
            <a:ext cx="4760640" cy="117288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Графы 9, 10, 11 по сумме строк 27+30 должн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быть равны графам 3, 4,9 по строке 127+233 таблиц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100 ФФСН №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Прямоугольник: скругленные углы 2"/>
          <p:cNvSpPr/>
          <p:nvPr/>
        </p:nvSpPr>
        <p:spPr>
          <a:xfrm>
            <a:off x="3849840" y="3487680"/>
            <a:ext cx="4836960" cy="138924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строке 30 показывают сведения по клини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УЗов и НИИ, указанных как, кроме того,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аблицах 0100, 0600,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Прямоугольник: скругленные углы 3"/>
          <p:cNvSpPr/>
          <p:nvPr/>
        </p:nvSpPr>
        <p:spPr>
          <a:xfrm>
            <a:off x="3849840" y="5465880"/>
            <a:ext cx="49528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мма строк 27+30 должна быть равна сумме строк 31+32+33 по всем граф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Прямая со стрелкой 5"/>
          <p:cNvCxnSpPr/>
          <p:nvPr/>
        </p:nvCxnSpPr>
        <p:spPr>
          <a:xfrm>
            <a:off x="3200400" y="6060600"/>
            <a:ext cx="650160" cy="1080"/>
          </a:xfrm>
          <a:prstGeom prst="straightConnector1">
            <a:avLst/>
          </a:prstGeom>
          <a:ln w="31680">
            <a:solidFill>
              <a:srgbClr val="99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90440" y="1143000"/>
          <a:ext cx="8763120" cy="5773680"/>
        </p:xfrm>
        <a:graphic>
          <a:graphicData uri="http://schemas.openxmlformats.org/drawingml/2006/table">
            <a:tbl>
              <a:tblPr/>
              <a:tblGrid>
                <a:gridCol w="1752840"/>
                <a:gridCol w="295200"/>
                <a:gridCol w="642960"/>
                <a:gridCol w="696960"/>
                <a:gridCol w="774360"/>
                <a:gridCol w="774720"/>
                <a:gridCol w="930600"/>
                <a:gridCol w="761760"/>
                <a:gridCol w="762120"/>
                <a:gridCol w="679320"/>
                <a:gridCol w="692280"/>
              </a:tblGrid>
              <a:tr h="24624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Число коек (фактически развернутых + свернутых на ремон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 -годовые кой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чине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расположенных в сельской  мес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fbfb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bfbfb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ые, республиканские,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краевые, республиканские,  областные, окружные больн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 всего (сумма строк 7-17), 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0" name="Rectangle 118"/>
          <p:cNvSpPr/>
          <p:nvPr/>
        </p:nvSpPr>
        <p:spPr>
          <a:xfrm>
            <a:off x="6553080" y="378000"/>
            <a:ext cx="1524240" cy="380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Рисунок 7" descr=""/>
          <p:cNvPicPr/>
          <p:nvPr/>
        </p:nvPicPr>
        <p:blipFill>
          <a:blip r:embed="rId1"/>
          <a:stretch/>
        </p:blipFill>
        <p:spPr>
          <a:xfrm>
            <a:off x="8526600" y="281160"/>
            <a:ext cx="428400" cy="58068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1"/>
          <p:cNvSpPr/>
          <p:nvPr/>
        </p:nvSpPr>
        <p:spPr>
          <a:xfrm>
            <a:off x="7696080" y="2362320"/>
            <a:ext cx="1295640" cy="838080"/>
          </a:xfrm>
          <a:prstGeom prst="ellipse">
            <a:avLst/>
          </a:prstGeom>
          <a:solidFill>
            <a:srgbClr val="e0edec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Целые чис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Прямая со стрелкой 3"/>
          <p:cNvCxnSpPr/>
          <p:nvPr/>
        </p:nvCxnSpPr>
        <p:spPr>
          <a:xfrm flipH="1" flipV="1">
            <a:off x="7314840" y="2299680"/>
            <a:ext cx="381600" cy="324360"/>
          </a:xfrm>
          <a:prstGeom prst="straightConnector1">
            <a:avLst/>
          </a:prstGeom>
          <a:ln w="69840">
            <a:solidFill>
              <a:srgbClr val="990033"/>
            </a:solidFill>
            <a:miter/>
            <a:tailEnd len="med" type="triangle" w="med"/>
          </a:ln>
        </p:spPr>
      </p:cxnSp>
      <p:sp>
        <p:nvSpPr>
          <p:cNvPr id="274" name="Прямоугольник: скругленные углы 4"/>
          <p:cNvSpPr/>
          <p:nvPr/>
        </p:nvSpPr>
        <p:spPr>
          <a:xfrm>
            <a:off x="2508120" y="506520"/>
            <a:ext cx="152424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рафа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3 должна равняться</a:t>
            </a:r>
            <a:r>
              <a:rPr b="1" lang="en-US" sz="1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умме</a:t>
            </a:r>
            <a:r>
              <a:rPr b="1" lang="en-US" sz="1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раф с 4 по 6 по всем</a:t>
            </a:r>
            <a:r>
              <a:rPr b="1" lang="en-US" sz="12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трок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оугольник: скругленные углы 5"/>
          <p:cNvSpPr/>
          <p:nvPr/>
        </p:nvSpPr>
        <p:spPr>
          <a:xfrm>
            <a:off x="2362320" y="3584520"/>
            <a:ext cx="5943600" cy="2130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едорганизации, закрытые (реорганизованные) на 31.12.отчетного года гр.3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3-8) не заполняю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 остальным графам – деятельность на дату закрытия (штаты и входящие структурные подразделения – не заполняю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.8 показываем основной коечный фонд (без дополнительно развернутых кое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оугольник: скругленные углы 6"/>
          <p:cNvSpPr/>
          <p:nvPr/>
        </p:nvSpPr>
        <p:spPr>
          <a:xfrm>
            <a:off x="189000" y="281160"/>
            <a:ext cx="1792080" cy="2342880"/>
          </a:xfrm>
          <a:custGeom>
            <a:avLst/>
            <a:gdLst>
              <a:gd name="textAreaLeft" fmla="*/ 87480 w 1792080"/>
              <a:gd name="textAreaRight" fmla="*/ 1704600 w 1792080"/>
              <a:gd name="textAreaTop" fmla="*/ 87480 h 2342880"/>
              <a:gd name="textAreaBottom" fmla="*/ 2255400 h 2342880"/>
            </a:gdLst>
            <a:ahLst/>
            <a:rect l="textAreaLeft" t="textAreaTop" r="textAreaRight" b="textAreaBottom"/>
            <a:pathLst>
              <a:path w="21600" h="28237">
                <a:moveTo>
                  <a:pt x="3600" y="0"/>
                </a:moveTo>
                <a:arcTo wR="3600" hR="3600" stAng="16200000" swAng="-5400000"/>
                <a:lnTo>
                  <a:pt x="0" y="24637"/>
                </a:lnTo>
                <a:arcTo wR="3600" hR="3600" stAng="10800000" swAng="-5400000"/>
                <a:lnTo>
                  <a:pt x="18000" y="28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графах 3-7 указывается число</a:t>
            </a:r>
            <a:r>
              <a:rPr b="1" lang="en-US" sz="14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медицинских организаций –</a:t>
            </a:r>
            <a:r>
              <a:rPr b="1" lang="en-US" sz="14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юридических лиц,</a:t>
            </a:r>
            <a:r>
              <a:rPr b="1" lang="en-US" sz="1400" spc="-1" strike="noStrike">
                <a:solidFill>
                  <a:srgbClr val="c00000"/>
                </a:solidFill>
                <a:latin typeface="Tw Cen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существляющих деятельность на 31декабр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тчетного год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457200" y="152280"/>
            <a:ext cx="1676520" cy="3373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1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228600" y="838080"/>
          <a:ext cx="8610480" cy="5748480"/>
        </p:xfrm>
        <a:graphic>
          <a:graphicData uri="http://schemas.openxmlformats.org/drawingml/2006/table">
            <a:tbl>
              <a:tblPr/>
              <a:tblGrid>
                <a:gridCol w="2819520"/>
                <a:gridCol w="457200"/>
                <a:gridCol w="2124000"/>
                <a:gridCol w="1800360"/>
                <a:gridCol w="1409400"/>
              </a:tblGrid>
              <a:tr h="286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 долж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dad9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 боль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 скорой медицинской  помощ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переливания и центры кров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аторно-курортны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особого тип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медицинск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2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 (стр.1-2, 4-10, 16-19, 25, 2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медицинских организациях, расположенных в сельской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клиники ВУЗов и НИ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de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а (стр. 27+30)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рганизаций 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2" name="Прямоугольник: скругленные углы 1"/>
          <p:cNvSpPr/>
          <p:nvPr/>
        </p:nvSpPr>
        <p:spPr>
          <a:xfrm>
            <a:off x="3733920" y="1981080"/>
            <a:ext cx="4952880" cy="1447920"/>
          </a:xfrm>
          <a:prstGeom prst="roundRect">
            <a:avLst>
              <a:gd name="adj" fmla="val 16667"/>
            </a:avLst>
          </a:prstGeom>
          <a:solidFill>
            <a:srgbClr val="c0dad9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Графы 24, 25, 26 по сумме строк 27+30 должны  быть равны графам 3, 4  по строке 228 +237 таблицы 1100 ФФСН №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Прямоугольник: скругленные углы 2"/>
          <p:cNvSpPr/>
          <p:nvPr/>
        </p:nvSpPr>
        <p:spPr>
          <a:xfrm>
            <a:off x="3809880" y="3657600"/>
            <a:ext cx="48769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умма строк 27+30 должна быть равна сумме строк 31+32+33 по всем граф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Прямая со стрелкой 4"/>
          <p:cNvCxnSpPr>
            <a:endCxn id="453" idx="1"/>
          </p:cNvCxnSpPr>
          <p:nvPr/>
        </p:nvCxnSpPr>
        <p:spPr>
          <a:xfrm flipV="1">
            <a:off x="3505320" y="4114440"/>
            <a:ext cx="305280" cy="457920"/>
          </a:xfrm>
          <a:prstGeom prst="straightConnector1">
            <a:avLst/>
          </a:prstGeom>
          <a:ln w="34920">
            <a:solidFill>
              <a:srgbClr val="487b78"/>
            </a:solidFill>
            <a:miter/>
            <a:tailEnd len="med" type="triangle" w="med"/>
          </a:ln>
        </p:spPr>
      </p:cxnSp>
      <p:cxnSp>
        <p:nvCxnSpPr>
          <p:cNvPr id="455" name="Прямая со стрелкой 12"/>
          <p:cNvCxnSpPr/>
          <p:nvPr/>
        </p:nvCxnSpPr>
        <p:spPr>
          <a:xfrm flipV="1">
            <a:off x="3506760" y="4208040"/>
            <a:ext cx="303840" cy="1154880"/>
          </a:xfrm>
          <a:prstGeom prst="straightConnector1">
            <a:avLst/>
          </a:prstGeom>
          <a:ln w="34920">
            <a:solidFill>
              <a:srgbClr val="487b78"/>
            </a:solidFill>
            <a:miter/>
            <a:tailEnd len="med" type="triangle" w="med"/>
          </a:ln>
        </p:spPr>
      </p:cxnSp>
      <p:sp>
        <p:nvSpPr>
          <p:cNvPr id="456" name="Прямоугольник: скругленные углы 7"/>
          <p:cNvSpPr/>
          <p:nvPr/>
        </p:nvSpPr>
        <p:spPr>
          <a:xfrm>
            <a:off x="3809880" y="5610240"/>
            <a:ext cx="4800600" cy="914400"/>
          </a:xfrm>
          <a:prstGeom prst="roundRect">
            <a:avLst>
              <a:gd name="adj" fmla="val 16667"/>
            </a:avLst>
          </a:prstGeom>
          <a:solidFill>
            <a:srgbClr val="e0edec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строке 30 показывают сведения по клини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УЗов и НИИ, указанных как кроме того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аблицах 0100, 0600,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Box 8"/>
          <p:cNvSpPr/>
          <p:nvPr/>
        </p:nvSpPr>
        <p:spPr>
          <a:xfrm>
            <a:off x="5267880" y="32076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имание! Изменения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оугольник: скругленные углы 9"/>
          <p:cNvSpPr/>
          <p:nvPr/>
        </p:nvSpPr>
        <p:spPr>
          <a:xfrm>
            <a:off x="4076640" y="4818240"/>
            <a:ext cx="4533840" cy="439560"/>
          </a:xfrm>
          <a:prstGeom prst="roundRect">
            <a:avLst>
              <a:gd name="adj" fmla="val 16667"/>
            </a:avLst>
          </a:prstGeom>
          <a:solidFill>
            <a:srgbClr val="dfe3e5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ка 28 – сверить с формой 30-се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1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Рисунок 5" descr=""/>
          <p:cNvPicPr/>
          <p:nvPr/>
        </p:nvPicPr>
        <p:blipFill>
          <a:blip r:embed="rId2"/>
          <a:stretch/>
        </p:blipFill>
        <p:spPr>
          <a:xfrm>
            <a:off x="8410680" y="96840"/>
            <a:ext cx="428400" cy="43668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380880" y="152280"/>
          <a:ext cx="8029800" cy="6728040"/>
        </p:xfrm>
        <a:graphic>
          <a:graphicData uri="http://schemas.openxmlformats.org/drawingml/2006/table">
            <a:tbl>
              <a:tblPr/>
              <a:tblGrid>
                <a:gridCol w="2602080"/>
                <a:gridCol w="789120"/>
                <a:gridCol w="771480"/>
                <a:gridCol w="925200"/>
                <a:gridCol w="169920"/>
                <a:gridCol w="228600"/>
                <a:gridCol w="2543400"/>
              </a:tblGrid>
              <a:tr h="574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ожение №10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письму Минздрава Росси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               2021 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3520">
                <a:tc gridSpan="7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яснительная зап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форме ФСН №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7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 раздел. Изменение сети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 (юридические лиц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(+ , 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.ч. подч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240">
                <a:tc gridSpan="7"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следует указать при сокращении (увеличении) количества медицинских организаций – реорганизация, ликвидация, передача полномочий, объединение и т.д. в соответствии с принятыми в субъекте нормативными документ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9200"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бособленные структурные подразделения медицинской организации, включая передвиж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ние (+ , 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ковые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е больницы центр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е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о-акушерские пун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 пун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" rIns="684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gridSpan="7">
                  <a:txBody>
                    <a:bodyPr lIns="6840" rIns="6840" tIns="684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следует указать при сокращении (увеличении) количества обособленных структурных подразделений  – реорганизация, ликвидация,  объединение и т.д. в соответствии с принятыми в субъекте нормативными докумен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" marR="6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Рисунок 3" descr="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18156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Рисунок 5" descr=""/>
          <p:cNvPicPr/>
          <p:nvPr/>
        </p:nvPicPr>
        <p:blipFill>
          <a:blip r:embed="rId2"/>
          <a:stretch/>
        </p:blipFill>
        <p:spPr>
          <a:xfrm>
            <a:off x="8534520" y="146160"/>
            <a:ext cx="428400" cy="57924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228600" y="1143000"/>
          <a:ext cx="8534520" cy="3552840"/>
        </p:xfrm>
        <a:graphic>
          <a:graphicData uri="http://schemas.openxmlformats.org/drawingml/2006/table">
            <a:tbl>
              <a:tblPr/>
              <a:tblGrid>
                <a:gridCol w="2765520"/>
                <a:gridCol w="838080"/>
                <a:gridCol w="820800"/>
                <a:gridCol w="982800"/>
                <a:gridCol w="3127320"/>
              </a:tblGrid>
              <a:tr h="1922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аздел II. Изменение мощности круглосуточных стациона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е организации (табл.0100 )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(+ , -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чины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сего коек на конец года, в т.ч. подчинения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4040">
                <a:tc gridSpan="5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причины следует указать при сокращении (увеличении) количества коек – сокращение, увеличение, передача полномочий  и т.д. в соответствии с принятыми в субъекте нормативными документ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8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ись  руководителя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.И.О. полность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ись ответственного лиц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.И.О. полность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728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.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. почта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Рисунок 3" descr=""/>
          <p:cNvPicPr/>
          <p:nvPr/>
        </p:nvPicPr>
        <p:blipFill>
          <a:blip r:embed="rId1"/>
          <a:stretch/>
        </p:blipFill>
        <p:spPr>
          <a:xfrm>
            <a:off x="-12600" y="-2700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bad91"/>
                </a:solidFill>
                <a:latin typeface="Calibri"/>
              </a:rPr>
              <a:t>Пояснительные запис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Рисунок 5" descr=""/>
          <p:cNvPicPr/>
          <p:nvPr/>
        </p:nvPicPr>
        <p:blipFill>
          <a:blip r:embed="rId2"/>
          <a:stretch/>
        </p:blipFill>
        <p:spPr>
          <a:xfrm>
            <a:off x="8391600" y="96840"/>
            <a:ext cx="428400" cy="57960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Прямоугольник 2"/>
          <p:cNvSpPr/>
          <p:nvPr/>
        </p:nvSpPr>
        <p:spPr>
          <a:xfrm>
            <a:off x="257040" y="873000"/>
            <a:ext cx="836460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форме 47 дополнительно прилагаются следующие пояснительные записк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1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дицинские организации, не соответствующие «Номенклатуре медицинских организаций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указание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ное наименование медицинской организаци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оки и меры по приведению к действующей номенклатур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ывается руководителем или заместителем руководителя органа управления здравоохранения субъекта Российской Федерац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медицинских организаций федерального подчинения и филиалов федеральных медицинских организаций, расположенных на территории субъекта Российской Федерации и включенных в годовой отч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наименование медицинской организации или филиала с указанием подчинения (Минздрава России, Академии наук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руководителем МИАЦ или Бюро медицинской статистик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bad91"/>
                </a:solidFill>
                <a:latin typeface="Calibri"/>
              </a:rPr>
              <a:t>Пояснительные запис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Рисунок 5" descr=""/>
          <p:cNvPicPr/>
          <p:nvPr/>
        </p:nvPicPr>
        <p:blipFill>
          <a:blip r:embed="rId2"/>
          <a:stretch/>
        </p:blipFill>
        <p:spPr>
          <a:xfrm>
            <a:off x="8410680" y="96840"/>
            <a:ext cx="428400" cy="57960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Прямоугольник 2"/>
          <p:cNvSpPr/>
          <p:nvPr/>
        </p:nvSpPr>
        <p:spPr>
          <a:xfrm>
            <a:off x="654120" y="977760"/>
            <a:ext cx="815328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медицинских организаций, оказывающих медицинскую помощь в стационарных условиях, у которых на конец года отсутствуют койки с указание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наименование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окращения ко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изменения типа медицинской орган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руководителем или заместителем руководителя органа управления здравоохранения субъекта Российской Федерац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4. Таблица 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.25 и 3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.18 и 19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дицинские организации и площадь в аварийном состоянии (снос, реконструкция, капитальный ремонт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ь с уровнем 2020 года, указать отклон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ответственным специалистом органа управления здравоохранения субъекта Российской Федерац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80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Рисунок 5" descr=""/>
          <p:cNvPicPr/>
          <p:nvPr/>
        </p:nvPicPr>
        <p:blipFill>
          <a:blip r:embed="rId2"/>
          <a:stretch/>
        </p:blipFill>
        <p:spPr>
          <a:xfrm>
            <a:off x="8410680" y="96840"/>
            <a:ext cx="428400" cy="57960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оугольник 2"/>
          <p:cNvSpPr/>
          <p:nvPr/>
        </p:nvSpPr>
        <p:spPr>
          <a:xfrm>
            <a:off x="291960" y="1219320"/>
            <a:ext cx="8534520" cy="38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сшифровка строки «прочие» по всем таблиц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ывается руководителем МИАЦ или Бюро медицинской статистик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ие дополнительно развернутых коек для оказания медицинской помощи пациентам с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9 – временно, на период эпидемии  - для ф.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пояснительную записку с указанием нормативных документов по открытию дополнительных коек по состоянию на 31.12. 2021 г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ь профиль коек (инфекционные, реанимационные, интенсивная терапия, иные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ывается руководителем или заместителем руководителя органа управления здравоохранения субъекта Российской Федерац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Рисунок 3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181560"/>
          </a:xfrm>
          <a:prstGeom prst="rect">
            <a:avLst/>
          </a:prstGeom>
          <a:ln w="0">
            <a:noFill/>
          </a:ln>
        </p:spPr>
      </p:pic>
      <p:sp>
        <p:nvSpPr>
          <p:cNvPr id="485" name="Прямоугольник 11"/>
          <p:cNvSpPr/>
          <p:nvPr/>
        </p:nvSpPr>
        <p:spPr>
          <a:xfrm>
            <a:off x="0" y="0"/>
            <a:ext cx="9144000" cy="87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Рисунок 5" descr=""/>
          <p:cNvPicPr/>
          <p:nvPr/>
        </p:nvPicPr>
        <p:blipFill>
          <a:blip r:embed="rId2"/>
          <a:stretch/>
        </p:blipFill>
        <p:spPr>
          <a:xfrm>
            <a:off x="284040" y="182520"/>
            <a:ext cx="428760" cy="579600"/>
          </a:xfrm>
          <a:prstGeom prst="rect">
            <a:avLst/>
          </a:prstGeom>
          <a:ln w="0">
            <a:noFill/>
          </a:ln>
        </p:spPr>
      </p:pic>
      <p:sp>
        <p:nvSpPr>
          <p:cNvPr id="487" name="TextBox 13"/>
          <p:cNvSpPr/>
          <p:nvPr/>
        </p:nvSpPr>
        <p:spPr>
          <a:xfrm>
            <a:off x="762120" y="2887560"/>
            <a:ext cx="8076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ФСН №47 «Сведения о сети и деятельности медицинских организаци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Прямоугольник 1"/>
          <p:cNvSpPr/>
          <p:nvPr/>
        </p:nvSpPr>
        <p:spPr>
          <a:xfrm>
            <a:off x="-12600" y="6181560"/>
            <a:ext cx="9144000" cy="74628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Прямоугольник 15"/>
          <p:cNvSpPr/>
          <p:nvPr/>
        </p:nvSpPr>
        <p:spPr>
          <a:xfrm>
            <a:off x="914400" y="18252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Центральный научно-исследовательский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институт организации и информатизации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Montserrat"/>
              </a:rPr>
              <a:t>здравоохранени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Прямоугольник 23"/>
          <p:cNvSpPr/>
          <p:nvPr/>
        </p:nvSpPr>
        <p:spPr>
          <a:xfrm>
            <a:off x="284040" y="5680080"/>
            <a:ext cx="457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c5e53"/>
                </a:solidFill>
                <a:latin typeface="Montserrat SemiBold"/>
              </a:rPr>
              <a:t>www.mednet.r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18"/>
          <p:cNvSpPr/>
          <p:nvPr/>
        </p:nvSpPr>
        <p:spPr>
          <a:xfrm>
            <a:off x="457200" y="457200"/>
            <a:ext cx="1523880" cy="380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4572000" y="457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Внимание! Изменения!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914400"/>
          <a:ext cx="8229600" cy="5181480"/>
        </p:xfrm>
        <a:graphic>
          <a:graphicData uri="http://schemas.openxmlformats.org/drawingml/2006/table">
            <a:tbl>
              <a:tblPr/>
              <a:tblGrid>
                <a:gridCol w="2514600"/>
                <a:gridCol w="533160"/>
                <a:gridCol w="609840"/>
                <a:gridCol w="501480"/>
                <a:gridCol w="646200"/>
                <a:gridCol w="476280"/>
                <a:gridCol w="557280"/>
                <a:gridCol w="763560"/>
                <a:gridCol w="531720"/>
                <a:gridCol w="547560"/>
                <a:gridCol w="54792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 (фактически развернутых + свернутых на ремон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 -годовые кой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я субъекта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сположенных в сельской 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ысоких медицинских технолог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генет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реабили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л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ы здоровья семьи и репроду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………………</a:t>
                      </a: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0066"/>
                          </a:solidFill>
                          <a:latin typeface="Times New Roman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зирован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. . </a:t>
                      </a: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. из них сурдологи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оказывающие только пла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1" name="Рисунок 7" descr=""/>
          <p:cNvPicPr/>
          <p:nvPr/>
        </p:nvPicPr>
        <p:blipFill>
          <a:blip r:embed="rId1"/>
          <a:stretch/>
        </p:blipFill>
        <p:spPr>
          <a:xfrm>
            <a:off x="8443800" y="146160"/>
            <a:ext cx="428760" cy="57924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: скругленные углы 2"/>
          <p:cNvSpPr/>
          <p:nvPr/>
        </p:nvSpPr>
        <p:spPr>
          <a:xfrm>
            <a:off x="3759120" y="2895480"/>
            <a:ext cx="4470480" cy="10670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рока 27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ожет быть больше суммы строк </a:t>
            </a:r>
            <a:r>
              <a:rPr b="1" lang="en-US" sz="1400" spc="-1" strike="noStrike">
                <a:solidFill>
                  <a:srgbClr val="000000"/>
                </a:solidFill>
                <a:latin typeface="Tw Cen MT"/>
              </a:rPr>
              <a:t>c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2 по 33, с 34 по 4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 счет «прочих» центров, не поименованных в боковике таблиц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разницу пояснит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оугольник: скругленные углы 3"/>
          <p:cNvSpPr/>
          <p:nvPr/>
        </p:nvSpPr>
        <p:spPr>
          <a:xfrm>
            <a:off x="3759120" y="5370480"/>
            <a:ext cx="4481640" cy="914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Хозрасчетные медицинские организации- исключе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О, оказывающие только платные медицински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Прямая со стрелкой 4"/>
          <p:cNvCxnSpPr/>
          <p:nvPr/>
        </p:nvCxnSpPr>
        <p:spPr>
          <a:xfrm flipH="1">
            <a:off x="2971440" y="5638320"/>
            <a:ext cx="915120" cy="1080"/>
          </a:xfrm>
          <a:prstGeom prst="straightConnector1">
            <a:avLst/>
          </a:prstGeom>
          <a:ln w="25560">
            <a:solidFill>
              <a:srgbClr val="660033"/>
            </a:solidFill>
            <a:miter/>
            <a:tailEnd len="med" type="triangle" w="med"/>
          </a:ln>
        </p:spPr>
      </p:cxnSp>
      <p:sp>
        <p:nvSpPr>
          <p:cNvPr id="285" name="Прямоугольник: скругленные углы 7"/>
          <p:cNvSpPr/>
          <p:nvPr/>
        </p:nvSpPr>
        <p:spPr>
          <a:xfrm>
            <a:off x="3759120" y="4230720"/>
            <a:ext cx="448164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веден новый тип медицинской орган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Прямая со стрелкой 9"/>
          <p:cNvCxnSpPr>
            <a:stCxn id="285" idx="1"/>
          </p:cNvCxnSpPr>
          <p:nvPr/>
        </p:nvCxnSpPr>
        <p:spPr>
          <a:xfrm flipH="1">
            <a:off x="3047400" y="4687920"/>
            <a:ext cx="711720" cy="342000"/>
          </a:xfrm>
          <a:prstGeom prst="straightConnector1">
            <a:avLst/>
          </a:prstGeom>
          <a:ln w="34920">
            <a:solidFill>
              <a:srgbClr val="6600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3" descr=""/>
          <p:cNvPicPr/>
          <p:nvPr/>
        </p:nvPicPr>
        <p:blipFill>
          <a:blip r:embed="rId1"/>
          <a:stretch/>
        </p:blipFill>
        <p:spPr>
          <a:xfrm>
            <a:off x="8381880" y="90360"/>
            <a:ext cx="428760" cy="50184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4"/>
          <p:cNvSpPr/>
          <p:nvPr/>
        </p:nvSpPr>
        <p:spPr>
          <a:xfrm>
            <a:off x="30240" y="-7920"/>
            <a:ext cx="9113760" cy="61740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Прямоугольник: скругленные углы 1"/>
          <p:cNvSpPr/>
          <p:nvPr/>
        </p:nvSpPr>
        <p:spPr>
          <a:xfrm>
            <a:off x="1865160" y="2514600"/>
            <a:ext cx="6934320" cy="914400"/>
          </a:xfrm>
          <a:prstGeom prst="roundRect">
            <a:avLst>
              <a:gd name="adj" fmla="val 16667"/>
            </a:avLst>
          </a:prstGeom>
          <a:solidFill>
            <a:srgbClr val="e9d3bd">
              <a:alpha val="46000"/>
            </a:srgbClr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СВЕДЕ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 ДИСПАНСЕР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0500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Рисунок 6" descr=""/>
          <p:cNvPicPr/>
          <p:nvPr/>
        </p:nvPicPr>
        <p:blipFill>
          <a:blip r:embed="rId2"/>
          <a:stretch/>
        </p:blipFill>
        <p:spPr>
          <a:xfrm>
            <a:off x="8381880" y="76320"/>
            <a:ext cx="42876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6107760" y="228600"/>
            <a:ext cx="2759400" cy="368280"/>
          </a:xfrm>
          <a:prstGeom prst="rect">
            <a:avLst/>
          </a:prstGeom>
          <a:solidFill>
            <a:srgbClr val="e9d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нимание!!! Изменения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Таблица 2" descr=""/>
          <p:cNvPicPr/>
          <p:nvPr/>
        </p:nvPicPr>
        <p:blipFill>
          <a:blip r:embed="rId1"/>
          <a:stretch/>
        </p:blipFill>
        <p:spPr>
          <a:xfrm>
            <a:off x="804960" y="665280"/>
            <a:ext cx="7596000" cy="3035160"/>
          </a:xfrm>
          <a:prstGeom prst="rect">
            <a:avLst/>
          </a:prstGeom>
          <a:ln w="0">
            <a:noFill/>
          </a:ln>
        </p:spPr>
      </p:pic>
      <p:sp>
        <p:nvSpPr>
          <p:cNvPr id="293" name="TextBox 3"/>
          <p:cNvSpPr/>
          <p:nvPr/>
        </p:nvSpPr>
        <p:spPr>
          <a:xfrm>
            <a:off x="1328760" y="2544840"/>
            <a:ext cx="7129440" cy="1191240"/>
          </a:xfrm>
          <a:prstGeom prst="rect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жности младшего медицинского персонала  исключ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сло должностей (штатных/занятых), число физических лиц врачей должно соответствовать данным таблицы 0100+таблица 0600 по соответствующим строкам и таблице 1800 (строка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927000" y="3962520"/>
          <a:ext cx="7531200" cy="1355760"/>
        </p:xfrm>
        <a:graphic>
          <a:graphicData uri="http://schemas.openxmlformats.org/drawingml/2006/table">
            <a:tbl>
              <a:tblPr/>
              <a:tblGrid>
                <a:gridCol w="1846440"/>
                <a:gridCol w="365040"/>
                <a:gridCol w="1065240"/>
                <a:gridCol w="1063440"/>
                <a:gridCol w="1063800"/>
                <a:gridCol w="1063440"/>
                <a:gridCol w="1063800"/>
              </a:tblGrid>
              <a:tr h="121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пансе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коек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фактически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ернутых + свернутых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ремон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годовые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й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ило пациентов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ения, оказывающие медицинскую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ощь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ельских жителей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из гр. 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семи пациентами койко-дн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3e5"/>
                    </a:solidFill>
                  </a:tcPr>
                </a:tc>
              </a:tr>
              <a:tr h="137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  <p:sp>
        <p:nvSpPr>
          <p:cNvPr id="295" name="Rectangle 108"/>
          <p:cNvSpPr/>
          <p:nvPr/>
        </p:nvSpPr>
        <p:spPr>
          <a:xfrm>
            <a:off x="304920" y="190440"/>
            <a:ext cx="1600200" cy="381240"/>
          </a:xfrm>
          <a:prstGeom prst="rect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блица 0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Прямоугольник: скругленные углы 7"/>
          <p:cNvSpPr/>
          <p:nvPr/>
        </p:nvSpPr>
        <p:spPr>
          <a:xfrm>
            <a:off x="927000" y="5791320"/>
            <a:ext cx="753120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по графам 9-13 (строка 10) должны быть равны данным в таблице 0100, графа 8-12 по строке 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Дуга 1"/>
          <p:cNvSpPr/>
          <p:nvPr/>
        </p:nvSpPr>
        <p:spPr>
          <a:xfrm rot="5776800">
            <a:off x="2764800" y="1394640"/>
            <a:ext cx="674640" cy="914400"/>
          </a:xfrm>
          <a:custGeom>
            <a:avLst/>
            <a:gdLst/>
            <a:ahLst/>
            <a:rect l="l" t="t" r="r" b="b"/>
            <a:pathLst>
              <a:path stroke="0" w="674688" h="914400">
                <a:moveTo>
                  <a:pt x="337344" y="0"/>
                </a:moveTo>
                <a:cubicBezTo>
                  <a:pt x="504254" y="0"/>
                  <a:pt x="646072" y="165428"/>
                  <a:pt x="670927" y="389118"/>
                </a:cubicBezTo>
                <a:cubicBezTo>
                  <a:pt x="691586" y="575048"/>
                  <a:pt x="626148" y="759162"/>
                  <a:pt x="505995" y="853163"/>
                </a:cubicBezTo>
                <a:lnTo>
                  <a:pt x="337344" y="457200"/>
                </a:lnTo>
                <a:lnTo>
                  <a:pt x="337344" y="0"/>
                </a:lnTo>
                <a:close/>
              </a:path>
              <a:path fill="none" w="674688" h="914400">
                <a:moveTo>
                  <a:pt x="337344" y="0"/>
                </a:moveTo>
                <a:cubicBezTo>
                  <a:pt x="504254" y="0"/>
                  <a:pt x="646072" y="165428"/>
                  <a:pt x="670927" y="389118"/>
                </a:cubicBezTo>
                <a:cubicBezTo>
                  <a:pt x="691586" y="575048"/>
                  <a:pt x="626148" y="759162"/>
                  <a:pt x="505995" y="853163"/>
                </a:cubicBezTo>
              </a:path>
            </a:pathLst>
          </a:custGeom>
          <a:noFill/>
          <a:ln w="284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Прямая соединительная линия 5"/>
          <p:cNvSpPr/>
          <p:nvPr/>
        </p:nvSpPr>
        <p:spPr>
          <a:xfrm>
            <a:off x="2954160" y="1905120"/>
            <a:ext cx="327240" cy="0"/>
          </a:xfrm>
          <a:prstGeom prst="line">
            <a:avLst/>
          </a:prstGeom>
          <a:ln w="414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3"/>
          <p:cNvSpPr/>
          <p:nvPr/>
        </p:nvSpPr>
        <p:spPr>
          <a:xfrm>
            <a:off x="30240" y="-7920"/>
            <a:ext cx="9113760" cy="617400"/>
          </a:xfrm>
          <a:prstGeom prst="rect">
            <a:avLst/>
          </a:prstGeom>
          <a:solidFill>
            <a:srgbClr val="ddd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Рисунок 4" descr=""/>
          <p:cNvPicPr/>
          <p:nvPr/>
        </p:nvPicPr>
        <p:blipFill>
          <a:blip r:embed="rId1"/>
          <a:stretch/>
        </p:blipFill>
        <p:spPr>
          <a:xfrm>
            <a:off x="8534520" y="50760"/>
            <a:ext cx="428400" cy="50184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: скругленные углы 1"/>
          <p:cNvSpPr/>
          <p:nvPr/>
        </p:nvSpPr>
        <p:spPr>
          <a:xfrm>
            <a:off x="685800" y="1600200"/>
            <a:ext cx="8077320" cy="2286000"/>
          </a:xfrm>
          <a:prstGeom prst="roundRect">
            <a:avLst>
              <a:gd name="adj" fmla="val 16667"/>
            </a:avLst>
          </a:prstGeom>
          <a:solidFill>
            <a:srgbClr val="e9d3bd">
              <a:alpha val="47000"/>
            </a:srgbClr>
          </a:solidFill>
          <a:ln w="15840">
            <a:solidFill>
              <a:srgbClr val="9966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. МЕДИЦИНСКИЕ ОРГАНИЗАЦИИ, ОКАЗЫВАЮЩ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ДИЦИНСКУЮ ПОМОЩЬ В АМБУЛАТОРНЫ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ЛОВИЯХ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МБУЛАТОРИИ, ПОЛИКЛИНИКИ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НСКИЕ КОНСУЛЬТАЦИИ, ДИСПАНСЕРЫ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НТРЫ 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И ОСОБОГО ТИП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З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КЛЮЧЕНИЕМ СТОМАТОЛОГИЧЕСК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КЛИНИК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Прямоугольник: скругленные углы 2"/>
          <p:cNvSpPr/>
          <p:nvPr/>
        </p:nvSpPr>
        <p:spPr>
          <a:xfrm>
            <a:off x="6705720" y="411480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8"/>
          <p:cNvSpPr/>
          <p:nvPr/>
        </p:nvSpPr>
        <p:spPr>
          <a:xfrm>
            <a:off x="457200" y="457200"/>
            <a:ext cx="152388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5410080" y="4572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Внимание! Изменения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52280" y="838080"/>
          <a:ext cx="8763120" cy="4846680"/>
        </p:xfrm>
        <a:graphic>
          <a:graphicData uri="http://schemas.openxmlformats.org/drawingml/2006/table">
            <a:tbl>
              <a:tblPr/>
              <a:tblGrid>
                <a:gridCol w="2536920"/>
                <a:gridCol w="460440"/>
                <a:gridCol w="660240"/>
                <a:gridCol w="609840"/>
                <a:gridCol w="685800"/>
                <a:gridCol w="685800"/>
                <a:gridCol w="761760"/>
                <a:gridCol w="1516320"/>
                <a:gridCol w="84600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к врачам, включая профилактические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без посещений к стоматологам и зубным врача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 на дому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без посещений к стоматологам и зубным врача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3bd"/>
                    </a:solidFill>
                  </a:tcPr>
                </a:tc>
              </a:tr>
              <a:tr h="209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чинения субъекта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ого подчи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ные в сельской мес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лин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участвующие в создании и тиражировании «Новой модели медицинской организ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поликли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участвующие в создании и тиражировании «Новой модели медицинской организ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консуль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06" name="Схема 1" descr=""/>
          <p:cNvPicPr/>
          <p:nvPr/>
        </p:nvPicPr>
        <p:blipFill>
          <a:blip r:embed="rId1"/>
          <a:stretch/>
        </p:blipFill>
        <p:spPr>
          <a:xfrm>
            <a:off x="3267000" y="2987640"/>
            <a:ext cx="5585040" cy="97488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876"/>
          <p:cNvSpPr/>
          <p:nvPr/>
        </p:nvSpPr>
        <p:spPr>
          <a:xfrm>
            <a:off x="152280" y="5410080"/>
            <a:ext cx="8763120" cy="45720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В ф.30, таблица  1100 – изменена нумерация стр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Рисунок 9" descr=""/>
          <p:cNvPicPr/>
          <p:nvPr/>
        </p:nvPicPr>
        <p:blipFill>
          <a:blip r:embed="rId2"/>
          <a:stretch/>
        </p:blipFill>
        <p:spPr>
          <a:xfrm>
            <a:off x="8334360" y="228600"/>
            <a:ext cx="428760" cy="50148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: скругленные углы 3"/>
          <p:cNvSpPr/>
          <p:nvPr/>
        </p:nvSpPr>
        <p:spPr>
          <a:xfrm>
            <a:off x="3276720" y="4071960"/>
            <a:ext cx="556236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афы 8, 9 заполняются на основании данных ФФСН №30 таблицы 2100 без учета деяте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оматологов по срокам 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87, 88, 89, 90,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Стрелка: вправо 4"/>
          <p:cNvSpPr/>
          <p:nvPr/>
        </p:nvSpPr>
        <p:spPr>
          <a:xfrm rot="16200000">
            <a:off x="6980760" y="4224600"/>
            <a:ext cx="770040" cy="2365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fe3e5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Таблица 1" descr=""/>
          <p:cNvPicPr/>
          <p:nvPr/>
        </p:nvPicPr>
        <p:blipFill>
          <a:blip r:embed="rId1"/>
          <a:stretch/>
        </p:blipFill>
        <p:spPr>
          <a:xfrm>
            <a:off x="523800" y="901800"/>
            <a:ext cx="8029800" cy="521316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08"/>
          <p:cNvSpPr/>
          <p:nvPr/>
        </p:nvSpPr>
        <p:spPr>
          <a:xfrm>
            <a:off x="457200" y="457200"/>
            <a:ext cx="1523880" cy="3049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Таблица 0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5334120" y="4572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Внимание! Изменения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Прямоугольник: скругленные углы 7"/>
          <p:cNvSpPr/>
          <p:nvPr/>
        </p:nvSpPr>
        <p:spPr>
          <a:xfrm>
            <a:off x="3932280" y="2743200"/>
            <a:ext cx="4602240" cy="16002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строке 3.2  показываем детские поликлиники с современной инфраструктур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 строке 11.1 – центры консультативно-диагностические с современной инфраструктур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Данные ------ федеральный проек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Прямоугольник: скругленные углы 8"/>
          <p:cNvSpPr/>
          <p:nvPr/>
        </p:nvSpPr>
        <p:spPr>
          <a:xfrm>
            <a:off x="4038480" y="4495680"/>
            <a:ext cx="4496040" cy="914400"/>
          </a:xfrm>
          <a:prstGeom prst="roundRect">
            <a:avLst>
              <a:gd name="adj" fmla="val 16667"/>
            </a:avLst>
          </a:prstGeom>
          <a:solidFill>
            <a:srgbClr val="e9d3bd"/>
          </a:solidFill>
          <a:ln w="158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alibri"/>
              </a:rPr>
              <a:t>Строка 5 - переименов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6" name="Прямая со стрелкой 10"/>
          <p:cNvCxnSpPr>
            <a:endCxn id="315" idx="1"/>
          </p:cNvCxnSpPr>
          <p:nvPr/>
        </p:nvCxnSpPr>
        <p:spPr>
          <a:xfrm>
            <a:off x="3352320" y="4495680"/>
            <a:ext cx="686520" cy="45792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317" name="Рисунок 9" descr=""/>
          <p:cNvPicPr/>
          <p:nvPr/>
        </p:nvPicPr>
        <p:blipFill>
          <a:blip r:embed="rId2"/>
          <a:stretch/>
        </p:blipFill>
        <p:spPr>
          <a:xfrm>
            <a:off x="8334360" y="228600"/>
            <a:ext cx="428760" cy="501480"/>
          </a:xfrm>
          <a:prstGeom prst="rect">
            <a:avLst/>
          </a:prstGeom>
          <a:ln w="0">
            <a:noFill/>
          </a:ln>
        </p:spPr>
      </p:pic>
      <p:cxnSp>
        <p:nvCxnSpPr>
          <p:cNvPr id="318" name="Прямая со стрелкой 12"/>
          <p:cNvCxnSpPr/>
          <p:nvPr/>
        </p:nvCxnSpPr>
        <p:spPr>
          <a:xfrm flipV="1">
            <a:off x="3377880" y="4095000"/>
            <a:ext cx="554760" cy="163260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19" name="Прямая со стрелкой 15"/>
          <p:cNvCxnSpPr/>
          <p:nvPr/>
        </p:nvCxnSpPr>
        <p:spPr>
          <a:xfrm flipV="1">
            <a:off x="3527280" y="3695400"/>
            <a:ext cx="558000" cy="1800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Надежда Я. Несветайло</cp:lastModifiedBy>
  <cp:lastPrinted>2020-11-30T08:54:48Z</cp:lastPrinted>
  <dcterms:modified xsi:type="dcterms:W3CDTF">2021-12-07T13:55:17Z</dcterms:modified>
  <cp:revision>1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