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CB22-427F-4153-8FC7-CD4560860F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F68C-B9D4-4B68-ABBD-1B8A5F5D73E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1700-4831-4F6A-916E-E916AD44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0ADE-072D-4F78-8FBA-272CA23E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4BCC-66E3-4954-8099-624318E3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C240-0CE9-4E42-AF91-2BC01FF2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F44B-88F8-4176-9555-BF628339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57AD-62D4-4BEA-815B-9F90DAC8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4B7E-A7DD-411C-B0FD-25510D39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C9C1-A884-4E73-8EEE-B931DF6E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54A7-2B4E-418E-9D5F-86874BE8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A9EC-E8BA-46BE-A799-1159E7E6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660A-B5FD-4A85-BD61-D0C7BF3A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F24C-A12C-4A78-ACBC-BFF6349D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76D5-BA62-476F-A97F-8287714C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0EE1-04FC-4E56-9DF9-85A33AD2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675F-A23C-489D-82E8-B5B3A1F0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FEF2-D566-49B4-B93F-D3C0B779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EEA2-7AA1-4392-A855-1D795E33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89BE05-9ABC-4514-AEBC-45EFE3D9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576FB-5614-46BE-A975-86F36A6B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F04A37-1B5A-498A-9EAC-9631C1F5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D18CF0-4C7B-442A-A603-D9551244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86CE70-052A-4BE5-986B-F1D8AC3F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8399-52D5-41B4-AEAD-5C17AA61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77A361-A029-4928-811F-DC354B3D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2553FB-2B99-4667-ADC3-279F7434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6B123-3CB6-461E-9D84-3DFD9FFF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1AF3B3-B082-41D6-92AF-88B8BB9B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178C85-25A0-49DC-B345-21D70B83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E6FFF3-4817-4D87-A8CE-2143EFD6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AE0E1C-08C9-4B01-B2BD-E0ABF1F8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31D206-6495-4E36-86CC-331DAF3E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682456-6466-49A0-BF52-20D75BAD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B654F3-D611-4642-9DD4-58E8A8D6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9AB9-E4A1-416A-BF2B-47741A05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BA6F08-9672-462F-990F-757A2670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F9FA2B-C94D-4357-BC0D-74CEA659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C875C5-4A10-44A8-A962-60DCEBF5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61F512-F90C-4355-80AB-C424B892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DC67F0-FE46-4607-8C3F-49C06C3C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CD384E-DA84-4050-91B3-85C673E6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D34F70-6792-49D1-B132-5C0382DA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59E347-35B0-402D-9D0C-B4DEFE9C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794440-19B2-473D-AD65-7D728CB4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4E95-5868-40F1-8C1E-94A0ACFD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55A1-E1A5-4705-B1D5-4B436A28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4081-6EA1-4419-8722-58396885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A3AE-EC8C-423A-A2CE-D56DCDF5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C51F-E4A5-46E2-BC9F-38799296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73EE-9FC5-4CC8-A4F3-3AFC29454E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C230-6ECD-4C95-A0BC-3B8B15BF97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2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44F1-8052-4FC8-9A12-5718CA7F74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76EE-3E19-4B14-8873-E2A3E03CAE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Сведения о контингентах больных с психическими расстройствами, находящихся на активном диспансерном наблюдении и на принудительном лечении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” 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(Форма № 36-ПЛ) 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132000" y="4221000"/>
            <a:ext cx="5554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ГБУ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МИЦПН имени В.П.Сербског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инзд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дел судебно-психиатрической профилак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зько Наталья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арабидзе Нино Гурам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сновы предварительной подготовки отче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684360" y="1844640"/>
            <a:ext cx="755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Использование программы «ТЕРПИНС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Сравнение с показателями предыдущего г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Подготовка пояснительных записок по проблемным показателя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8"/>
          <p:cNvSpPr/>
          <p:nvPr/>
        </p:nvSpPr>
        <p:spPr>
          <a:xfrm>
            <a:off x="0" y="404640"/>
            <a:ext cx="9499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тингенты больных, находящихся под активны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пансерным наблюдением  АДН ( таблица 21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роверка показателя «группы риска» (р.з.15-30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2110, п.3 число снятых с АДН в связи с отсутств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дений в течение года (р.з.2-3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2130,п. 2 сопоставить с показателем находящихся 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ционарном ПЛ (сумма строк 5 и 6 гр.14 таб.2200)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РФ за 2019г. - 39,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1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280" y="1989000"/>
            <a:ext cx="81471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итель:  сумма строк 5 и 6 по гр.8 таблицы 2100 формы 36-ПЛ минус сумма строк 5 и 6 гр.10 той же табл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менатель: сумма строк 5 и 6 по гр.8 таблицы 2100 формы 36-П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ножить на 1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очтительное значение от 15 до 3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395280" y="11592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асчёт показателя, характеризующего формирование группы АДН (%% больных, поставленных под АДН и не совершивших в течение жизни ООД –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группа риск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”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0080" y="15840"/>
            <a:ext cx="8677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3e3ff"/>
                </a:solidFill>
                <a:latin typeface="Arial"/>
              </a:rPr>
              <a:t>Контингенты больных, находящихся на принудительном наблюдении и лечении у психиатра в амбулаторных условиях (ПНЛА)</a:t>
            </a:r>
            <a:endParaRPr b="0" lang="en-US" sz="3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1773000"/>
            <a:ext cx="8391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таблицы 2140- 21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оотношение числа находящихся на  ПНЛА ко всем лицам с ПММХ (38,5% по РФ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Средняя продолжительность ПНЛА (по РФ в 2019г. – 625 дне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2190,п.1 – совершившие новое ООД в отчетном году (по РФ снижение показателя в течение 10 лет с 5 до 3,2% в 2018г., 3,9% в 2019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Не поступившие в ПС после ПН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Состав больных, находящихся на принудительном лечении в психиатрических стационар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отношение видов ПЛ (гр.14 стр.9 и 11 к сумме стр.5 и 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Длительность стационарного П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ичины длительности пребывания (от 5 до 10 лет и больше 10 лет – 22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ценка летальности (по РФ 1,5 % в 2018г., 1,3 % в 2019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Фиксировать нападения больных в период ПЛ (224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09120" y="404640"/>
            <a:ext cx="8001000" cy="59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полнительные свед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жно получить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-mail: sharabidze.n@serbsky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cc"/>
                </a:solidFill>
                <a:latin typeface="Arial"/>
              </a:rPr>
              <a:t>тел. 8(495) 637-58-44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ай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ГБУ «НМИЦПН им. В.П. Сербского» Минздрава России 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bsky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ПЦ ПЗДП ДЗМ или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pb6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л.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 (495) 952-54-39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установки программы ТЕРПИНС-9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запустить установочный файл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SETUP_TERPINS9.EX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6:52:47Z</dcterms:created>
  <dc:creator>gv</dc:creator>
  <dc:description/>
  <dc:language>en-US</dc:language>
  <cp:lastModifiedBy>Наталья Викторовна Лазько</cp:lastModifiedBy>
  <cp:lastPrinted>2017-12-07T17:18:35Z</cp:lastPrinted>
  <dcterms:modified xsi:type="dcterms:W3CDTF">2020-11-23T13:09:44Z</dcterms:modified>
  <cp:revision>801</cp:revision>
  <dc:subject/>
  <dc:title>Таблица 1 Состав невменяемых психически больных по характеру рекомендованных медицинских мер (в %) в 2005 г. Дальневосточный федеральный округ РФ</dc:title>
</cp:coreProperties>
</file>