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7498-71D8-40C3-823B-3B9002CFFC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7C15-A00B-48D1-AF38-8620C76344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EE8BCE-DC50-4C9F-B09A-064BCA1EC6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2F78-9C20-4897-AEDD-B254387F16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0D53-3D4D-440F-A6F2-0939499CF7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BE5D-B70E-44A9-9BFD-08316C6FB5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69D5-01AB-4EA4-9BC1-9C99C4C2D1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02FC-9566-4AEC-9400-DA2C023B46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C57-786F-4744-AC4A-AAD629A7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6C0-643A-4A62-8FC6-601842A7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B0C-C784-4E5D-9879-E7363F14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3AA-ED61-4A25-966F-12D592C7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D15-5A47-4126-96FC-5323B626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A13-1C06-47BF-A52A-FF6D2AED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0B9-7EB1-4519-AA39-0625BAF1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3FC-FC03-4C75-9A80-9AF28948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A40-1BB8-48C5-8FD1-89F58BE9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A4C-C52E-4298-AAC3-AD5A02E9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CDD-9C6A-45F5-A6AB-BBA9A4CD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AAB-4536-40C0-A7D7-CCEFA50C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B20A-8C97-4D50-9B66-9AB3A0588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19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5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5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5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6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6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6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7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7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7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19 апреля 2019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&lt; = 30.2120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&lt; =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268280"/>
          <a:ext cx="8715600" cy="5400720"/>
        </p:xfrm>
        <a:graphic>
          <a:graphicData uri="http://schemas.openxmlformats.org/drawingml/2006/table">
            <a:tbl>
              <a:tblPr/>
              <a:tblGrid>
                <a:gridCol w="4537080"/>
                <a:gridCol w="503280"/>
                <a:gridCol w="916200"/>
                <a:gridCol w="1306440"/>
                <a:gridCol w="1452600"/>
              </a:tblGrid>
              <a:tr h="14320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480" y="1857240"/>
            <a:ext cx="8372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344920"/>
            <a:ext cx="8015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полненных вызов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1413000"/>
          <a:ext cx="7561080" cy="39988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765000"/>
          <a:ext cx="8643960" cy="530100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863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вызовов (обращений) для оказания медицинской помощи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7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травмоцентры 1 и 2 уров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еста дорожно-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6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9 г. по сравнению с 2018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+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= &lt; 30.1060.1.03 + 30.1060.2.03 + 30.1060.3.03+ 30.1060.4.03 + 30.1060.5.03 + 30.1060.6.03 + 30.1060.7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941400"/>
                <a:gridCol w="1251000"/>
                <a:gridCol w="1249200"/>
                <a:gridCol w="1251000"/>
                <a:gridCol w="1251000"/>
              </a:tblGrid>
              <a:tr h="352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7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5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9-12-10T04:45:47Z</dcterms:modified>
  <cp:revision>457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