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70A717-24CD-4C60-BA2F-0C165F752134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29B2EA-1EC6-4549-B7F7-B18CB2BB3D70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E978D1-024A-4EFB-8C55-AC817A0A6B32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09733B-2C19-416E-9C7B-EA2A7572294A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F3B52D-37D1-4EA5-AD76-7027EA1BFFA3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601053-6489-4A59-9FCA-5DF7A3C0D35C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3F9B0C-18AE-46DB-AB9E-3BBE5E3453D6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936C-A035-481C-8D5D-567743DD2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E201-EA81-4D81-8967-14E9AB7B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7193-EFDF-409F-AD02-D3197B020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09F7-7E7B-4E9B-A7CD-B225F4E43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A8AF-3A6C-4809-912B-4CCD5F39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BB70-AF1C-4026-BC51-29F212A6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BA37-96BA-495A-8BD2-EB7D00BF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C457-A774-42A1-BF15-CF4FC416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67CA-17C3-4CF1-BD26-AD72B445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67EE-F781-4B40-B772-E54019A9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B0A7-7C85-4202-BBC2-D62C9776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2F39-7609-4714-BCB9-5FA48516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300921-CEE2-4F64-891E-4061B2409C9C}" type="slidenum">
              <a:rPr b="0" lang="en-US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850760"/>
            <a:ext cx="100710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1720" y="4220640"/>
            <a:ext cx="59580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бенник Татьяна Константин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grebennik@oparina4.ru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ий организационно-методическим отдело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БУ «НМИЦ АГП им. В.И. Кулакова» МЗ РФ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1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декабрь, 2019 г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10495080" y="136440"/>
            <a:ext cx="1697040" cy="13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3"/>
          <p:cNvSpPr/>
          <p:nvPr/>
        </p:nvSpPr>
        <p:spPr>
          <a:xfrm>
            <a:off x="1308240" y="2857680"/>
            <a:ext cx="416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 Таблица 2100 графа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Прямоугольная выноска 4"/>
          <p:cNvSpPr/>
          <p:nvPr/>
        </p:nvSpPr>
        <p:spPr>
          <a:xfrm>
            <a:off x="5473800" y="2298600"/>
            <a:ext cx="6159240" cy="3988080"/>
          </a:xfrm>
          <a:prstGeom prst="wedgeRectCallout">
            <a:avLst>
              <a:gd name="adj1" fmla="val -88412"/>
              <a:gd name="adj2" fmla="val 2328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6.02.2012 N 98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социальном показании для искусственного прерывания беременности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м показанием для искусственного прерывания беременности является беременность, наступившая в результате совершения преступления, предусмотренног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ей 131 Уголовн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10"/>
          <p:cNvSpPr/>
          <p:nvPr/>
        </p:nvSpPr>
        <p:spPr>
          <a:xfrm>
            <a:off x="2006640" y="684360"/>
            <a:ext cx="816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Прямоугольник 11"/>
          <p:cNvSpPr/>
          <p:nvPr/>
        </p:nvSpPr>
        <p:spPr>
          <a:xfrm>
            <a:off x="1752480" y="19432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тельно заполняем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1,04+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1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.6,03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Прямоугольник 4"/>
          <p:cNvSpPr/>
          <p:nvPr/>
        </p:nvSpPr>
        <p:spPr>
          <a:xfrm flipH="1">
            <a:off x="673200" y="1066680"/>
            <a:ext cx="1095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6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 поводу внематочной беременности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7,04+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7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1,03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2387520" y="2781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2" name="Рисунок 14" descr=""/>
          <p:cNvPicPr/>
          <p:nvPr/>
        </p:nvPicPr>
        <p:blipFill>
          <a:blip r:embed="rId1"/>
          <a:stretch/>
        </p:blipFill>
        <p:spPr>
          <a:xfrm>
            <a:off x="9997920" y="136440"/>
            <a:ext cx="21942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1120" y="577800"/>
            <a:ext cx="87728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лняется полностью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Рисунок 4" descr=""/>
          <p:cNvPicPr/>
          <p:nvPr/>
        </p:nvPicPr>
        <p:blipFill>
          <a:blip r:embed="rId1"/>
          <a:stretch/>
        </p:blipFill>
        <p:spPr>
          <a:xfrm>
            <a:off x="10339560" y="136440"/>
            <a:ext cx="1852560" cy="1440000"/>
          </a:xfrm>
          <a:prstGeom prst="rect">
            <a:avLst/>
          </a:prstGeom>
          <a:ln w="0">
            <a:noFill/>
          </a:ln>
        </p:spPr>
      </p:pic>
      <p:pic>
        <p:nvPicPr>
          <p:cNvPr id="54" name="Объект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62000" y="2225520"/>
            <a:ext cx="848052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52200" y="420840"/>
            <a:ext cx="784548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учетная медицинская документация для формы № 13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Объект 4" descr=""/>
          <p:cNvPicPr/>
          <p:nvPr/>
        </p:nvPicPr>
        <p:blipFill>
          <a:blip r:embed="rId1"/>
          <a:stretch/>
        </p:blipFill>
        <p:spPr>
          <a:xfrm>
            <a:off x="1962000" y="1841400"/>
            <a:ext cx="7993080" cy="4005360"/>
          </a:xfrm>
          <a:prstGeom prst="rect">
            <a:avLst/>
          </a:prstGeom>
          <a:ln w="0">
            <a:noFill/>
          </a:ln>
        </p:spPr>
      </p:pic>
      <p:sp>
        <p:nvSpPr>
          <p:cNvPr id="57" name="Нижний колонтитул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2"/>
          <a:stretch/>
        </p:blipFill>
        <p:spPr>
          <a:xfrm>
            <a:off x="10395000" y="136440"/>
            <a:ext cx="1797120" cy="13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0" name="Группа 13"/>
          <p:cNvGrpSpPr/>
          <p:nvPr/>
        </p:nvGrpSpPr>
        <p:grpSpPr>
          <a:xfrm>
            <a:off x="654120" y="1501920"/>
            <a:ext cx="10101240" cy="4957560"/>
            <a:chOff x="654120" y="1501920"/>
            <a:chExt cx="10101240" cy="4957560"/>
          </a:xfrm>
        </p:grpSpPr>
        <p:pic>
          <p:nvPicPr>
            <p:cNvPr id="61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1501920"/>
              <a:ext cx="10101240" cy="49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5"/>
            <p:cNvSpPr/>
            <p:nvPr/>
          </p:nvSpPr>
          <p:spPr>
            <a:xfrm>
              <a:off x="834120" y="2248920"/>
              <a:ext cx="99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000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3" name="TextBox 7"/>
            <p:cNvSpPr/>
            <p:nvPr/>
          </p:nvSpPr>
          <p:spPr>
            <a:xfrm>
              <a:off x="1253880" y="3655440"/>
              <a:ext cx="10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4" name="TextBox 12"/>
            <p:cNvSpPr/>
            <p:nvPr/>
          </p:nvSpPr>
          <p:spPr>
            <a:xfrm>
              <a:off x="871920" y="5184720"/>
              <a:ext cx="11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000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65" name="TextBox 14"/>
          <p:cNvSpPr/>
          <p:nvPr/>
        </p:nvSpPr>
        <p:spPr>
          <a:xfrm>
            <a:off x="6700680" y="99360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2 недель беременност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6" name="Рисунок 11" descr=""/>
          <p:cNvPicPr/>
          <p:nvPr/>
        </p:nvPicPr>
        <p:blipFill>
          <a:blip r:embed="rId2"/>
          <a:stretch/>
        </p:blipFill>
        <p:spPr>
          <a:xfrm>
            <a:off x="9987120" y="136440"/>
            <a:ext cx="2205000" cy="1714680"/>
          </a:xfrm>
          <a:prstGeom prst="rect">
            <a:avLst/>
          </a:prstGeom>
          <a:ln w="0">
            <a:noFill/>
          </a:ln>
        </p:spPr>
      </p:pic>
      <p:sp>
        <p:nvSpPr>
          <p:cNvPr id="67" name="TextBox 15"/>
          <p:cNvSpPr/>
          <p:nvPr/>
        </p:nvSpPr>
        <p:spPr>
          <a:xfrm>
            <a:off x="654120" y="132408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9" name="Группа 13"/>
          <p:cNvGrpSpPr/>
          <p:nvPr/>
        </p:nvGrpSpPr>
        <p:grpSpPr>
          <a:xfrm>
            <a:off x="654120" y="2133720"/>
            <a:ext cx="10101240" cy="4325760"/>
            <a:chOff x="654120" y="2133720"/>
            <a:chExt cx="10101240" cy="4325760"/>
          </a:xfrm>
        </p:grpSpPr>
        <p:pic>
          <p:nvPicPr>
            <p:cNvPr id="70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2133720"/>
              <a:ext cx="10101240" cy="43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Box 5"/>
            <p:cNvSpPr/>
            <p:nvPr/>
          </p:nvSpPr>
          <p:spPr>
            <a:xfrm>
              <a:off x="871920" y="2783880"/>
              <a:ext cx="18468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72" name="TextBox 7"/>
            <p:cNvSpPr/>
            <p:nvPr/>
          </p:nvSpPr>
          <p:spPr>
            <a:xfrm>
              <a:off x="1125720" y="4005000"/>
              <a:ext cx="107424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73" name="TextBox 12"/>
            <p:cNvSpPr/>
            <p:nvPr/>
          </p:nvSpPr>
          <p:spPr>
            <a:xfrm>
              <a:off x="871920" y="5346360"/>
              <a:ext cx="117180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74" name="TextBox 14"/>
          <p:cNvSpPr/>
          <p:nvPr/>
        </p:nvSpPr>
        <p:spPr>
          <a:xfrm>
            <a:off x="5251320" y="175248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75" name="Рисунок 11" descr=""/>
          <p:cNvPicPr/>
          <p:nvPr/>
        </p:nvPicPr>
        <p:blipFill>
          <a:blip r:embed="rId2"/>
          <a:stretch/>
        </p:blipFill>
        <p:spPr>
          <a:xfrm>
            <a:off x="9987120" y="136440"/>
            <a:ext cx="2205000" cy="1714680"/>
          </a:xfrm>
          <a:prstGeom prst="rect">
            <a:avLst/>
          </a:prstGeom>
          <a:ln w="0">
            <a:noFill/>
          </a:ln>
        </p:spPr>
      </p:pic>
      <p:sp>
        <p:nvSpPr>
          <p:cNvPr id="76" name="TextBox 16"/>
          <p:cNvSpPr/>
          <p:nvPr/>
        </p:nvSpPr>
        <p:spPr>
          <a:xfrm>
            <a:off x="1054080" y="278460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1425600" y="404496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TextBox 18"/>
          <p:cNvSpPr/>
          <p:nvPr/>
        </p:nvSpPr>
        <p:spPr>
          <a:xfrm>
            <a:off x="1054080" y="530856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80" name="Группа 13"/>
          <p:cNvGrpSpPr/>
          <p:nvPr/>
        </p:nvGrpSpPr>
        <p:grpSpPr>
          <a:xfrm>
            <a:off x="762120" y="1176480"/>
            <a:ext cx="7958160" cy="4956120"/>
            <a:chOff x="762120" y="1176480"/>
            <a:chExt cx="7958160" cy="4956120"/>
          </a:xfrm>
        </p:grpSpPr>
        <p:pic>
          <p:nvPicPr>
            <p:cNvPr id="81" name="Схема 2" descr=""/>
            <p:cNvPicPr/>
            <p:nvPr/>
          </p:nvPicPr>
          <p:blipFill>
            <a:blip r:embed="rId1"/>
            <a:stretch/>
          </p:blipFill>
          <p:spPr>
            <a:xfrm>
              <a:off x="762120" y="1176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Box 5"/>
            <p:cNvSpPr/>
            <p:nvPr/>
          </p:nvSpPr>
          <p:spPr>
            <a:xfrm>
              <a:off x="1356840" y="18990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1728360" y="34272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84" name="TextBox 12"/>
            <p:cNvSpPr/>
            <p:nvPr/>
          </p:nvSpPr>
          <p:spPr>
            <a:xfrm>
              <a:off x="1316160" y="490428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85" name="Прямоугольник 11"/>
          <p:cNvSpPr/>
          <p:nvPr/>
        </p:nvSpPr>
        <p:spPr>
          <a:xfrm>
            <a:off x="566640" y="2957400"/>
            <a:ext cx="1100448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аборты у девочек в возрасте до 14 лет вкл. считаются как аборты по медицинским показаниям, в силу физиологической незрелости организм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86" name="Рисунок 14" descr=""/>
          <p:cNvPicPr/>
          <p:nvPr/>
        </p:nvPicPr>
        <p:blipFill>
          <a:blip r:embed="rId2"/>
          <a:stretch/>
        </p:blipFill>
        <p:spPr>
          <a:xfrm>
            <a:off x="9987120" y="136440"/>
            <a:ext cx="2205000" cy="1714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566640" y="4322880"/>
          <a:ext cx="11004480" cy="2431800"/>
        </p:xfrm>
        <a:graphic>
          <a:graphicData uri="http://schemas.openxmlformats.org/drawingml/2006/table">
            <a:tbl>
              <a:tblPr/>
              <a:tblGrid>
                <a:gridCol w="2200320"/>
                <a:gridCol w="2201760"/>
                <a:gridCol w="2200320"/>
                <a:gridCol w="2202120"/>
                <a:gridCol w="2199960"/>
              </a:tblGrid>
              <a:tr h="204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прожива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д. организация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де произведено прерывание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, возраст на момент госпит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изводства аб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 (МКБ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особ прерывания берем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3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660240" y="2805120"/>
          <a:ext cx="108586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13360"/>
                <a:gridCol w="530280"/>
                <a:gridCol w="909360"/>
                <a:gridCol w="1060560"/>
                <a:gridCol w="835200"/>
                <a:gridCol w="833400"/>
                <a:gridCol w="833400"/>
                <a:gridCol w="833400"/>
                <a:gridCol w="8334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89" name="Прямоугольная выноска 2"/>
          <p:cNvSpPr/>
          <p:nvPr/>
        </p:nvSpPr>
        <p:spPr>
          <a:xfrm>
            <a:off x="5246640" y="5254560"/>
            <a:ext cx="2435400" cy="1425600"/>
          </a:xfrm>
          <a:prstGeom prst="wedgeRectCallout">
            <a:avLst>
              <a:gd name="adj1" fmla="val 50722"/>
              <a:gd name="adj2" fmla="val -94875"/>
            </a:avLst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Прямоугольная выноска 4"/>
          <p:cNvSpPr/>
          <p:nvPr/>
        </p:nvSpPr>
        <p:spPr>
          <a:xfrm>
            <a:off x="9248760" y="3828960"/>
            <a:ext cx="2435400" cy="1425600"/>
          </a:xfrm>
          <a:prstGeom prst="wedgeRectCallout">
            <a:avLst>
              <a:gd name="adj1" fmla="val -99995"/>
              <a:gd name="adj2" fmla="val 2226"/>
            </a:avLst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3. таблица 1101, стр.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92" name="Рисунок 14" descr=""/>
          <p:cNvPicPr/>
          <p:nvPr/>
        </p:nvPicPr>
        <p:blipFill>
          <a:blip r:embed="rId1"/>
          <a:stretch/>
        </p:blipFill>
        <p:spPr>
          <a:xfrm>
            <a:off x="9987120" y="136440"/>
            <a:ext cx="2205000" cy="171468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7"/>
          <p:cNvSpPr/>
          <p:nvPr/>
        </p:nvSpPr>
        <p:spPr>
          <a:xfrm>
            <a:off x="1523880" y="48276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685800" y="19033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68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66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e75b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</a:tbl>
          </a:graphicData>
        </a:graphic>
      </p:graphicFrame>
      <p:sp>
        <p:nvSpPr>
          <p:cNvPr id="95" name="Прямоугольная выноска 2"/>
          <p:cNvSpPr/>
          <p:nvPr/>
        </p:nvSpPr>
        <p:spPr>
          <a:xfrm>
            <a:off x="2843280" y="3613320"/>
            <a:ext cx="1841400" cy="1101600"/>
          </a:xfrm>
          <a:prstGeom prst="wedgeRectCallout">
            <a:avLst>
              <a:gd name="adj1" fmla="val 163282"/>
              <a:gd name="adj2" fmla="val 6803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Прямоугольная выноска 3"/>
          <p:cNvSpPr/>
          <p:nvPr/>
        </p:nvSpPr>
        <p:spPr>
          <a:xfrm>
            <a:off x="1771560" y="5533920"/>
            <a:ext cx="2281320" cy="1262160"/>
          </a:xfrm>
          <a:prstGeom prst="wedgeRectCallout">
            <a:avLst>
              <a:gd name="adj1" fmla="val 211666"/>
              <a:gd name="adj2" fmla="val -94611"/>
            </a:avLst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Прямоугольная выноска 4"/>
          <p:cNvSpPr/>
          <p:nvPr/>
        </p:nvSpPr>
        <p:spPr>
          <a:xfrm>
            <a:off x="9515520" y="3936960"/>
            <a:ext cx="2281320" cy="1262160"/>
          </a:xfrm>
          <a:prstGeom prst="wedgeRectCallout">
            <a:avLst>
              <a:gd name="adj1" fmla="val -94527"/>
              <a:gd name="adj2" fmla="val 30166"/>
            </a:avLst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4+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98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7"/>
          <p:cNvSpPr/>
          <p:nvPr/>
        </p:nvSpPr>
        <p:spPr>
          <a:xfrm>
            <a:off x="2451240" y="317520"/>
            <a:ext cx="79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Заголовок 1"/>
          <p:cNvSpPr/>
          <p:nvPr/>
        </p:nvSpPr>
        <p:spPr>
          <a:xfrm>
            <a:off x="685800" y="1611360"/>
            <a:ext cx="787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5-конечная звезда 5"/>
          <p:cNvSpPr/>
          <p:nvPr/>
        </p:nvSpPr>
        <p:spPr>
          <a:xfrm>
            <a:off x="1771560" y="5707080"/>
            <a:ext cx="457200" cy="458640"/>
          </a:xfrm>
          <a:custGeom>
            <a:avLst/>
            <a:gdLst/>
            <a:ahLst/>
            <a:rect l="l" t="t" r="r" b="b"/>
            <a:pathLst>
              <a:path w="457200" h="457579">
                <a:moveTo>
                  <a:pt x="0" y="174779"/>
                </a:moveTo>
                <a:lnTo>
                  <a:pt x="174636" y="174780"/>
                </a:lnTo>
                <a:lnTo>
                  <a:pt x="228600" y="0"/>
                </a:lnTo>
                <a:lnTo>
                  <a:pt x="282564" y="174780"/>
                </a:lnTo>
                <a:lnTo>
                  <a:pt x="457200" y="174779"/>
                </a:lnTo>
                <a:lnTo>
                  <a:pt x="315916" y="282798"/>
                </a:lnTo>
                <a:lnTo>
                  <a:pt x="369882" y="457578"/>
                </a:lnTo>
                <a:lnTo>
                  <a:pt x="228600" y="349557"/>
                </a:lnTo>
                <a:lnTo>
                  <a:pt x="87318" y="457578"/>
                </a:lnTo>
                <a:lnTo>
                  <a:pt x="141284" y="282798"/>
                </a:lnTo>
                <a:lnTo>
                  <a:pt x="0" y="174779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685800" y="28051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103" name="Прямоугольная выноска 2"/>
          <p:cNvSpPr/>
          <p:nvPr/>
        </p:nvSpPr>
        <p:spPr>
          <a:xfrm>
            <a:off x="2627280" y="5114880"/>
            <a:ext cx="2033640" cy="1311480"/>
          </a:xfrm>
          <a:prstGeom prst="wedgeRectCallout">
            <a:avLst>
              <a:gd name="adj1" fmla="val 146439"/>
              <a:gd name="adj2" fmla="val -86435"/>
            </a:avLst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строк 2-6 графы 4 т 1000 Ф1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Прямоугольная выноска 3"/>
          <p:cNvSpPr/>
          <p:nvPr/>
        </p:nvSpPr>
        <p:spPr>
          <a:xfrm>
            <a:off x="9320040" y="1494000"/>
            <a:ext cx="2033640" cy="1311120"/>
          </a:xfrm>
          <a:prstGeom prst="wedgeRectCallout">
            <a:avLst>
              <a:gd name="adj1" fmla="val -151453"/>
              <a:gd name="adj2" fmla="val 173129"/>
            </a:avLst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граф 5-9 строфы 1  т 1000 Ф1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07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Гребенник Татьяна Константиновна</cp:lastModifiedBy>
  <cp:lastPrinted>2018-12-10T14:36:03Z</cp:lastPrinted>
  <dcterms:modified xsi:type="dcterms:W3CDTF">2019-12-09T14:33:21Z</dcterms:modified>
  <cp:revision>102</cp:revision>
  <dc:subject/>
  <dc:title>Презентация PowerPoint</dc:title>
</cp:coreProperties>
</file>