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C23A-7898-423C-91C9-35AED87A35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A4E4-129F-4C2C-9FED-D561A08983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8A2108-6953-4FD4-8B20-A7B43B17D1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7ED-E296-465B-B5E2-4908E90B80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8125-DAB7-402B-B675-6A285C38FB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877B-520E-49E3-B6A8-8636CB7A37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2E63-7110-4C0F-B36E-CEBBAF867E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38E-CD7E-4D04-B467-45134459BA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BAD-D629-4327-BFC4-D552A417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028-A902-46E8-A392-F19614B1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6A6-C859-4021-9E54-612F35FA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9B5-ECD2-4714-B672-50B85A99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C41-B9A0-45D2-BA1E-937C8001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F3B-8DFB-4F22-8E66-84F2C24B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AA3-6E4D-4B0C-B728-8D3FE2B3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066-9AEC-4DAB-AD78-B9B6CAE3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B61-CABC-447A-83DA-8323DD41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34A-9797-446F-AB0A-9B6BF702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0F1-20B3-40E7-BE3C-7977904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9BC-5C70-4300-8A4C-5593A7F6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4BA6-39AB-4D47-AFA7-AB68FD452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9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5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5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5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6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6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6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7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7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7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19 апреля 2019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857240"/>
            <a:ext cx="8372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44920"/>
            <a:ext cx="8015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765000"/>
          <a:ext cx="8643960" cy="530100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863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7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9 г. по сравнению с 2018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941400"/>
                <a:gridCol w="1251000"/>
                <a:gridCol w="1249200"/>
                <a:gridCol w="1251000"/>
                <a:gridCol w="1251000"/>
              </a:tblGrid>
              <a:tr h="352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5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9-12-10T04:45:47Z</dcterms:modified>
  <cp:revision>457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