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EAF343-00FC-4AC9-B730-3621B6E5FAA2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FAF052-28B5-44A5-9C8A-FE108D299FB2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22D198-57C1-4D12-ABB6-BEADD21EF23B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E3CA78-F1F4-4398-AAC1-46175A146BAE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62BB58-9460-4555-874D-64258F19A2A9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8A490-20C4-43DC-970A-A3C01057603D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492685-65E4-41F8-A412-1086A5598F60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9EDB-2874-4B07-BC77-6A66B9DB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3125-74DC-47A3-A5FA-EE9D03A4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C4C8-50C1-4783-9CED-541EB7D3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C0AD-2828-48C2-8F98-19AEE8FF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5D24-B292-4988-A96B-6B7C6024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74F9-F954-4FF0-8EC7-9F89370C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B30C-9A26-45FD-8B6F-9801A9F9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8370-532B-4404-9F48-0FB70F28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D5AD-AB02-4859-A3C3-0C694E88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C093-CF30-4C89-A1BF-E396E78F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FC06-D043-4616-88F9-35591F89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43A6-B84E-4D06-8687-71FC0F70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A10F79-2707-4E55-B679-5593D1356362}" type="slidenum">
              <a:rPr b="0" lang="en-US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1720" y="4220640"/>
            <a:ext cx="59580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бенник Татьяна Константи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grebennik@oparina4.ru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 организационно-методическим отдело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БУ «НМИЦ АГП им. В.И. Кулакова» МЗ РФ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декабрь, 2019 г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10495080" y="136440"/>
            <a:ext cx="1697040" cy="13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6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2387520" y="2781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2" name="Рисунок 14" descr=""/>
          <p:cNvPicPr/>
          <p:nvPr/>
        </p:nvPicPr>
        <p:blipFill>
          <a:blip r:embed="rId1"/>
          <a:stretch/>
        </p:blipFill>
        <p:spPr>
          <a:xfrm>
            <a:off x="9997920" y="136440"/>
            <a:ext cx="21942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10339560" y="136440"/>
            <a:ext cx="1852560" cy="144000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2225520"/>
            <a:ext cx="848052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2200" y="420840"/>
            <a:ext cx="784548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4" descr=""/>
          <p:cNvPicPr/>
          <p:nvPr/>
        </p:nvPicPr>
        <p:blipFill>
          <a:blip r:embed="rId1"/>
          <a:stretch/>
        </p:blipFill>
        <p:spPr>
          <a:xfrm>
            <a:off x="1962000" y="1841400"/>
            <a:ext cx="7993080" cy="4005360"/>
          </a:xfrm>
          <a:prstGeom prst="rect">
            <a:avLst/>
          </a:prstGeom>
          <a:ln w="0">
            <a:noFill/>
          </a:ln>
        </p:spPr>
      </p:pic>
      <p:sp>
        <p:nvSpPr>
          <p:cNvPr id="57" name="Нижний колонтитул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2"/>
          <a:stretch/>
        </p:blipFill>
        <p:spPr>
          <a:xfrm>
            <a:off x="10395000" y="136440"/>
            <a:ext cx="179712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0" name="Группа 13"/>
          <p:cNvGrpSpPr/>
          <p:nvPr/>
        </p:nvGrpSpPr>
        <p:grpSpPr>
          <a:xfrm>
            <a:off x="654120" y="1501920"/>
            <a:ext cx="10101240" cy="4957560"/>
            <a:chOff x="654120" y="1501920"/>
            <a:chExt cx="10101240" cy="4957560"/>
          </a:xfrm>
        </p:grpSpPr>
        <p:pic>
          <p:nvPicPr>
            <p:cNvPr id="61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1501920"/>
              <a:ext cx="10101240" cy="49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5"/>
            <p:cNvSpPr/>
            <p:nvPr/>
          </p:nvSpPr>
          <p:spPr>
            <a:xfrm>
              <a:off x="834120" y="2248920"/>
              <a:ext cx="9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3" name="TextBox 7"/>
            <p:cNvSpPr/>
            <p:nvPr/>
          </p:nvSpPr>
          <p:spPr>
            <a:xfrm>
              <a:off x="1253880" y="365544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4" name="TextBox 12"/>
            <p:cNvSpPr/>
            <p:nvPr/>
          </p:nvSpPr>
          <p:spPr>
            <a:xfrm>
              <a:off x="871920" y="5184720"/>
              <a:ext cx="11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65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6" name="Рисунок 11" descr=""/>
          <p:cNvPicPr/>
          <p:nvPr/>
        </p:nvPicPr>
        <p:blipFill>
          <a:blip r:embed="rId2"/>
          <a:stretch/>
        </p:blipFill>
        <p:spPr>
          <a:xfrm>
            <a:off x="9987120" y="136440"/>
            <a:ext cx="2205000" cy="1714680"/>
          </a:xfrm>
          <a:prstGeom prst="rect">
            <a:avLst/>
          </a:prstGeom>
          <a:ln w="0">
            <a:noFill/>
          </a:ln>
        </p:spPr>
      </p:pic>
      <p:sp>
        <p:nvSpPr>
          <p:cNvPr id="67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9" name="Группа 13"/>
          <p:cNvGrpSpPr/>
          <p:nvPr/>
        </p:nvGrpSpPr>
        <p:grpSpPr>
          <a:xfrm>
            <a:off x="654120" y="2133720"/>
            <a:ext cx="10101240" cy="4325760"/>
            <a:chOff x="654120" y="2133720"/>
            <a:chExt cx="10101240" cy="4325760"/>
          </a:xfrm>
        </p:grpSpPr>
        <p:pic>
          <p:nvPicPr>
            <p:cNvPr id="70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2133720"/>
              <a:ext cx="10101240" cy="43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Box 5"/>
            <p:cNvSpPr/>
            <p:nvPr/>
          </p:nvSpPr>
          <p:spPr>
            <a:xfrm>
              <a:off x="871920" y="2783880"/>
              <a:ext cx="18468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72" name="TextBox 7"/>
            <p:cNvSpPr/>
            <p:nvPr/>
          </p:nvSpPr>
          <p:spPr>
            <a:xfrm>
              <a:off x="1125720" y="4005000"/>
              <a:ext cx="10742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73" name="TextBox 12"/>
            <p:cNvSpPr/>
            <p:nvPr/>
          </p:nvSpPr>
          <p:spPr>
            <a:xfrm>
              <a:off x="871920" y="5346360"/>
              <a:ext cx="11718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74" name="TextBox 14"/>
          <p:cNvSpPr/>
          <p:nvPr/>
        </p:nvSpPr>
        <p:spPr>
          <a:xfrm>
            <a:off x="5251320" y="17524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75" name="Рисунок 11" descr=""/>
          <p:cNvPicPr/>
          <p:nvPr/>
        </p:nvPicPr>
        <p:blipFill>
          <a:blip r:embed="rId2"/>
          <a:stretch/>
        </p:blipFill>
        <p:spPr>
          <a:xfrm>
            <a:off x="9987120" y="136440"/>
            <a:ext cx="2205000" cy="1714680"/>
          </a:xfrm>
          <a:prstGeom prst="rect">
            <a:avLst/>
          </a:prstGeom>
          <a:ln w="0">
            <a:noFill/>
          </a:ln>
        </p:spPr>
      </p:pic>
      <p:sp>
        <p:nvSpPr>
          <p:cNvPr id="76" name="TextBox 16"/>
          <p:cNvSpPr/>
          <p:nvPr/>
        </p:nvSpPr>
        <p:spPr>
          <a:xfrm>
            <a:off x="1054080" y="278460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1425600" y="404496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TextBox 18"/>
          <p:cNvSpPr/>
          <p:nvPr/>
        </p:nvSpPr>
        <p:spPr>
          <a:xfrm>
            <a:off x="1054080" y="530856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0" name="Группа 13"/>
          <p:cNvGrpSpPr/>
          <p:nvPr/>
        </p:nvGrpSpPr>
        <p:grpSpPr>
          <a:xfrm>
            <a:off x="762120" y="1176480"/>
            <a:ext cx="7958160" cy="4956120"/>
            <a:chOff x="762120" y="1176480"/>
            <a:chExt cx="7958160" cy="4956120"/>
          </a:xfrm>
        </p:grpSpPr>
        <p:pic>
          <p:nvPicPr>
            <p:cNvPr id="81" name="Схема 2" descr=""/>
            <p:cNvPicPr/>
            <p:nvPr/>
          </p:nvPicPr>
          <p:blipFill>
            <a:blip r:embed="rId1"/>
            <a:stretch/>
          </p:blipFill>
          <p:spPr>
            <a:xfrm>
              <a:off x="762120" y="1176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Box 5"/>
            <p:cNvSpPr/>
            <p:nvPr/>
          </p:nvSpPr>
          <p:spPr>
            <a:xfrm>
              <a:off x="1356840" y="1899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1728360" y="34272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84" name="TextBox 12"/>
            <p:cNvSpPr/>
            <p:nvPr/>
          </p:nvSpPr>
          <p:spPr>
            <a:xfrm>
              <a:off x="1316160" y="490428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85" name="Прямоугольник 11"/>
          <p:cNvSpPr/>
          <p:nvPr/>
        </p:nvSpPr>
        <p:spPr>
          <a:xfrm>
            <a:off x="566640" y="2957400"/>
            <a:ext cx="1100448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борты у девочек в возрасте до 14 лет вкл. считаются как аборты по медицинским показаниям, в силу физиологической незрелости организм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86" name="Рисунок 14" descr=""/>
          <p:cNvPicPr/>
          <p:nvPr/>
        </p:nvPicPr>
        <p:blipFill>
          <a:blip r:embed="rId2"/>
          <a:stretch/>
        </p:blipFill>
        <p:spPr>
          <a:xfrm>
            <a:off x="9987120" y="136440"/>
            <a:ext cx="2205000" cy="1714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566640" y="4322880"/>
          <a:ext cx="11004480" cy="243180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  <a:gridCol w="2202120"/>
                <a:gridCol w="2199960"/>
              </a:tblGrid>
              <a:tr h="204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прожива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д. организация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де произведено прерывание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возраст на момент госпит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изводства аб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 (МКБ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особ прерывания берем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3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660240" y="2805120"/>
          <a:ext cx="108586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13360"/>
                <a:gridCol w="530280"/>
                <a:gridCol w="909360"/>
                <a:gridCol w="1060560"/>
                <a:gridCol w="835200"/>
                <a:gridCol w="833400"/>
                <a:gridCol w="833400"/>
                <a:gridCol w="833400"/>
                <a:gridCol w="8334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89" name="Прямоугольная выноска 2"/>
          <p:cNvSpPr/>
          <p:nvPr/>
        </p:nvSpPr>
        <p:spPr>
          <a:xfrm>
            <a:off x="5246640" y="5254560"/>
            <a:ext cx="2435400" cy="142560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Прямоугольная выноска 4"/>
          <p:cNvSpPr/>
          <p:nvPr/>
        </p:nvSpPr>
        <p:spPr>
          <a:xfrm>
            <a:off x="9248760" y="382896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2" name="Рисунок 14" descr=""/>
          <p:cNvPicPr/>
          <p:nvPr/>
        </p:nvPicPr>
        <p:blipFill>
          <a:blip r:embed="rId1"/>
          <a:stretch/>
        </p:blipFill>
        <p:spPr>
          <a:xfrm>
            <a:off x="9987120" y="136440"/>
            <a:ext cx="2205000" cy="171468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7"/>
          <p:cNvSpPr/>
          <p:nvPr/>
        </p:nvSpPr>
        <p:spPr>
          <a:xfrm>
            <a:off x="1523880" y="48276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685800" y="19033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e75b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</a:tbl>
          </a:graphicData>
        </a:graphic>
      </p:graphicFrame>
      <p:sp>
        <p:nvSpPr>
          <p:cNvPr id="95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Прямоугольная выноска 3"/>
          <p:cNvSpPr/>
          <p:nvPr/>
        </p:nvSpPr>
        <p:spPr>
          <a:xfrm>
            <a:off x="1771560" y="5533920"/>
            <a:ext cx="2281320" cy="1262160"/>
          </a:xfrm>
          <a:prstGeom prst="wedgeRectCallout">
            <a:avLst>
              <a:gd name="adj1" fmla="val 211666"/>
              <a:gd name="adj2" fmla="val -94611"/>
            </a:avLst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Прямоугольная выноска 4"/>
          <p:cNvSpPr/>
          <p:nvPr/>
        </p:nvSpPr>
        <p:spPr>
          <a:xfrm>
            <a:off x="9515520" y="3936960"/>
            <a:ext cx="2281320" cy="1262160"/>
          </a:xfrm>
          <a:prstGeom prst="wedgeRectCallout">
            <a:avLst>
              <a:gd name="adj1" fmla="val -94527"/>
              <a:gd name="adj2" fmla="val 30166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8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5-конечная звезда 5"/>
          <p:cNvSpPr/>
          <p:nvPr/>
        </p:nvSpPr>
        <p:spPr>
          <a:xfrm>
            <a:off x="1771560" y="5707080"/>
            <a:ext cx="457200" cy="458640"/>
          </a:xfrm>
          <a:custGeom>
            <a:avLst/>
            <a:gdLst/>
            <a:ahLst/>
            <a:rect l="l" t="t" r="r" b="b"/>
            <a:pathLst>
              <a:path w="457200" h="457579">
                <a:moveTo>
                  <a:pt x="0" y="174779"/>
                </a:moveTo>
                <a:lnTo>
                  <a:pt x="174636" y="174780"/>
                </a:lnTo>
                <a:lnTo>
                  <a:pt x="228600" y="0"/>
                </a:lnTo>
                <a:lnTo>
                  <a:pt x="282564" y="174780"/>
                </a:lnTo>
                <a:lnTo>
                  <a:pt x="457200" y="174779"/>
                </a:lnTo>
                <a:lnTo>
                  <a:pt x="315916" y="282798"/>
                </a:lnTo>
                <a:lnTo>
                  <a:pt x="369882" y="457578"/>
                </a:lnTo>
                <a:lnTo>
                  <a:pt x="228600" y="349557"/>
                </a:lnTo>
                <a:lnTo>
                  <a:pt x="87318" y="457578"/>
                </a:lnTo>
                <a:lnTo>
                  <a:pt x="141284" y="282798"/>
                </a:lnTo>
                <a:lnTo>
                  <a:pt x="0" y="174779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103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7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Гребенник Татьяна Константиновна</cp:lastModifiedBy>
  <cp:lastPrinted>2018-12-10T14:36:03Z</cp:lastPrinted>
  <dcterms:modified xsi:type="dcterms:W3CDTF">2019-12-09T14:33:21Z</dcterms:modified>
  <cp:revision>102</cp:revision>
  <dc:subject/>
  <dc:title>Презентация PowerPoint</dc:title>
</cp:coreProperties>
</file>