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CBA-BC46-4425-901F-5CC43090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B8D-03D5-4A74-A741-5B197C68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9D4-6899-4AE5-8261-C7D3443A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D44-8E10-4BD7-BFE8-D029CAA8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665-206B-45D9-B509-B2FB2EAC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F95-2B2B-48D7-860F-741A7CFA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6D3-1A18-4C32-8F0E-2F597585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47F-B8DE-4EE8-8042-E80C9959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214-3E2D-4346-B50F-C5487886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588-AD3F-4C03-A835-56718E35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9E2-2A10-4008-BA05-5AB4EB83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38D-174A-47D5-BD26-8C8399FB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5EA2-D4EA-46CF-8EBC-E0696B883E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19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229600" cy="4565880"/>
        </p:xfrm>
        <a:graphic>
          <a:graphicData uri="http://schemas.openxmlformats.org/drawingml/2006/table">
            <a:tbl>
              <a:tblPr/>
              <a:tblGrid>
                <a:gridCol w="1224000"/>
                <a:gridCol w="43164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550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=141.1000.1.03 + 141.1000.2.03 +141.1000.3.0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=141.1000.1.04 + 141.1000.2.04 +141.1000.3.0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=141.1000.1.05 + 141.1000.2.05 +141.1000.3.0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=141.1000.1.06 + 141.1000.2.06 +141.1000.3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=141.1000.1.07 + 141.1000.2.07 +141.1000.3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=141.1000.1.08 + 141.1000.2.08 +141.1000.3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 на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9=141.1000.1.09 + 141.1000.2.09 +141.1000.3.09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0=141.1000.1.10 + 141.1000.2.10 +141.1000.3.1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1=141.1000.1.11 + 141.1000.2.11 +141.1000.3.1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0, 22 – выписано детей до 3 л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4, 26 – число проведенных пациенто-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 до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268280"/>
          <a:ext cx="8496360" cy="504828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03280"/>
                <a:gridCol w="505080"/>
                <a:gridCol w="503280"/>
                <a:gridCol w="504720"/>
                <a:gridCol w="50328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36540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Box 5"/>
          <p:cNvSpPr/>
          <p:nvPr/>
        </p:nvSpPr>
        <p:spPr>
          <a:xfrm>
            <a:off x="2556000" y="386064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47640" y="429264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067280" y="4292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659640" y="4221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659640" y="48690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4067280" y="4869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067280" y="5300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643800" y="52862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547640" y="537372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556000" y="587700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480" y="1071360"/>
            <a:ext cx="8605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 в дневных стационарах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628640"/>
          <a:ext cx="8496360" cy="49262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1268280"/>
            <a:ext cx="8301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следует заполнять целыми числами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число выписанных детей до 3 лет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4 - число проведенных пациенто-дней детьми до 3 л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765000"/>
            <a:ext cx="85359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171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федерального статистического наблюдения № 47 в таблице 0660 следует заполнять сведения о работе стационаров на до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№ 413 от 30.12.2002 г.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9-12-10T04:38:11Z</dcterms:modified>
  <cp:revision>300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