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4D5E-5C04-4386-B440-BEFA7F2ECA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9E0B-5A2A-4C43-92DC-65B7B5F8B5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52720" y="9375840"/>
            <a:ext cx="294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D7525D-1FDC-49E0-A434-5E6E6B1C7B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05040" y="774720"/>
            <a:ext cx="4995720" cy="37479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7920" y="4743360"/>
            <a:ext cx="4981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C4D2-028F-45B4-AE32-7333257540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E80D-ADF3-4B5A-A13B-48F0801E36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A021-D097-47A1-AE99-07993B9079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9549-C692-40D7-8702-D20ADC1FD3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B3F1-4A20-416C-A23E-94D08833D7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0F97-B3B9-4D78-BE7A-B9AD35F6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C0C0-E5D8-418D-B226-4FACBC6F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4D54-21CA-475D-9680-C9FA3EA3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1650-50FB-4628-A9C5-1A026837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B4A-B0DD-4FAD-83FB-8959AA89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CC63-A853-48B6-AB42-9AC8D425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93C7-34E9-4870-976F-D5A3654E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DBB-6D7F-4CE5-B995-E7EB3FCD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E340-738E-4FB0-AC78-FF811A4B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4CFF-A005-4972-BADC-219924F6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80C-D725-48B0-8EA5-B1EF13FC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3725-20F4-4D6A-93F5-AEC5A315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DC7D-A771-4FC0-979F-9D1CB72E9B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19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05 + 30.1105.1.06 + 30.1105.1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05 + 30.1105.2.06 + 30.1105.2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05 + 30.1105.3.06 + 30.1105.3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357120" y="1268280"/>
            <a:ext cx="86472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бъектах, где работают только самостоятельные станции скорой медицинской помощи данные о должностях должны совпадать со сведениями в форме 47 табл. 1800 стр. 1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 = 47.1800.16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 = 47.1800.16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 = 47.1800.16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85840" y="1557360"/>
            <a:ext cx="86454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 = 47.1800.16.06 + 47.1800.16.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 = 47.1800.16.07 + 47.1800.16.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 = 47.1800.16.08  + 47.1800.16.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5 = 47.1800.16.18 + 47.1800.16.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5 = 47.1800.16.19 + 47.1800.16.1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5 = 47.1800.16.20 + 47.1800.16.17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6 = 47.1800.16.2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6 = 47.1800.16.2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6 = 47.1800.16.2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7 = 47.1800.16.09 + 47.1800.16.2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7 = 47.1800.16.10 + 47.1800.16.25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прочего персонала стан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7 = 47.1800.16.11 + 47.1800.16.26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7400"/>
                <a:gridCol w="9349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№ 388н  от 20 июня 2013 г.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№ 388н от 20 июня 2013 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19 апреля 2019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&lt; = 30.2120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&lt; =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22050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в связи с медицинской эвакуацией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07 = 47.0400.1.0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280" y="2276280"/>
            <a:ext cx="8358120" cy="41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доставленных в медицинские организ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10 = 47.0400.1.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9280" y="1268280"/>
          <a:ext cx="8715600" cy="5400720"/>
        </p:xfrm>
        <a:graphic>
          <a:graphicData uri="http://schemas.openxmlformats.org/drawingml/2006/table">
            <a:tbl>
              <a:tblPr/>
              <a:tblGrid>
                <a:gridCol w="4537080"/>
                <a:gridCol w="503280"/>
                <a:gridCol w="916200"/>
                <a:gridCol w="1306440"/>
                <a:gridCol w="1452600"/>
              </a:tblGrid>
              <a:tr h="14320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82803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5480" y="1857240"/>
            <a:ext cx="8372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Число выездных круглосуточных брига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Число лиц, которым оказана помощь бригада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полнении вызовов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03 + 30.2202.1.01. = 47.0400.1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5344920"/>
            <a:ext cx="80154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3 показывается число станций (отделений) скорой медицинской помощи по числу выполненных вызовов в г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1413000"/>
          <a:ext cx="7561080" cy="3998880"/>
        </p:xfrm>
        <a:graphic>
          <a:graphicData uri="http://schemas.openxmlformats.org/drawingml/2006/table">
            <a:tbl>
              <a:tblPr/>
              <a:tblGrid>
                <a:gridCol w="4054320"/>
                <a:gridCol w="1389240"/>
                <a:gridCol w="21175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1, нет - 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Заголовок 1"/>
          <p:cNvSpPr/>
          <p:nvPr/>
        </p:nvSpPr>
        <p:spPr>
          <a:xfrm>
            <a:off x="755640" y="47628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6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6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765000"/>
          <a:ext cx="8643960" cy="530100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863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вызовов (обращений) для оказания медицинской помощи в неотложной фор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7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травмоцентры 1 и 2 уровн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места дорожно-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6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6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6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19 г. по сравнению с 2018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+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№ 752 от 1 декабря 2005 г.             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9528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= &lt; 30.1060.1.03 + 30.1060.2.03 + 30.1060.3.03+ 30.1060.4.03 + 30.1060.5.03 + 30.1060.6.03 + 30.1060.7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8360" y="1500120"/>
          <a:ext cx="8462880" cy="4773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941400"/>
                <a:gridCol w="1251000"/>
                <a:gridCol w="1249200"/>
                <a:gridCol w="1251000"/>
                <a:gridCol w="1251000"/>
              </a:tblGrid>
              <a:tr h="352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7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5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dcterms:modified xsi:type="dcterms:W3CDTF">2019-12-10T04:45:47Z</dcterms:modified>
  <cp:revision>457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