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C4AE-8367-4A4C-B1BE-BF92861059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6904-0DBC-4712-9DDB-46E6C3DB830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01E0-9BDB-4BAC-92D2-E2F65E5E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8C8D-7CF0-4402-A66B-4F5833DB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F579-0CE6-4DCC-B2DA-49DBB7D2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4885-1D2D-4D52-B6D8-0C8E123AA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4CCB-EBA4-4C4F-BC19-D3745A52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EB0D-AB26-4AA6-BCBC-75BEE2CA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1647-0EE7-465F-8EDE-59FF5DD6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22E6-ED84-4A17-83A2-CD526C8F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BA79-A2F4-4ADF-83E7-98D2CBBC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FD7D-8BFD-4D47-A908-70BFF2DC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D09A-30BA-43B7-87A5-D8B43654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20C8-D63B-4D3C-8158-52558442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EB01-0C6A-4A72-8369-E49BED40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F75F-5D4D-479B-8B3C-DB77CDEB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A53C-ACF9-4D9F-BF99-AD16722A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6CCC-19FD-4FF7-BE79-6D56100B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E577-BC48-4017-9CA4-ABE8D506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157EF7-22B1-4B25-B2D9-32B25296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5E9367-2519-4C22-9614-2818CF73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2D8F4D-8674-4CC0-A523-4304600D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0AD925-3E2C-4B4A-9250-897DEFE7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EED25-955B-43F6-9C54-15AC3F83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0D26-915D-47CB-975B-486601F5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3CC30-B1C3-45E5-A926-2DF1D2CE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35B9DC-0069-4E46-B223-27C7839E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DDFDEF-2733-410A-BFE7-26108B48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5B0A51-F162-499F-AA6F-55C33E2B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7B509-AFA6-4BF4-AC8A-014A13F9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BDD81-8085-40DF-B699-B7C9C426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35EBAF-35CA-43DC-9F6C-0B7DCFE8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4ED509-BDC8-40A0-B615-02D40151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459809-2CE0-495B-909A-6C6242BC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45596E-7413-4ECF-8FCD-835FF4B8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177A-F4B7-428B-9EA9-6E7EDADB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FB5E8E-17EE-4EE8-99D1-023F2F61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341F63-8FB9-4371-A9C8-61535187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411FBE-D9EE-4C0C-9E5D-0A9D4AE4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9E20C7-E7D7-4682-AD76-016CBD83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9B8866-3E70-4CAE-B7D5-2D3C5EEC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3C1F62-A1E5-4C91-9385-7197D80C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9C37E1-79E4-4938-9545-6B46DA95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E27DC7-6F65-455C-8FBB-9E12B8F8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4786F6-E31D-461E-8A11-71885404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A794-607F-44BF-B0C9-940D732E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0069-59D9-4E5B-B977-5766352A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C860-3179-44C8-9C27-9BB775CD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5E35-6899-45ED-8565-E9C0EEB7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ADF6-194C-4A2D-B67D-12203459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393E-262F-44FA-BE2E-26E38D432D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2D09-4F2D-43FB-B7A8-120B15A3C4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2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E84C-76B3-40C8-8D4D-2ECF668A7E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B8E2-504A-42B3-9FA3-7896403C49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Сведения о контингентах больных с психическими расстройствами, находящихся на активном диспансерном наблюдении и на принудительном лечении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” 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(Форма № 36-ПЛ) 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132000" y="4221000"/>
            <a:ext cx="5554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ГБУ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МИЦПН имени В.П.Сербског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инзд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дел судебно-психиатрической профилак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зько Наталья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арабидзе Нино Гурам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сновы предварительной подготовки отче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684360" y="1844640"/>
            <a:ext cx="755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Использование программы «ТЕРПИНС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Сравнение с показателями предыдущего г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Подготовка пояснительных записок по проблемным показателя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8"/>
          <p:cNvSpPr/>
          <p:nvPr/>
        </p:nvSpPr>
        <p:spPr>
          <a:xfrm>
            <a:off x="0" y="404640"/>
            <a:ext cx="9499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тингенты больных, находящихся под активны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пансерным наблюдением  АДН ( таблица 21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роверка показателя «группы риска» (р.з.15-30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2110, п.3 число снятых с АДН в связи с отсутств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дений в течение года (р.з.2-3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2130,п. 2 сопоставить с показателем находящихся 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ционарном ПЛ (сумма строк 5 и 6 гр.14 таб.2200)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РФ за 2019г. - 39,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1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280" y="1989000"/>
            <a:ext cx="81471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итель:  сумма строк 5 и 6 по гр.8 таблицы 2100 формы 36-ПЛ минус сумма строк 5 и 6 гр.10 той же табл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менатель: сумма строк 5 и 6 по гр.8 таблицы 2100 формы 36-П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ножить на 1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очтительное значение от 15 до 3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395280" y="11592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асчёт показателя, характеризующего формирование группы АДН (%% больных, поставленных под АДН и не совершивших в течение жизни ООД –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группа риск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”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0080" y="15840"/>
            <a:ext cx="8677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3e3ff"/>
                </a:solidFill>
                <a:latin typeface="Arial"/>
              </a:rPr>
              <a:t>Контингенты больных, находящихся на принудительном наблюдении и лечении у психиатра в амбулаторных условиях (ПНЛА)</a:t>
            </a:r>
            <a:endParaRPr b="0" lang="en-US" sz="3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1773000"/>
            <a:ext cx="8391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таблицы 2140- 21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оотношение числа находящихся на  ПНЛА ко всем лицам с ПММХ (38,5% по РФ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Средняя продолжительность ПНЛА (по РФ в 2019г. – 625 дне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2190,п.1 – совершившие новое ООД в отчетном году (по РФ снижение показателя в течение 10 лет с 5 до 3,2% в 2018г., 3,9% в 2019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Не поступившие в ПС после ПН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Состав больных, находящихся на принудительном лечении в психиатрических стационар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отношение видов ПЛ (гр.14 стр.9 и 11 к сумме стр.5 и 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Длительность стационарного П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ичины длительности пребывания (от 5 до 10 лет и больше 10 лет – 22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ценка летальности (по РФ 1,5 % в 2018г., 1,3 % в 2019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Фиксировать нападения больных в период ПЛ (224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09120" y="404640"/>
            <a:ext cx="8001000" cy="59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полнительные свед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жно получить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-mail: sharabidze.n@serbsky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cc"/>
                </a:solidFill>
                <a:latin typeface="Arial"/>
              </a:rPr>
              <a:t>тел. 8(495) 637-58-44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ай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ГБУ «НМИЦПН им. В.П. Сербского» Минздрава России 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bsky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ПЦ ПЗДП ДЗМ или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pb6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л.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 (495) 952-54-39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установки программы ТЕРПИНС-9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запустить установочный файл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SETUP_TERPINS9.EX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6:52:47Z</dcterms:created>
  <dc:creator>gv</dc:creator>
  <dc:description/>
  <dc:language>en-US</dc:language>
  <cp:lastModifiedBy>Наталья Викторовна Лазько</cp:lastModifiedBy>
  <cp:lastPrinted>2017-12-07T17:18:35Z</cp:lastPrinted>
  <dcterms:modified xsi:type="dcterms:W3CDTF">2020-11-23T13:09:44Z</dcterms:modified>
  <cp:revision>801</cp:revision>
  <dc:subject/>
  <dc:title>Таблица 1 Состав невменяемых психически больных по характеру рекомендованных медицинских мер (в %) в 2005 г. Дальневосточный федеральный округ РФ</dc:title>
</cp:coreProperties>
</file>