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7609-90E2-4609-A92E-F54BB15C4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C56-9C54-4A06-A6D0-1D71DADD2D5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16A3-7A3F-4C87-8300-5525AA94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05D4-CEE7-497C-B3BC-57207419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5EE-3797-4A85-AFD2-A33BA20C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BE7-BA3F-4928-A3AF-FF68FFB6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6B57-BDCD-4AF8-9FD8-E17A6303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5862-69FA-4D27-A68E-40BE97C4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1244-2641-4A3F-897B-384CA6F3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EE7F-7111-4919-B05F-ACC67E4E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E08E-1266-4DE9-91FF-844EB70A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EC41-1FD8-411C-9C02-912F4E93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00D5-DE53-4E0B-B7C9-F96D0E16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E93-9F0C-4B35-AE4F-33B6076A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30BD-7988-44E3-A7C4-BDB04BFE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A3B9-9889-4288-B546-37AD8A94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B2DB-6B09-48EF-8525-F8BE2B6A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91F7-2F01-4777-939D-CD5A19F4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6F3F-452D-419E-98EC-6E484DDF2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3476E-5729-4518-A553-ABFD5AD8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CC0DFB-96A9-4C83-9F10-7DF59120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6198E-1BF0-4897-824E-715D9988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F55AD-C905-4A5A-BF90-C066E1A5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58AAF-C221-492A-8D84-EEDB7047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9CD-167C-42DE-A112-C3A98D75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9542D-00C3-4D5E-BE07-31B9C55A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7739C-FAA0-49B3-B892-2AB64F57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7F3F0A-4FC0-41CB-A1EF-C191A8A9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BBDAA-B3B0-41EE-A00A-EA3D4699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2B2BF-C2E6-4C5F-8108-96AE4357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64D20-FEDA-488B-961A-80746CF5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2F33A-9D5E-4AF3-AFEE-089445C9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E4996-7E6D-4824-9FC9-2742718F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4BCF1-47FA-41B4-931A-45D3B830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D7800-D547-4D41-ACB4-EE4D5402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6E5-7606-408B-95FF-103BCC4F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55D9A-EAD4-4222-8FAE-006F82BA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BA9AB-CD54-4140-A54A-F59B535B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25F210-3495-425C-9923-63F05913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F1D439-05A5-4862-95F3-49FAA1C9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9DEB2D-1587-4465-BF53-C66B740C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B5375-8C51-444D-A656-9C649084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3E33F5-4D1D-4109-AEEF-4AAE9D6D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ADC14-B635-4E5A-B072-7DDDE199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20E32-4DBA-428B-B42F-20F09A49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46F-994E-4821-9646-15A7015B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E52-645F-45C2-A699-314E34E2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172-7F51-4C94-A22F-7DE037A0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2FC9-B72F-42A4-916B-91E1EDDD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494-E113-438E-B2A5-F7BCC8A3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EC61-5D94-4552-8772-9CD0CA2775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593F-1AC0-46F2-8999-FA716D7CD3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2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2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2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EFCE-7AD9-4E74-B661-6CDC5032D7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2BB0-FBA4-412C-A5F4-29A00125CD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“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Сведения о контингентах больных с психическими расстройствами, находящихся на активном диспансерном наблюдении и на принудительном лечении</a:t>
            </a:r>
            <a:r>
              <a:rPr b="1" lang="en-US" sz="2800" spc="-1" strike="noStrike">
                <a:solidFill>
                  <a:srgbClr val="e3e3ff"/>
                </a:solidFill>
                <a:latin typeface="Times New Roman"/>
              </a:rPr>
              <a:t>” </a:t>
            </a:r>
            <a:r>
              <a:rPr b="1" lang="ru-RU" sz="2800" spc="-1" strike="noStrike">
                <a:solidFill>
                  <a:srgbClr val="e3e3ff"/>
                </a:solidFill>
                <a:latin typeface="Times New Roman"/>
              </a:rPr>
              <a:t>(Форма № 36-ПЛ) 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132000" y="4221000"/>
            <a:ext cx="5554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ФГБУ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МИЦПН имени В.П.Сербского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Минзд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тдел судебно-психиатрической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азько Наталья Викто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Шарабидзе Нино Гурам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сновы предварительной подготовки отчет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84360" y="1844640"/>
            <a:ext cx="7559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. Использование программы «ТЕРПИНС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. Сравнение с показателями предыдущего г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. Подготовка пояснительных записок по проблемным показателя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8"/>
          <p:cNvSpPr/>
          <p:nvPr/>
        </p:nvSpPr>
        <p:spPr>
          <a:xfrm>
            <a:off x="0" y="404640"/>
            <a:ext cx="9499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тингенты больных, находящихся под активны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пансерным наблюдением  АДН ( таблица 2100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Проверка показателя «группы риска» (р.з.15-30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2110, п.3 число снятых с АДН в связи с отсутстви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дений в течение года (р.з.2-3%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. 2130,п. 2 сопоставить с показателем находящихся 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ационарном ПЛ (сумма строк 5 и 6 гр.14 таб.2200)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РФ за 2019г. - 39,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1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280" y="1989000"/>
            <a:ext cx="814716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слитель:  сумма строк 5 и 6 по гр.8 таблицы 2100 формы 36-ПЛ минус сумма строк 5 и 6 гр.10 той же табл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аменатель: сумма строк 5 и 6 по гр.8 таблицы 2100 формы 36-П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жить на 1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почтительное значение от 15 до 30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"/>
          <p:cNvSpPr/>
          <p:nvPr/>
        </p:nvSpPr>
        <p:spPr>
          <a:xfrm>
            <a:off x="395280" y="1159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асчёт показателя, характеризующего формирование группы АДН (%% больных, поставленных под АДН и не совершивших в течение жизни ООД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“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группа риска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”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0080" y="15840"/>
            <a:ext cx="86770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e3e3ff"/>
                </a:solidFill>
                <a:latin typeface="Arial"/>
              </a:rPr>
              <a:t>Контингенты больных, находящихся на принудительном наблюдении и лечении у психиатра в амбулаторных условиях (ПНЛА)</a:t>
            </a:r>
            <a:endParaRPr b="0" lang="en-US" sz="3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68360" y="1773000"/>
            <a:ext cx="8391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таблицы 2140- 219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Соотношение числа находящихся на  ПНЛА ко всем лицам с ПММХ (38,5% по РФ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Средняя продолжительность ПНЛА (по РФ в 2019г. – 625 дней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2190,п.1 – совершившие новое ООД в отчетном году (по РФ снижение показателя в течение 10 лет с 5 до 3,2% в 2018г., 3,9% в 2019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Не поступившие в ПС после ПН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Состав больных, находящихся на принудительном лечении в психиатрических стационарах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Соотношение видов ПЛ (гр.14 стр.9 и 11 к сумме стр.5 и 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Длительность стационарного П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ичины длительности пребывания (от 5 до 10 лет и больше 10 лет – 223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ценка летальности (по РФ 1,5 % в 2018г., 1,3 % в 2019г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Фиксировать нападения больных в период ПЛ (224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09120" y="404640"/>
            <a:ext cx="800100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ополнительные свед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ожно получить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-mail: sharabidze.n@serbsky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cc"/>
                </a:solidFill>
                <a:latin typeface="Arial"/>
              </a:rPr>
              <a:t>тел. 8(495) 637-58-44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айт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ФГБУ «НМИЦПН им. В.П. Сербского» Минздрава России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bsky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ПЦ ПЗДП ДЗМ или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pb6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л. 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(495) 952-54-39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установки программы ТЕРПИНС-9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обходимо запустить установочный файл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SETUP_TERPINS9.EXE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96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6:52:47Z</dcterms:created>
  <dc:creator>gv</dc:creator>
  <dc:description/>
  <dc:language>en-US</dc:language>
  <cp:lastModifiedBy>Наталья Викторовна Лазько</cp:lastModifiedBy>
  <cp:lastPrinted>2017-12-07T17:18:35Z</cp:lastPrinted>
  <dcterms:modified xsi:type="dcterms:W3CDTF">2020-11-23T13:09:44Z</dcterms:modified>
  <cp:revision>801</cp:revision>
  <dc:subject/>
  <dc:title>Таблица 1 Состав невменяемых психически больных по характеру рекомендованных медицинских мер (в %) в 2005 г. Дальневосточный федеральный округ РФ</dc:title>
</cp:coreProperties>
</file>