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0330-97FB-4E77-9A40-9D84F18FE2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183C-CE72-4890-88A7-308726948F0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3E4-3345-4E9B-850D-BC397643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E3F-11C2-4F25-8F6A-EDAE0286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9CA-AFD0-4B45-BE9D-BABAA09C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AA1-BF4A-4236-8EAF-CB9130A7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9FD9-089B-4430-A630-74CC48E0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E003-3629-4A9D-A7F3-C8A1EFA3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BF20-A9F4-49EC-AC22-32DD1ACC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C6CB-6C90-4E53-9436-99E9C8C4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C9CE-2CAE-4F9C-92D7-9B9B1A4A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B749-4290-4633-A782-E3BAB36A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0E6B-D887-44BD-BAF7-9DC5D982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7E1-8ED9-471D-BED3-30FD10BE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1177-1181-41E9-9595-93B6A147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A20D-2B0F-4298-BDAB-8E06008A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F3E6-CF61-4309-9023-32C88650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6B66-9626-4D0F-AA57-87B0855C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0578-27CF-496F-BA6C-1767BB72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77FA-0A05-4F7A-89DB-20E6316C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0357-C4DB-4F68-8807-BFD25449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24D0-4EF3-46FA-B528-4AE036FC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AC00-16E8-4CE6-8A51-A274F0CA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F184-1A73-4664-9C44-CFB9E209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B40-DC5D-47F4-A9C7-59BB99B4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1430-10A7-42B0-A2D1-19E069A0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526F-EA43-4A72-8605-CF79B73E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2FB2-1305-40EB-941A-9D3B67FF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3EC9-D10D-4928-921F-361AA234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48CE-BE61-468F-8888-0EF28BC3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E007-4F2D-4B00-9BC9-8F4923F9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C514F-4182-4D01-BE98-00740224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27C3A-13F0-4378-9A0D-521C8DA9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2459D-6A39-45A9-B565-1644DB2F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50DB-E726-4D1E-8CFD-3A888E2C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70A-A739-4976-B42C-722615EB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4E2E-1F19-44BD-9BB5-4F8D12B7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6660-D3CA-4F73-890D-6BCCDDF1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8048-74A7-46C7-9E11-2956B99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E2167-E844-407C-AC7A-25E4A05E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5D56-84D5-4C15-AAA9-EA491756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67D53-E155-48AD-813B-9EA75216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B645E-70FA-42F9-B744-D47EAFAB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25654-D172-4B1B-9FA8-8855021C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57072-2C30-4023-B8A7-ADCE7B00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9B4-AA0F-4DA1-BCA3-035EC2ED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844-1237-453A-95E3-84A4DF54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8F3-A3DD-4701-9761-E7140CA6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D05-E67D-4BEF-948B-E3BE378E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0C6-282F-43DB-AD8B-05E90DAC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A53E-6AA3-4010-ACED-1B975F3D368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14DA-80F8-4091-929A-AD02C2ECE14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447F-8006-4A1D-80E2-D01A424EB8D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3305-0ED0-4244-9436-79D08F588EA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КС штаба ВСМ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4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ЦУКС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Магазейщикова Наталья Геннадиевна</cp:lastModifiedBy>
  <cp:lastPrinted>2016-12-07T09:58:05Z</cp:lastPrinted>
  <dcterms:modified xsi:type="dcterms:W3CDTF">2019-12-03T12:19:28Z</dcterms:modified>
  <cp:revision>5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