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422280" y="1240920"/>
            <a:ext cx="595296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54818-0A1F-42E4-8015-75585408B24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1CFFB-F88E-4983-88A6-9E7091C9249F}" type="slidenum">
              <a:rPr b="0" lang="en-US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966EE-1B3E-4B9D-A48F-AFEAB3AFB03A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60FA3-8BC4-40B8-8F9C-576A142D561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14570-21B8-4AA2-87E0-23CE52239BE6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D5668-13AA-4B09-9DEB-60C707B4721A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F5279-37C2-45C3-B744-30765FA9681D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5CD4C-0679-420A-BD4D-3BAD64484C87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EDFD-F417-4FCA-8B07-CB0D201C9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39B8-354C-4264-BFA2-D4CFD8FEB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F035-A9E2-4486-9D27-6B97576EA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556C-3EEB-4D70-9E9D-9FA70009A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0934-C47A-420E-8298-96B957719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642E-EC0F-42A6-B84A-A8819C0D7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C69B-FA3E-4E54-9266-615978168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2754-3180-40EC-AFDE-5EFF89DA9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A6AA-AB39-44D0-8B48-30E42AABF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35C1-EE2C-4C7A-AA59-9E12DB807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CBA7-FB6A-4046-9284-62CEF8F6D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C88D-24A8-4BCF-8324-ACD39985D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1B154-F44C-4E41-9A39-17EA42D440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9560" y="1850760"/>
            <a:ext cx="10071000" cy="197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ведения о беременности с абортивным исходом»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111720" y="4220640"/>
            <a:ext cx="595800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ебенник Татьяна Константино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_grebennik@oparina4.ru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едующий организационно-методическим отделом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ГБУ «НМИЦ АГП им. В.И. Кулакова» МЗ РФ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17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декабрь, 2021 г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3" descr=""/>
          <p:cNvPicPr/>
          <p:nvPr/>
        </p:nvPicPr>
        <p:blipFill>
          <a:blip r:embed="rId1"/>
          <a:stretch/>
        </p:blipFill>
        <p:spPr>
          <a:xfrm>
            <a:off x="10715760" y="136440"/>
            <a:ext cx="1476360" cy="11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838080" y="2507760"/>
            <a:ext cx="10515600" cy="36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3000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ывает число женщин, умерших от прерывания беременности (O02 - O06) всего (графа 1), из них в сроки: до 12 недель (графа 2), с 12 до 22 недель (графа 3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Рисунок 11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16532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1" descr=""/>
          <p:cNvPicPr/>
          <p:nvPr/>
        </p:nvPicPr>
        <p:blipFill>
          <a:blip r:embed="rId2"/>
          <a:stretch/>
        </p:blipFill>
        <p:spPr>
          <a:xfrm>
            <a:off x="739800" y="681120"/>
            <a:ext cx="9345600" cy="993600"/>
          </a:xfrm>
          <a:prstGeom prst="rect">
            <a:avLst/>
          </a:prstGeom>
          <a:ln w="0">
            <a:noFill/>
          </a:ln>
        </p:spPr>
      </p:pic>
      <p:pic>
        <p:nvPicPr>
          <p:cNvPr id="90" name="Группа 8" descr=""/>
          <p:cNvPicPr/>
          <p:nvPr/>
        </p:nvPicPr>
        <p:blipFill>
          <a:blip r:embed="rId3"/>
          <a:stretch/>
        </p:blipFill>
        <p:spPr>
          <a:xfrm>
            <a:off x="1474920" y="4932360"/>
            <a:ext cx="5327640" cy="13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92" name="Группа 13"/>
          <p:cNvGrpSpPr/>
          <p:nvPr/>
        </p:nvGrpSpPr>
        <p:grpSpPr>
          <a:xfrm>
            <a:off x="727200" y="2093760"/>
            <a:ext cx="10101240" cy="4326120"/>
            <a:chOff x="727200" y="2093760"/>
            <a:chExt cx="10101240" cy="4326120"/>
          </a:xfrm>
        </p:grpSpPr>
        <p:pic>
          <p:nvPicPr>
            <p:cNvPr id="93" name="Схема 2" descr=""/>
            <p:cNvPicPr/>
            <p:nvPr/>
          </p:nvPicPr>
          <p:blipFill>
            <a:blip r:embed="rId1"/>
            <a:stretch/>
          </p:blipFill>
          <p:spPr>
            <a:xfrm>
              <a:off x="727200" y="2093760"/>
              <a:ext cx="10101240" cy="432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Box 5"/>
            <p:cNvSpPr/>
            <p:nvPr/>
          </p:nvSpPr>
          <p:spPr>
            <a:xfrm>
              <a:off x="944640" y="2747160"/>
              <a:ext cx="18468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TextBox 7"/>
            <p:cNvSpPr/>
            <p:nvPr/>
          </p:nvSpPr>
          <p:spPr>
            <a:xfrm>
              <a:off x="1198800" y="3968280"/>
              <a:ext cx="107424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TextBox 12"/>
            <p:cNvSpPr/>
            <p:nvPr/>
          </p:nvSpPr>
          <p:spPr>
            <a:xfrm>
              <a:off x="1362960" y="5296680"/>
              <a:ext cx="117180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7" name="TextBox 14"/>
          <p:cNvSpPr/>
          <p:nvPr/>
        </p:nvSpPr>
        <p:spPr>
          <a:xfrm>
            <a:off x="5251320" y="1752480"/>
            <a:ext cx="56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яснительные запис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Рисунок 11" descr=""/>
          <p:cNvPicPr/>
          <p:nvPr/>
        </p:nvPicPr>
        <p:blipFill>
          <a:blip r:embed="rId2"/>
          <a:stretch/>
        </p:blipFill>
        <p:spPr>
          <a:xfrm>
            <a:off x="10721880" y="136440"/>
            <a:ext cx="1470240" cy="1143000"/>
          </a:xfrm>
          <a:prstGeom prst="rect">
            <a:avLst/>
          </a:prstGeom>
          <a:ln w="0">
            <a:noFill/>
          </a:ln>
        </p:spPr>
      </p:pic>
      <p:sp>
        <p:nvSpPr>
          <p:cNvPr id="99" name="TextBox 16"/>
          <p:cNvSpPr/>
          <p:nvPr/>
        </p:nvSpPr>
        <p:spPr>
          <a:xfrm>
            <a:off x="1125360" y="2682720"/>
            <a:ext cx="4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17"/>
          <p:cNvSpPr/>
          <p:nvPr/>
        </p:nvSpPr>
        <p:spPr>
          <a:xfrm>
            <a:off x="1444680" y="4005360"/>
            <a:ext cx="4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18"/>
          <p:cNvSpPr/>
          <p:nvPr/>
        </p:nvSpPr>
        <p:spPr>
          <a:xfrm>
            <a:off x="1144440" y="5291280"/>
            <a:ext cx="47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яснительные записки к форме № 13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103" name="Группа 13"/>
          <p:cNvGrpSpPr/>
          <p:nvPr/>
        </p:nvGrpSpPr>
        <p:grpSpPr>
          <a:xfrm>
            <a:off x="762120" y="1176480"/>
            <a:ext cx="7958160" cy="4956120"/>
            <a:chOff x="762120" y="1176480"/>
            <a:chExt cx="7958160" cy="4956120"/>
          </a:xfrm>
        </p:grpSpPr>
        <p:pic>
          <p:nvPicPr>
            <p:cNvPr id="104" name="Схема 2" descr=""/>
            <p:cNvPicPr/>
            <p:nvPr/>
          </p:nvPicPr>
          <p:blipFill>
            <a:blip r:embed="rId1"/>
            <a:stretch/>
          </p:blipFill>
          <p:spPr>
            <a:xfrm>
              <a:off x="762120" y="1176480"/>
              <a:ext cx="7958160" cy="495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Box 5"/>
            <p:cNvSpPr/>
            <p:nvPr/>
          </p:nvSpPr>
          <p:spPr>
            <a:xfrm>
              <a:off x="1356840" y="189900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1</a:t>
              </a:r>
              <a:r>
                <a:rPr b="1" lang="en-US" sz="2800" spc="-1" strike="noStrike">
                  <a:solidFill>
                    <a:srgbClr val="c00000"/>
                  </a:solidFill>
                  <a:latin typeface="Corbe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TextBox 7"/>
            <p:cNvSpPr/>
            <p:nvPr/>
          </p:nvSpPr>
          <p:spPr>
            <a:xfrm>
              <a:off x="1728360" y="342720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2</a:t>
              </a:r>
              <a:r>
                <a:rPr b="1" lang="en-US" sz="2800" spc="-1" strike="noStrike">
                  <a:solidFill>
                    <a:srgbClr val="c00000"/>
                  </a:solidFill>
                  <a:latin typeface="Corbe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TextBox 12"/>
            <p:cNvSpPr/>
            <p:nvPr/>
          </p:nvSpPr>
          <p:spPr>
            <a:xfrm>
              <a:off x="1316160" y="490428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3</a:t>
              </a:r>
              <a:r>
                <a:rPr b="1" lang="en-US" sz="2800" spc="-1" strike="noStrike">
                  <a:solidFill>
                    <a:srgbClr val="c00000"/>
                  </a:solidFill>
                  <a:latin typeface="Corbe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8" name="Прямоугольник 11"/>
          <p:cNvSpPr/>
          <p:nvPr/>
        </p:nvSpPr>
        <p:spPr>
          <a:xfrm>
            <a:off x="566640" y="2957400"/>
            <a:ext cx="11004480" cy="22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аборты у девочек в возрасте до 14 лет вкл. считаются как аборты по медицинским показаниям, в силу физиологической незрелости организм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Рисунок 14" descr=""/>
          <p:cNvPicPr/>
          <p:nvPr/>
        </p:nvPicPr>
        <p:blipFill>
          <a:blip r:embed="rId2"/>
          <a:stretch/>
        </p:blipFill>
        <p:spPr>
          <a:xfrm>
            <a:off x="10721880" y="136440"/>
            <a:ext cx="147024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566640" y="4322880"/>
          <a:ext cx="11004480" cy="2431800"/>
        </p:xfrm>
        <a:graphic>
          <a:graphicData uri="http://schemas.openxmlformats.org/drawingml/2006/table">
            <a:tbl>
              <a:tblPr/>
              <a:tblGrid>
                <a:gridCol w="2200320"/>
                <a:gridCol w="2201760"/>
                <a:gridCol w="2200320"/>
                <a:gridCol w="2202120"/>
                <a:gridCol w="2199960"/>
              </a:tblGrid>
              <a:tr h="2043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ритория проживани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Регион прожи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рождения, возраст на момент госпитализ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производства абор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з (МКБ-1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пособ прерывания беремен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8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яснительные записки к форме № 13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112" name="Группа 13"/>
          <p:cNvGrpSpPr/>
          <p:nvPr/>
        </p:nvGrpSpPr>
        <p:grpSpPr>
          <a:xfrm>
            <a:off x="947880" y="852480"/>
            <a:ext cx="7958160" cy="4956120"/>
            <a:chOff x="947880" y="852480"/>
            <a:chExt cx="7958160" cy="4956120"/>
          </a:xfrm>
        </p:grpSpPr>
        <p:pic>
          <p:nvPicPr>
            <p:cNvPr id="113" name="Схема 2" descr=""/>
            <p:cNvPicPr/>
            <p:nvPr/>
          </p:nvPicPr>
          <p:blipFill>
            <a:blip r:embed="rId1"/>
            <a:stretch/>
          </p:blipFill>
          <p:spPr>
            <a:xfrm>
              <a:off x="947880" y="852480"/>
              <a:ext cx="7958160" cy="495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TextBox 5"/>
            <p:cNvSpPr/>
            <p:nvPr/>
          </p:nvSpPr>
          <p:spPr>
            <a:xfrm>
              <a:off x="1504800" y="153180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2</a:t>
              </a:r>
              <a:r>
                <a:rPr b="1" lang="en-US" sz="2800" spc="-1" strike="noStrike">
                  <a:solidFill>
                    <a:srgbClr val="c00000"/>
                  </a:solidFill>
                  <a:latin typeface="Corbe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TextBox 7"/>
            <p:cNvSpPr/>
            <p:nvPr/>
          </p:nvSpPr>
          <p:spPr>
            <a:xfrm>
              <a:off x="1973160" y="3102480"/>
              <a:ext cx="181440" cy="52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TextBox 12"/>
            <p:cNvSpPr/>
            <p:nvPr/>
          </p:nvSpPr>
          <p:spPr>
            <a:xfrm>
              <a:off x="1567800" y="4579560"/>
              <a:ext cx="181440" cy="52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7" name="Прямоугольник 11"/>
          <p:cNvSpPr/>
          <p:nvPr/>
        </p:nvSpPr>
        <p:spPr>
          <a:xfrm>
            <a:off x="2452680" y="3792600"/>
            <a:ext cx="7797960" cy="222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ить «Карту донесения о случае материнской смерти», учетная форма №003/у-МС утверждена приказом Минздрава России от 20 октября 2020 г. № 1130 н «Об утверждении Порядка оказания медицинской помощи по профилю «акушерство и гинекология», скрыв персональные данны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Рисунок 14" descr=""/>
          <p:cNvPicPr/>
          <p:nvPr/>
        </p:nvPicPr>
        <p:blipFill>
          <a:blip r:embed="rId2"/>
          <a:stretch/>
        </p:blipFill>
        <p:spPr>
          <a:xfrm>
            <a:off x="10721880" y="136440"/>
            <a:ext cx="1470240" cy="1143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546120" y="2805120"/>
          <a:ext cx="1089648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27400"/>
                <a:gridCol w="533520"/>
                <a:gridCol w="912600"/>
                <a:gridCol w="1063800"/>
                <a:gridCol w="836640"/>
                <a:gridCol w="836640"/>
                <a:gridCol w="836280"/>
                <a:gridCol w="836640"/>
                <a:gridCol w="83664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120" name="Прямоугольная выноска 3"/>
          <p:cNvSpPr/>
          <p:nvPr/>
        </p:nvSpPr>
        <p:spPr>
          <a:xfrm>
            <a:off x="6411960" y="1658880"/>
            <a:ext cx="5405400" cy="1530360"/>
          </a:xfrm>
          <a:prstGeom prst="wedgeRectCallout">
            <a:avLst>
              <a:gd name="adj1" fmla="val -41370"/>
              <a:gd name="adj2" fmla="val 229356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таблице 1000 число медицинских абортов включает число медицинских абортов легальных (по желанию женщины) и число абортов по медицинским показания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Прямоугольник 5"/>
          <p:cNvSpPr/>
          <p:nvPr/>
        </p:nvSpPr>
        <p:spPr>
          <a:xfrm>
            <a:off x="1587600" y="74916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Заголовок 1"/>
          <p:cNvSpPr/>
          <p:nvPr/>
        </p:nvSpPr>
        <p:spPr>
          <a:xfrm>
            <a:off x="495360" y="2489040"/>
            <a:ext cx="787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24" name="Овал 5"/>
          <p:cNvSpPr/>
          <p:nvPr/>
        </p:nvSpPr>
        <p:spPr>
          <a:xfrm>
            <a:off x="5524560" y="5600880"/>
            <a:ext cx="419040" cy="3934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Прямоугольная выноска 9"/>
          <p:cNvSpPr/>
          <p:nvPr/>
        </p:nvSpPr>
        <p:spPr>
          <a:xfrm>
            <a:off x="7432560" y="3616200"/>
            <a:ext cx="4384800" cy="1608120"/>
          </a:xfrm>
          <a:prstGeom prst="wedgeRectCallout">
            <a:avLst>
              <a:gd name="adj1" fmla="val -61574"/>
              <a:gd name="adj2" fmla="val 89527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число абортов по медицинским показаниям включаются аборты, проведенные при угрозе состоянию здоровья женщины или по показаниям со стороны плода, независимо от метода (О04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Прямоугольная выноска 10"/>
          <p:cNvSpPr/>
          <p:nvPr/>
        </p:nvSpPr>
        <p:spPr>
          <a:xfrm>
            <a:off x="4444920" y="2654280"/>
            <a:ext cx="1841760" cy="1101600"/>
          </a:xfrm>
          <a:prstGeom prst="wedgeRectCallout">
            <a:avLst>
              <a:gd name="adj1" fmla="val 84083"/>
              <a:gd name="adj2" fmla="val 24137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ф13т1000г4ст4=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13т1100г1+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13т1101г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546120" y="2805120"/>
          <a:ext cx="1089648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27400"/>
                <a:gridCol w="533520"/>
                <a:gridCol w="912600"/>
                <a:gridCol w="1063800"/>
                <a:gridCol w="836640"/>
                <a:gridCol w="836640"/>
                <a:gridCol w="836280"/>
                <a:gridCol w="836640"/>
                <a:gridCol w="83664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с 12 до 2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 по медицинским показания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128" name="Прямоугольная выноска 3"/>
          <p:cNvSpPr/>
          <p:nvPr/>
        </p:nvSpPr>
        <p:spPr>
          <a:xfrm>
            <a:off x="6442200" y="1547640"/>
            <a:ext cx="5403600" cy="1530360"/>
          </a:xfrm>
          <a:prstGeom prst="wedgeRectCallout">
            <a:avLst>
              <a:gd name="adj1" fmla="val -41370"/>
              <a:gd name="adj2" fmla="val 229356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таблице 2000 указывается только число абортов по медицинским показания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Прямоугольник 5"/>
          <p:cNvSpPr/>
          <p:nvPr/>
        </p:nvSpPr>
        <p:spPr>
          <a:xfrm>
            <a:off x="1587600" y="74916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Заголовок 1"/>
          <p:cNvSpPr/>
          <p:nvPr/>
        </p:nvSpPr>
        <p:spPr>
          <a:xfrm>
            <a:off x="495360" y="2489040"/>
            <a:ext cx="787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2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32" name="Овал 5"/>
          <p:cNvSpPr/>
          <p:nvPr/>
        </p:nvSpPr>
        <p:spPr>
          <a:xfrm>
            <a:off x="5524560" y="5600880"/>
            <a:ext cx="419040" cy="3934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546120" y="2805120"/>
          <a:ext cx="1089648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27400"/>
                <a:gridCol w="533520"/>
                <a:gridCol w="912600"/>
                <a:gridCol w="1063800"/>
                <a:gridCol w="836640"/>
                <a:gridCol w="836640"/>
                <a:gridCol w="836280"/>
                <a:gridCol w="836640"/>
                <a:gridCol w="83664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134" name="Прямоугольная выноска 3"/>
          <p:cNvSpPr/>
          <p:nvPr/>
        </p:nvSpPr>
        <p:spPr>
          <a:xfrm>
            <a:off x="7275600" y="1320840"/>
            <a:ext cx="4776840" cy="1714320"/>
          </a:xfrm>
          <a:prstGeom prst="wedgeRectCallout">
            <a:avLst>
              <a:gd name="adj1" fmla="val -80245"/>
              <a:gd name="adj2" fmla="val 232912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число других видов абортов (криминальных) включаются случаи, когда установлено вмешательство с целью прерывания беременности самой беременной или другими лицами вне лечебной организации(О05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Прямоугольник 5"/>
          <p:cNvSpPr/>
          <p:nvPr/>
        </p:nvSpPr>
        <p:spPr>
          <a:xfrm>
            <a:off x="1587600" y="74916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Заголовок 1"/>
          <p:cNvSpPr/>
          <p:nvPr/>
        </p:nvSpPr>
        <p:spPr>
          <a:xfrm>
            <a:off x="495360" y="2489040"/>
            <a:ext cx="787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38" name="Овал 6"/>
          <p:cNvSpPr/>
          <p:nvPr/>
        </p:nvSpPr>
        <p:spPr>
          <a:xfrm>
            <a:off x="5473800" y="5994360"/>
            <a:ext cx="469800" cy="368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546120" y="2805120"/>
          <a:ext cx="1089648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27400"/>
                <a:gridCol w="533520"/>
                <a:gridCol w="912600"/>
                <a:gridCol w="1063800"/>
                <a:gridCol w="836640"/>
                <a:gridCol w="836640"/>
                <a:gridCol w="836280"/>
                <a:gridCol w="836640"/>
                <a:gridCol w="83664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140" name="Прямоугольная выноска 3"/>
          <p:cNvSpPr/>
          <p:nvPr/>
        </p:nvSpPr>
        <p:spPr>
          <a:xfrm>
            <a:off x="7275600" y="1287360"/>
            <a:ext cx="4776840" cy="2427480"/>
          </a:xfrm>
          <a:prstGeom prst="wedgeRectCallout">
            <a:avLst>
              <a:gd name="adj1" fmla="val -77055"/>
              <a:gd name="adj2" fmla="val 162615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число неуточненных (внебольничных) абортов включаются случаи, когда не выявлено достаточных данных, позволяющих судить о характере аборта (спонтанном прерывании беременности или имевшем место вмешательстве с целью ее прерывания)(О06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Прямоугольник 5"/>
          <p:cNvSpPr/>
          <p:nvPr/>
        </p:nvSpPr>
        <p:spPr>
          <a:xfrm>
            <a:off x="1587600" y="74916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Заголовок 1"/>
          <p:cNvSpPr/>
          <p:nvPr/>
        </p:nvSpPr>
        <p:spPr>
          <a:xfrm>
            <a:off x="495360" y="2489040"/>
            <a:ext cx="787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44" name="Овал 6"/>
          <p:cNvSpPr/>
          <p:nvPr/>
        </p:nvSpPr>
        <p:spPr>
          <a:xfrm>
            <a:off x="5524560" y="6311880"/>
            <a:ext cx="469800" cy="368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546120" y="2031840"/>
          <a:ext cx="10896480" cy="4272120"/>
        </p:xfrm>
        <a:graphic>
          <a:graphicData uri="http://schemas.openxmlformats.org/drawingml/2006/table">
            <a:tbl>
              <a:tblPr/>
              <a:tblGrid>
                <a:gridCol w="76320"/>
                <a:gridCol w="4127400"/>
                <a:gridCol w="533520"/>
                <a:gridCol w="912600"/>
                <a:gridCol w="1063800"/>
                <a:gridCol w="836640"/>
                <a:gridCol w="836640"/>
                <a:gridCol w="836280"/>
                <a:gridCol w="836640"/>
                <a:gridCol w="836640"/>
              </a:tblGrid>
              <a:tr h="29052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5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5092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223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509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50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93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189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189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175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193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оме того:  внематочная беремен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984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узырный зано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189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удачная попытка абор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146" name="Прямоугольная выноска 3"/>
          <p:cNvSpPr/>
          <p:nvPr/>
        </p:nvSpPr>
        <p:spPr>
          <a:xfrm>
            <a:off x="7275600" y="1287360"/>
            <a:ext cx="4776840" cy="2451240"/>
          </a:xfrm>
          <a:prstGeom prst="wedgeRectCallout">
            <a:avLst>
              <a:gd name="adj1" fmla="val -75601"/>
              <a:gd name="adj2" fmla="val 144671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гласно Международной классификации болезней 10-го пересмотра и правилам кодирования "неудачная попытка аборта (O07)" включает случаи, когда процедура искусственного прерывания беременности, в том числе по медицинским показаниям, была выполнена, но оказалась безуспешной, и развитие плода продолжилос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Прямоугольник 5"/>
          <p:cNvSpPr/>
          <p:nvPr/>
        </p:nvSpPr>
        <p:spPr>
          <a:xfrm>
            <a:off x="1587600" y="74916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Заголовок 1"/>
          <p:cNvSpPr/>
          <p:nvPr/>
        </p:nvSpPr>
        <p:spPr>
          <a:xfrm>
            <a:off x="495360" y="2489040"/>
            <a:ext cx="787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50" name="Овал 6"/>
          <p:cNvSpPr/>
          <p:nvPr/>
        </p:nvSpPr>
        <p:spPr>
          <a:xfrm>
            <a:off x="5524560" y="5935680"/>
            <a:ext cx="469800" cy="368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Рисунок 4" descr=""/>
          <p:cNvPicPr/>
          <p:nvPr/>
        </p:nvPicPr>
        <p:blipFill>
          <a:blip r:embed="rId1"/>
          <a:stretch/>
        </p:blipFill>
        <p:spPr>
          <a:xfrm>
            <a:off x="727200" y="561960"/>
            <a:ext cx="9443880" cy="126360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е 1105 отражаются осложнения, вызванные абортом (из строки 1 графы 4 таблицы 1000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е 2105 отражаются осложнения, вызванные абортом (из строки 1 графы 4 таблицы 2000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Рисунок 11" descr=""/>
          <p:cNvPicPr/>
          <p:nvPr/>
        </p:nvPicPr>
        <p:blipFill>
          <a:blip r:embed="rId2"/>
          <a:stretch/>
        </p:blipFill>
        <p:spPr>
          <a:xfrm>
            <a:off x="10566360" y="136440"/>
            <a:ext cx="162576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1120" y="577800"/>
            <a:ext cx="877284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ведения о беременности с абортивным исходом» </a:t>
            </a:r>
            <a:r>
              <a:rPr b="1" lang="ru-RU" sz="2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полняется полностью.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3" name="Рисунок 4" descr=""/>
          <p:cNvPicPr/>
          <p:nvPr/>
        </p:nvPicPr>
        <p:blipFill>
          <a:blip r:embed="rId1"/>
          <a:stretch/>
        </p:blipFill>
        <p:spPr>
          <a:xfrm>
            <a:off x="10663200" y="136440"/>
            <a:ext cx="1528920" cy="1187640"/>
          </a:xfrm>
          <a:prstGeom prst="rect">
            <a:avLst/>
          </a:prstGeom>
          <a:ln w="0">
            <a:noFill/>
          </a:ln>
        </p:spPr>
      </p:pic>
      <p:pic>
        <p:nvPicPr>
          <p:cNvPr id="54" name="Объект 4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1962000" y="2017800"/>
            <a:ext cx="848052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685800" y="2805120"/>
          <a:ext cx="1083312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03640"/>
                <a:gridCol w="528480"/>
                <a:gridCol w="908280"/>
                <a:gridCol w="1058760"/>
                <a:gridCol w="830160"/>
                <a:gridCol w="831960"/>
                <a:gridCol w="831960"/>
                <a:gridCol w="831600"/>
                <a:gridCol w="83196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156" name="Прямоугольная выноска 2"/>
          <p:cNvSpPr/>
          <p:nvPr/>
        </p:nvSpPr>
        <p:spPr>
          <a:xfrm>
            <a:off x="2627280" y="5114880"/>
            <a:ext cx="2033640" cy="1311480"/>
          </a:xfrm>
          <a:prstGeom prst="wedgeRectCallout">
            <a:avLst>
              <a:gd name="adj1" fmla="val 146439"/>
              <a:gd name="adj2" fmla="val -86435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  сумме строк 2-6 графы 4 т 1000 Ф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Прямоугольная выноска 3"/>
          <p:cNvSpPr/>
          <p:nvPr/>
        </p:nvSpPr>
        <p:spPr>
          <a:xfrm>
            <a:off x="9320040" y="1494000"/>
            <a:ext cx="2033640" cy="1311120"/>
          </a:xfrm>
          <a:prstGeom prst="wedgeRectCallout">
            <a:avLst>
              <a:gd name="adj1" fmla="val -151453"/>
              <a:gd name="adj2" fmla="val 173129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  сумме граф 5-9 строфы 1  т 1000 Ф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Прямоугольник 5"/>
          <p:cNvSpPr/>
          <p:nvPr/>
        </p:nvSpPr>
        <p:spPr>
          <a:xfrm>
            <a:off x="1587600" y="76212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Заголовок 1"/>
          <p:cNvSpPr/>
          <p:nvPr/>
        </p:nvSpPr>
        <p:spPr>
          <a:xfrm>
            <a:off x="495360" y="2489040"/>
            <a:ext cx="787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679320" y="2646360"/>
          <a:ext cx="1083312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03640"/>
                <a:gridCol w="528840"/>
                <a:gridCol w="907920"/>
                <a:gridCol w="1058760"/>
                <a:gridCol w="830520"/>
                <a:gridCol w="831600"/>
                <a:gridCol w="831960"/>
                <a:gridCol w="831960"/>
                <a:gridCol w="83160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162" name="Прямоугольник 5"/>
          <p:cNvSpPr/>
          <p:nvPr/>
        </p:nvSpPr>
        <p:spPr>
          <a:xfrm>
            <a:off x="1587600" y="76212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Заголовок 1"/>
          <p:cNvSpPr/>
          <p:nvPr/>
        </p:nvSpPr>
        <p:spPr>
          <a:xfrm>
            <a:off x="495360" y="2309760"/>
            <a:ext cx="787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65" name="Прямоугольная выноска 4"/>
          <p:cNvSpPr/>
          <p:nvPr/>
        </p:nvSpPr>
        <p:spPr>
          <a:xfrm>
            <a:off x="9261360" y="3645000"/>
            <a:ext cx="2435400" cy="1425600"/>
          </a:xfrm>
          <a:prstGeom prst="wedgeRectCallout">
            <a:avLst>
              <a:gd name="adj1" fmla="val -99995"/>
              <a:gd name="adj2" fmla="val 2226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Все аборты у девочек до 14 лет вкл. показываются в форме  № 13. таблица 1101, стр.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Прямоугольная выноска 2"/>
          <p:cNvSpPr/>
          <p:nvPr/>
        </p:nvSpPr>
        <p:spPr>
          <a:xfrm>
            <a:off x="5246640" y="5114880"/>
            <a:ext cx="2397240" cy="1565280"/>
          </a:xfrm>
          <a:prstGeom prst="wedgeRectCallout">
            <a:avLst>
              <a:gd name="adj1" fmla="val 50722"/>
              <a:gd name="adj2" fmla="val -94875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Все аборты у девочек до 14 лет вкл. показываются в форме  № 12. таблица 1000, стр.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803160" y="1927080"/>
          <a:ext cx="10833120" cy="3875400"/>
        </p:xfrm>
        <a:graphic>
          <a:graphicData uri="http://schemas.openxmlformats.org/drawingml/2006/table">
            <a:tbl>
              <a:tblPr/>
              <a:tblGrid>
                <a:gridCol w="76320"/>
                <a:gridCol w="4103640"/>
                <a:gridCol w="528840"/>
                <a:gridCol w="907920"/>
                <a:gridCol w="1047600"/>
                <a:gridCol w="841320"/>
                <a:gridCol w="831960"/>
                <a:gridCol w="831960"/>
                <a:gridCol w="831960"/>
                <a:gridCol w="83160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555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2682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2667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f559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</a:tbl>
          </a:graphicData>
        </a:graphic>
      </p:graphicFrame>
      <p:sp>
        <p:nvSpPr>
          <p:cNvPr id="168" name="Прямоугольная выноска 2"/>
          <p:cNvSpPr/>
          <p:nvPr/>
        </p:nvSpPr>
        <p:spPr>
          <a:xfrm>
            <a:off x="2843280" y="3613320"/>
            <a:ext cx="1841400" cy="1101600"/>
          </a:xfrm>
          <a:prstGeom prst="wedgeRectCallout">
            <a:avLst>
              <a:gd name="adj1" fmla="val 163282"/>
              <a:gd name="adj2" fmla="val 68032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13т1100г1+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13т1101г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Прямоугольная выноска 3"/>
          <p:cNvSpPr/>
          <p:nvPr/>
        </p:nvSpPr>
        <p:spPr>
          <a:xfrm>
            <a:off x="1841400" y="5235480"/>
            <a:ext cx="2281320" cy="1262160"/>
          </a:xfrm>
          <a:prstGeom prst="wedgeRectCallout">
            <a:avLst>
              <a:gd name="adj1" fmla="val 213189"/>
              <a:gd name="adj2" fmla="val -68935"/>
            </a:avLst>
          </a:prstGeom>
          <a:solidFill>
            <a:srgbClr val="c9c9c9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ответствует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1г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Прямоугольная выноска 4"/>
          <p:cNvSpPr/>
          <p:nvPr/>
        </p:nvSpPr>
        <p:spPr>
          <a:xfrm>
            <a:off x="9664560" y="3863880"/>
            <a:ext cx="2281320" cy="1262160"/>
          </a:xfrm>
          <a:prstGeom prst="wedgeRectCallout">
            <a:avLst>
              <a:gd name="adj1" fmla="val -89388"/>
              <a:gd name="adj2" fmla="val 42240"/>
            </a:avLst>
          </a:prstGeom>
          <a:solidFill>
            <a:srgbClr val="92d050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ответствует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0г5+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1г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72" name="Прямоугольник 7"/>
          <p:cNvSpPr/>
          <p:nvPr/>
        </p:nvSpPr>
        <p:spPr>
          <a:xfrm>
            <a:off x="2451240" y="317520"/>
            <a:ext cx="795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Заголовок 1"/>
          <p:cNvSpPr/>
          <p:nvPr/>
        </p:nvSpPr>
        <p:spPr>
          <a:xfrm>
            <a:off x="685800" y="1611360"/>
            <a:ext cx="78732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Прямоугольник 3"/>
          <p:cNvSpPr/>
          <p:nvPr/>
        </p:nvSpPr>
        <p:spPr>
          <a:xfrm>
            <a:off x="1308240" y="2857680"/>
            <a:ext cx="416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 Таблица 2100 графа 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казывать число абортов, проведенных по социальным показаниям (независимо от метода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Прямоугольная выноска 4"/>
          <p:cNvSpPr/>
          <p:nvPr/>
        </p:nvSpPr>
        <p:spPr>
          <a:xfrm>
            <a:off x="5473800" y="2298600"/>
            <a:ext cx="6159240" cy="3988080"/>
          </a:xfrm>
          <a:prstGeom prst="wedgeRectCallout">
            <a:avLst>
              <a:gd name="adj1" fmla="val -88412"/>
              <a:gd name="adj2" fmla="val 2328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тановление Правительства РФ от 06.02.2012 N 9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О социальном показании для искусственного прерывания беременности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циальным показанием для искусственного прерывания беременности является беременность, наступившая в результате совершения преступления, предусмотренног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тьей 131 Уголовного кодекса Российской Федерац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77" name="Прямоугольник 10"/>
          <p:cNvSpPr/>
          <p:nvPr/>
        </p:nvSpPr>
        <p:spPr>
          <a:xfrm>
            <a:off x="2006640" y="684360"/>
            <a:ext cx="8166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Прямоугольник 11"/>
          <p:cNvSpPr/>
          <p:nvPr/>
        </p:nvSpPr>
        <p:spPr>
          <a:xfrm>
            <a:off x="1752480" y="1943280"/>
            <a:ext cx="568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нимательно заполняем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Рисунок 1" descr=""/>
          <p:cNvPicPr/>
          <p:nvPr/>
        </p:nvPicPr>
        <p:blipFill>
          <a:blip r:embed="rId2"/>
          <a:stretch/>
        </p:blipFill>
        <p:spPr>
          <a:xfrm>
            <a:off x="8570880" y="5454720"/>
            <a:ext cx="2871720" cy="11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Прямоугольник 1"/>
          <p:cNvSpPr/>
          <p:nvPr/>
        </p:nvSpPr>
        <p:spPr>
          <a:xfrm>
            <a:off x="533520" y="2286000"/>
            <a:ext cx="861048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14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деятельности подразделений медицинской организации, оказывающих медицинскую помощь в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ционарны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ловиях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6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аборты (раздел  3. «Хирургическая работа организации»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авильной регистрации число абортов по форме № 13 (т1000+т2000) равно или превосходит аборты по форме № 14 за счет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булаторн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изведенных абортов. Форма № 14 учитывает аборты, произведенны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в стационарных условия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Прямоугольная выноска 3"/>
          <p:cNvSpPr/>
          <p:nvPr/>
        </p:nvSpPr>
        <p:spPr>
          <a:xfrm>
            <a:off x="9461520" y="1866960"/>
            <a:ext cx="2171520" cy="3429000"/>
          </a:xfrm>
          <a:prstGeom prst="wedgeRectCallout">
            <a:avLst>
              <a:gd name="adj1" fmla="val -87023"/>
              <a:gd name="adj2" fmla="val 1425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1000,1,04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2000,1,04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=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,4000,14.6,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Прямоугольник 4"/>
          <p:cNvSpPr/>
          <p:nvPr/>
        </p:nvSpPr>
        <p:spPr>
          <a:xfrm flipH="1">
            <a:off x="673200" y="1066680"/>
            <a:ext cx="10959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3 - ФОРМА №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Прямоугольник 1"/>
          <p:cNvSpPr/>
          <p:nvPr/>
        </p:nvSpPr>
        <p:spPr>
          <a:xfrm>
            <a:off x="533520" y="2286000"/>
            <a:ext cx="861048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14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деятельности подразделений медицинской организации, оказывающих медицинскую помощь в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ционарны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ловиях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о поводу внематочной беременности (раздел  3. «Хирургическая работа организации»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авильной регистрации сумма внематочных беременностей из строк 7, таблиц 1000 и 2000 по форме № 13 равна числу операций по поводу внематочной беременности по форме № 14, при разнице значений необходимо предоставление пояснительной записк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Прямоугольная выноска 3"/>
          <p:cNvSpPr/>
          <p:nvPr/>
        </p:nvSpPr>
        <p:spPr>
          <a:xfrm>
            <a:off x="9461520" y="1866960"/>
            <a:ext cx="2171520" cy="3429000"/>
          </a:xfrm>
          <a:prstGeom prst="wedgeRectCallout">
            <a:avLst>
              <a:gd name="adj1" fmla="val -87023"/>
              <a:gd name="adj2" fmla="val 1425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1000,7,04+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2000,7,04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=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,4000,141,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Прямоугольник 4"/>
          <p:cNvSpPr/>
          <p:nvPr/>
        </p:nvSpPr>
        <p:spPr>
          <a:xfrm flipH="1">
            <a:off x="673200" y="1143000"/>
            <a:ext cx="946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3 - ФОРМА №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"/>
          <p:cNvSpPr/>
          <p:nvPr/>
        </p:nvSpPr>
        <p:spPr>
          <a:xfrm>
            <a:off x="533520" y="2286000"/>
            <a:ext cx="861048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ический контроль с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32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МЕДИЦИНСКОЙ ПОМОЩИ БЕРЕМЕННЫМ, РОЖЕНИЦАМ И РОДИЛЬНИЦАМ»:  таблиц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2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рвано беременностей из числа женщин, у которых выявлены хромосомные аномалии и (или) пороки развития плода,  прошедших оценку антенатального развития плода при сроке беременности от 19 до 21 недел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орме №1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аблице 2000 (12-22 недели), графа 4, строка 4 -  число абортов проведенных по медицинским показаниям должно быть больше, чем в форме №3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быть по другому, но в таком случае объяснить почем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Прямоугольная выноска 3"/>
          <p:cNvSpPr/>
          <p:nvPr/>
        </p:nvSpPr>
        <p:spPr>
          <a:xfrm>
            <a:off x="9461520" y="1866960"/>
            <a:ext cx="2171520" cy="3429000"/>
          </a:xfrm>
          <a:prstGeom prst="wedgeRectCallout">
            <a:avLst>
              <a:gd name="adj1" fmla="val -87560"/>
              <a:gd name="adj2" fmla="val 3450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2000,4,04&gt;=32,2120,1,20*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Прямоугольник 4"/>
          <p:cNvSpPr/>
          <p:nvPr/>
        </p:nvSpPr>
        <p:spPr>
          <a:xfrm flipH="1">
            <a:off x="673200" y="1143000"/>
            <a:ext cx="946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3 - ФОРМА №3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Прямоугольник 1"/>
          <p:cNvSpPr/>
          <p:nvPr/>
        </p:nvSpPr>
        <p:spPr>
          <a:xfrm>
            <a:off x="533520" y="2286000"/>
            <a:ext cx="8610480" cy="27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ический контрол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16-ВН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причинах временной нетрудоспособности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0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 (аборты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умма граф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,15,16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озраст старше 50 лет) – если в форме №13 нет данных за женщин старше 50 лет, а в форме №16-ВН есть, пояснить разниц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Прямоугольная выноска 3"/>
          <p:cNvSpPr/>
          <p:nvPr/>
        </p:nvSpPr>
        <p:spPr>
          <a:xfrm>
            <a:off x="9272520" y="1866960"/>
            <a:ext cx="2360520" cy="3429000"/>
          </a:xfrm>
          <a:prstGeom prst="wedgeRectCallout">
            <a:avLst>
              <a:gd name="adj1" fmla="val -87023"/>
              <a:gd name="adj2" fmla="val 1425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-ВН,1000,ст52,гр 14+15+16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троль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1000,ст1,гр9+ 13,2000,ст1,гр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Прямоугольник 4"/>
          <p:cNvSpPr/>
          <p:nvPr/>
        </p:nvSpPr>
        <p:spPr>
          <a:xfrm flipH="1">
            <a:off x="673200" y="1143000"/>
            <a:ext cx="946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3 - ФОРМА №16-В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Прямоугольник 1"/>
          <p:cNvSpPr/>
          <p:nvPr/>
        </p:nvSpPr>
        <p:spPr>
          <a:xfrm>
            <a:off x="2387520" y="278136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Рисунок 14" descr=""/>
          <p:cNvPicPr/>
          <p:nvPr/>
        </p:nvPicPr>
        <p:blipFill>
          <a:blip r:embed="rId1"/>
          <a:stretch/>
        </p:blipFill>
        <p:spPr>
          <a:xfrm>
            <a:off x="10598040" y="101520"/>
            <a:ext cx="1594080" cy="11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3"/>
          <p:cNvSpPr/>
          <p:nvPr/>
        </p:nvSpPr>
        <p:spPr>
          <a:xfrm>
            <a:off x="1311120" y="2306520"/>
            <a:ext cx="9531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СН № 13 включаются свед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 всех прерываниях беремен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оки до 22 недель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ависимо от метода и места прерывания беремен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4" descr=""/>
          <p:cNvPicPr/>
          <p:nvPr/>
        </p:nvPicPr>
        <p:blipFill>
          <a:blip r:embed="rId1"/>
          <a:stretch/>
        </p:blipFill>
        <p:spPr>
          <a:xfrm>
            <a:off x="10663200" y="136440"/>
            <a:ext cx="152892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3"/>
          <p:cNvSpPr/>
          <p:nvPr/>
        </p:nvSpPr>
        <p:spPr>
          <a:xfrm>
            <a:off x="1311120" y="2306520"/>
            <a:ext cx="9531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СН № 13 отражаются сведения о методах выполнения медицинского аборта, осложнениях, вызванных абортом, и числе женщин, умерших от прерывания беремен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4" descr=""/>
          <p:cNvPicPr/>
          <p:nvPr/>
        </p:nvPicPr>
        <p:blipFill>
          <a:blip r:embed="rId1"/>
          <a:stretch/>
        </p:blipFill>
        <p:spPr>
          <a:xfrm>
            <a:off x="10663200" y="136440"/>
            <a:ext cx="152892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предоставляет сведения?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38080" y="1504440"/>
            <a:ext cx="105156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ридические лица - медицинские организаци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ргану местного самоуправления, осуществляющему полномочия в сфере охраны здоровь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ы местного самоуправления, осуществляющие полномочия в сфере охраны здоровь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органу исполнительной власти субъекта Российской Федерации, осуществляющему полномочия в сфере охраны здоровь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ы исполнительной власти субъекта Российской Федерации, осуществляющие полномочия в сфере охраны здоровь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инистерству здравоохранения Российской Федераци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ерриториальному органу Росстата в субъекте Российской Федерации по установленному им адрес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Стрелка: вниз 3"/>
          <p:cNvSpPr/>
          <p:nvPr/>
        </p:nvSpPr>
        <p:spPr>
          <a:xfrm>
            <a:off x="5322960" y="2160720"/>
            <a:ext cx="485640" cy="412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Стрелка: вниз 4"/>
          <p:cNvSpPr/>
          <p:nvPr/>
        </p:nvSpPr>
        <p:spPr>
          <a:xfrm>
            <a:off x="5322960" y="3540240"/>
            <a:ext cx="485640" cy="412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Рисунок 11" descr=""/>
          <p:cNvPicPr/>
          <p:nvPr/>
        </p:nvPicPr>
        <p:blipFill>
          <a:blip r:embed="rId1"/>
          <a:stretch/>
        </p:blipFill>
        <p:spPr>
          <a:xfrm>
            <a:off x="10665000" y="136440"/>
            <a:ext cx="152712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предоставляет сведения?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838080" y="1504440"/>
            <a:ext cx="105156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федерального статистического наблюдения N 13 "Сведения о беременности с абортивным исходом"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яется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сем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юридическими лицами - медицинскими организациями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ходящими в номенклатуру медицинских организаций (приказ Минздрава России от 6 августа 2013 г. N 529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 утверждении номенклатуры медицинских организаций»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ывающие акушерско-гинекологическую помощь во время беременности, родов и в послеродовом период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11" descr=""/>
          <p:cNvPicPr/>
          <p:nvPr/>
        </p:nvPicPr>
        <p:blipFill>
          <a:blip r:embed="rId1"/>
          <a:stretch/>
        </p:blipFill>
        <p:spPr>
          <a:xfrm>
            <a:off x="10665000" y="136440"/>
            <a:ext cx="152712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ичная учетная медицинская документация для формы № 13: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8" name="Объект 7" descr=""/>
          <p:cNvPicPr/>
          <p:nvPr/>
        </p:nvPicPr>
        <p:blipFill>
          <a:blip r:embed="rId1"/>
          <a:stretch/>
        </p:blipFill>
        <p:spPr>
          <a:xfrm>
            <a:off x="841320" y="1536840"/>
            <a:ext cx="10515600" cy="495612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11" descr=""/>
          <p:cNvPicPr/>
          <p:nvPr/>
        </p:nvPicPr>
        <p:blipFill>
          <a:blip r:embed="rId2"/>
          <a:stretch/>
        </p:blipFill>
        <p:spPr>
          <a:xfrm>
            <a:off x="10665000" y="136440"/>
            <a:ext cx="152712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71" name="Группа 13"/>
          <p:cNvGrpSpPr/>
          <p:nvPr/>
        </p:nvGrpSpPr>
        <p:grpSpPr>
          <a:xfrm>
            <a:off x="792000" y="1521000"/>
            <a:ext cx="10101600" cy="5109840"/>
            <a:chOff x="792000" y="1521000"/>
            <a:chExt cx="10101600" cy="5109840"/>
          </a:xfrm>
        </p:grpSpPr>
        <p:pic>
          <p:nvPicPr>
            <p:cNvPr id="72" name="Схема 2" descr=""/>
            <p:cNvPicPr/>
            <p:nvPr/>
          </p:nvPicPr>
          <p:blipFill>
            <a:blip r:embed="rId1"/>
            <a:stretch/>
          </p:blipFill>
          <p:spPr>
            <a:xfrm>
              <a:off x="792000" y="1521000"/>
              <a:ext cx="10101600" cy="51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Box 5"/>
            <p:cNvSpPr/>
            <p:nvPr/>
          </p:nvSpPr>
          <p:spPr>
            <a:xfrm>
              <a:off x="997200" y="2005920"/>
              <a:ext cx="91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90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TextBox 7"/>
            <p:cNvSpPr/>
            <p:nvPr/>
          </p:nvSpPr>
          <p:spPr>
            <a:xfrm>
              <a:off x="1403640" y="4361400"/>
              <a:ext cx="107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200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TextBox 12"/>
            <p:cNvSpPr/>
            <p:nvPr/>
          </p:nvSpPr>
          <p:spPr>
            <a:xfrm>
              <a:off x="829440" y="5697720"/>
              <a:ext cx="117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300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" name="TextBox 14"/>
          <p:cNvSpPr/>
          <p:nvPr/>
        </p:nvSpPr>
        <p:spPr>
          <a:xfrm>
            <a:off x="6700680" y="993600"/>
            <a:ext cx="405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 22 недель беремен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Рисунок 11" descr=""/>
          <p:cNvPicPr/>
          <p:nvPr/>
        </p:nvPicPr>
        <p:blipFill>
          <a:blip r:embed="rId2"/>
          <a:stretch/>
        </p:blipFill>
        <p:spPr>
          <a:xfrm>
            <a:off x="10665000" y="136440"/>
            <a:ext cx="1527120" cy="1187640"/>
          </a:xfrm>
          <a:prstGeom prst="rect">
            <a:avLst/>
          </a:prstGeom>
          <a:ln w="0">
            <a:noFill/>
          </a:ln>
        </p:spPr>
      </p:pic>
      <p:sp>
        <p:nvSpPr>
          <p:cNvPr id="78" name="TextBox 15"/>
          <p:cNvSpPr/>
          <p:nvPr/>
        </p:nvSpPr>
        <p:spPr>
          <a:xfrm>
            <a:off x="654120" y="1324080"/>
            <a:ext cx="18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блиц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5"/>
          <p:cNvSpPr/>
          <p:nvPr/>
        </p:nvSpPr>
        <p:spPr>
          <a:xfrm>
            <a:off x="1166760" y="3292560"/>
            <a:ext cx="91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10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Объект 7" descr=""/>
          <p:cNvPicPr/>
          <p:nvPr/>
        </p:nvPicPr>
        <p:blipFill>
          <a:blip r:embed="rId1"/>
          <a:stretch/>
        </p:blipFill>
        <p:spPr>
          <a:xfrm>
            <a:off x="3902040" y="291960"/>
            <a:ext cx="7704000" cy="62802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442880" y="3349800"/>
            <a:ext cx="2725920" cy="55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9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" name="Группа 9"/>
          <p:cNvGrpSpPr/>
          <p:nvPr/>
        </p:nvGrpSpPr>
        <p:grpSpPr>
          <a:xfrm>
            <a:off x="593640" y="679320"/>
            <a:ext cx="4424400" cy="1171800"/>
            <a:chOff x="593640" y="679320"/>
            <a:chExt cx="4424400" cy="1171800"/>
          </a:xfrm>
        </p:grpSpPr>
        <p:sp>
          <p:nvSpPr>
            <p:cNvPr id="83" name="Прямоугольник 10"/>
            <p:cNvSpPr/>
            <p:nvPr/>
          </p:nvSpPr>
          <p:spPr>
            <a:xfrm>
              <a:off x="593640" y="679320"/>
              <a:ext cx="4424400" cy="1171800"/>
            </a:xfrm>
            <a:prstGeom prst="rect">
              <a:avLst/>
            </a:prstGeom>
            <a:solidFill>
              <a:srgbClr val="2f5597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11"/>
            <p:cNvSpPr/>
            <p:nvPr/>
          </p:nvSpPr>
          <p:spPr>
            <a:xfrm>
              <a:off x="593640" y="679320"/>
              <a:ext cx="4424400" cy="11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23880" rIns="71280" tIns="71280" bIns="71280" anchor="ctr">
              <a:noAutofit/>
            </a:bodyPr>
            <a:p>
              <a:pPr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Результаты доабортного консультирования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5" name="Рисунок 11" descr=""/>
          <p:cNvPicPr/>
          <p:nvPr/>
        </p:nvPicPr>
        <p:blipFill>
          <a:blip r:embed="rId2"/>
          <a:stretch/>
        </p:blipFill>
        <p:spPr>
          <a:xfrm>
            <a:off x="10665000" y="136440"/>
            <a:ext cx="152712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23T10:50:32Z</dcterms:created>
  <dc:creator>Гребенник Татьяна Константиновна</dc:creator>
  <dc:description/>
  <dc:language>en-US</dc:language>
  <cp:lastModifiedBy>Гребенник Татьяна Константиновна</cp:lastModifiedBy>
  <cp:lastPrinted>2018-12-10T14:36:03Z</cp:lastPrinted>
  <dcterms:modified xsi:type="dcterms:W3CDTF">2021-12-10T06:44:47Z</dcterms:modified>
  <cp:revision>176</cp:revision>
  <dc:subject/>
  <dc:title>Презентация PowerPoint</dc:title>
</cp:coreProperties>
</file>