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A48A-A2F5-43FB-8E84-8EF612066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9BD3-1EB9-4859-90DF-48BE298BACFD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083D-AF3E-49FE-B5E8-16604087CE5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CA81-E703-45BE-AAEF-B8DD976C50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AF2E-5A46-4B8E-9665-3BA0AB94690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A547-82FF-460A-98CC-8CB0C8E6BA3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EA9D-AFB8-4841-89A4-8F6CB672084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D87D-30BE-49C0-922F-E83A637F651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B22-275C-4B9B-BC62-85D3FE5E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381-3E5F-45AA-98D2-6A2D3DCE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587-81A0-4284-B672-20676836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8D6-EDB1-41A0-9D06-1D3E5D00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8CD-09F2-4126-8FA8-020A7862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913-630C-4D8A-A896-41BEA361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B68-5E48-4296-953F-17AB55D8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2E4-B197-4E37-A2A7-69F70B37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E25-B9EA-416D-B11A-3926BB23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5F4-99AE-4E39-A708-8A2ACB6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63E-17C2-41BF-8DCD-4A8AA231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7C6-2B56-41BE-8A2A-936A2F63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FFAD-077F-4965-999B-FE6B33734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90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2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3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3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4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2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3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0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8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2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4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8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4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6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50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2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8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1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2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3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1-12-10T06:44:47Z</dcterms:modified>
  <cp:revision>176</cp:revision>
  <dc:subject/>
  <dc:title>Презентация PowerPoint</dc:title>
</cp:coreProperties>
</file>