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157-A337-43B0-BAAE-CA2E4CD0F8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144D-B1D4-4CA9-A609-23EC94F863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B1B-8244-4B48-9C53-473B225E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1BF-A50D-4DBC-8174-907BF95A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BAB-457A-4F34-8E44-A01C3115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2E1-E8A2-4BA0-9461-48ABAF50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3B30-CA70-4866-A6C3-ACFE44BB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0420-A1B9-4E5D-9FED-76F99073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5EA5-ADEE-426E-B8B0-302345EA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E0D6-F35E-46BF-95F3-240EAB62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AE24-A9EF-4E01-BD11-1D96E0EA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9C99-AAA0-4A83-9C36-B81D7214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AF3F-4401-4642-AD37-9EF2029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FB7-FBB2-4DE8-A59D-69699EE8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6B68-A210-4473-916D-55634BDB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9F0D-792C-4AAB-B57A-D9CD837B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E4B3-994D-49F9-9137-CCC8ABF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45ED-4ADB-4814-BDF0-7A30DCDB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1795-0373-4E38-994E-29CC9F50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20F-4104-4692-8EB6-EC203603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F19-A45B-41E4-8BE0-51CA868E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9AC-D1DD-420A-8A53-2F3EBD76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A34-03A2-4D52-855C-56BA5969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A2E-D7B8-42E3-9AFD-02BB2085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3E0-EBE8-4A37-9638-DDE5727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C2C-7FF8-4C40-B4C8-2ED025F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7300-0DC8-4428-9129-903D7D35FF11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8300-3DF1-46FD-8032-9789E1DFFD3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5AF6-C8A1-4AF5-A449-2268D0980F31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7742-3DD2-4A82-AF00-F2F28E2F350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GolutvoAS\Рабочий стол\преза\originnal_df2a9b8293273ab8fe6e321631ebb862.jpg"/>
          <p:cNvPicPr/>
          <p:nvPr/>
        </p:nvPicPr>
        <p:blipFill>
          <a:blip r:embed="rId2"/>
          <a:stretch/>
        </p:blipFill>
        <p:spPr>
          <a:xfrm>
            <a:off x="468360" y="115920"/>
            <a:ext cx="1442880" cy="1585800"/>
          </a:xfrm>
          <a:prstGeom prst="rect">
            <a:avLst/>
          </a:prstGeom>
          <a:ln w="0">
            <a:noFill/>
          </a:ln>
        </p:spPr>
      </p:pic>
      <p:sp>
        <p:nvSpPr>
          <p:cNvPr id="104" name="Подзаголовок 2"/>
          <p:cNvSpPr/>
          <p:nvPr/>
        </p:nvSpPr>
        <p:spPr>
          <a:xfrm>
            <a:off x="2050920" y="620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  <a:ea typeface="Arial Cyr"/>
              </a:rPr>
              <a:t>МИНИСТЕРСТВО ЗДРАВООХРАНЕН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971640" y="2060640"/>
            <a:ext cx="79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Новая форма федерального статистического наблюдения №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«Сведения о ресурсном обеспечении и оказании медицинской помощи населению» за 20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D9D1-AC77-494E-A4C8-09969E46190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133200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755640" y="1700280"/>
            <a:ext cx="55450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39640" y="3429000"/>
            <a:ext cx="590400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2050)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аличие остатков средств обязательного медицинского страхования, образовавшихся на счетах медицинских организаций на 1 января года, предшествующего отчетному году ____________ (руб.) (1), на 1 января отчетного года ______________ (руб.) (2) (код по ОКЕИ: рубль – 38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2" descr="med_ban.jpg"/>
          <p:cNvPicPr/>
          <p:nvPr/>
        </p:nvPicPr>
        <p:blipFill>
          <a:blip r:embed="rId1"/>
          <a:stretch/>
        </p:blipFill>
        <p:spPr>
          <a:xfrm>
            <a:off x="0" y="26028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92" name="Прямоугольник 27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оугольник 29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179280" y="907920"/>
            <a:ext cx="8785440" cy="5065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179280" y="847800"/>
            <a:ext cx="878544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I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. Фактические объемы посещений  при оказании медицинской помощи в амбулаторных условиях и их финанс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Таблица 24" descr=""/>
          <p:cNvPicPr/>
          <p:nvPr/>
        </p:nvPicPr>
        <p:blipFill>
          <a:blip r:embed="rId3"/>
          <a:stretch/>
        </p:blipFill>
        <p:spPr>
          <a:xfrm>
            <a:off x="0" y="1390680"/>
            <a:ext cx="4505400" cy="5722920"/>
          </a:xfrm>
          <a:prstGeom prst="rect">
            <a:avLst/>
          </a:prstGeom>
          <a:ln w="0">
            <a:noFill/>
          </a:ln>
        </p:spPr>
      </p:pic>
      <p:pic>
        <p:nvPicPr>
          <p:cNvPr id="202" name="Таблица 25" descr=""/>
          <p:cNvPicPr/>
          <p:nvPr/>
        </p:nvPicPr>
        <p:blipFill>
          <a:blip r:embed="rId4"/>
          <a:stretch/>
        </p:blipFill>
        <p:spPr>
          <a:xfrm>
            <a:off x="4535640" y="1390680"/>
            <a:ext cx="4505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7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0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0" y="605520"/>
            <a:ext cx="914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специализированной медицинской помощи, оказанной в стационарных условиях, по профилям медицинской помощи (таблица 6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Таблица 8" descr=""/>
          <p:cNvPicPr/>
          <p:nvPr/>
        </p:nvPicPr>
        <p:blipFill>
          <a:blip r:embed="rId3"/>
          <a:stretch/>
        </p:blipFill>
        <p:spPr>
          <a:xfrm>
            <a:off x="103320" y="1225440"/>
            <a:ext cx="4614840" cy="5413320"/>
          </a:xfrm>
          <a:prstGeom prst="rect">
            <a:avLst/>
          </a:prstGeom>
          <a:ln w="0">
            <a:noFill/>
          </a:ln>
        </p:spPr>
      </p:pic>
      <p:pic>
        <p:nvPicPr>
          <p:cNvPr id="215" name="Таблица 11" descr=""/>
          <p:cNvPicPr/>
          <p:nvPr/>
        </p:nvPicPr>
        <p:blipFill>
          <a:blip r:embed="rId4"/>
          <a:stretch/>
        </p:blipFill>
        <p:spPr>
          <a:xfrm>
            <a:off x="4784760" y="1225440"/>
            <a:ext cx="425592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18" name="Прямоугольник 11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2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оугольник 13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250920" y="551520"/>
            <a:ext cx="84247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медицинской помощи, оказанной в условиях дневных стационаров, по профилям медицинской помощи (таблица 6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Таблица 8" descr=""/>
          <p:cNvPicPr/>
          <p:nvPr/>
        </p:nvPicPr>
        <p:blipFill>
          <a:blip r:embed="rId3"/>
          <a:stretch/>
        </p:blipFill>
        <p:spPr>
          <a:xfrm>
            <a:off x="1090440" y="1206360"/>
            <a:ext cx="3121200" cy="5407200"/>
          </a:xfrm>
          <a:prstGeom prst="rect">
            <a:avLst/>
          </a:prstGeom>
          <a:ln w="0">
            <a:noFill/>
          </a:ln>
        </p:spPr>
      </p:pic>
      <p:pic>
        <p:nvPicPr>
          <p:cNvPr id="228" name="Таблица 9" descr=""/>
          <p:cNvPicPr/>
          <p:nvPr/>
        </p:nvPicPr>
        <p:blipFill>
          <a:blip r:embed="rId4"/>
          <a:stretch/>
        </p:blipFill>
        <p:spPr>
          <a:xfrm>
            <a:off x="4614840" y="1225440"/>
            <a:ext cx="3127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«Платные медицинские услуг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Таблица 8" descr=""/>
          <p:cNvPicPr/>
          <p:nvPr/>
        </p:nvPicPr>
        <p:blipFill>
          <a:blip r:embed="rId2"/>
          <a:stretch/>
        </p:blipFill>
        <p:spPr>
          <a:xfrm>
            <a:off x="0" y="1011240"/>
            <a:ext cx="9144000" cy="5827680"/>
          </a:xfrm>
          <a:prstGeom prst="rect">
            <a:avLst/>
          </a:prstGeom>
          <a:ln w="0">
            <a:noFill/>
          </a:ln>
        </p:spPr>
      </p:pic>
      <p:grpSp>
        <p:nvGrpSpPr>
          <p:cNvPr id="235" name="Прямоугольник 7"/>
          <p:cNvGrpSpPr/>
          <p:nvPr/>
        </p:nvGrpSpPr>
        <p:grpSpPr>
          <a:xfrm>
            <a:off x="4406760" y="3749760"/>
            <a:ext cx="4645080" cy="1955880"/>
            <a:chOff x="4406760" y="3749760"/>
            <a:chExt cx="4645080" cy="1955880"/>
          </a:xfrm>
        </p:grpSpPr>
        <p:pic>
          <p:nvPicPr>
            <p:cNvPr id="23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406760" y="3749760"/>
              <a:ext cx="464508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500720" y="3789360"/>
              <a:ext cx="44640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Раздел </a:t>
              </a: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VII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«Платные медицинские услуги» заполняется всеми медицинскими организациями, 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в том числе частной системы здравоохранен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, оказывающими медицинскую помощь населению в рамках территориальных программ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VII</a:t>
            </a:r>
            <a:r>
              <a:rPr b="1" lang="de-DE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Расходы финансовых средств из различных источников финансир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Таблица 10" descr=""/>
          <p:cNvPicPr/>
          <p:nvPr/>
        </p:nvPicPr>
        <p:blipFill>
          <a:blip r:embed="rId2"/>
          <a:stretch/>
        </p:blipFill>
        <p:spPr>
          <a:xfrm>
            <a:off x="324000" y="1225440"/>
            <a:ext cx="4035240" cy="466272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11" descr=""/>
          <p:cNvPicPr/>
          <p:nvPr/>
        </p:nvPicPr>
        <p:blipFill>
          <a:blip r:embed="rId3"/>
          <a:stretch/>
        </p:blipFill>
        <p:spPr>
          <a:xfrm>
            <a:off x="4572000" y="1225440"/>
            <a:ext cx="4035600" cy="4205520"/>
          </a:xfrm>
          <a:prstGeom prst="rect">
            <a:avLst/>
          </a:prstGeom>
          <a:ln w="0">
            <a:noFill/>
          </a:ln>
        </p:spPr>
      </p:pic>
      <p:grpSp>
        <p:nvGrpSpPr>
          <p:cNvPr id="245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46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Рисунок 10" descr="logo2.png"/>
            <p:cNvPicPr/>
            <p:nvPr/>
          </p:nvPicPr>
          <p:blipFill>
            <a:blip r:embed="rId4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179280" y="747000"/>
            <a:ext cx="842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X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пособы оплаты медицинской помощи в рамках территориальной программы ОМС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8000" y="1197000"/>
          <a:ext cx="9001080" cy="5629320"/>
        </p:xfrm>
        <a:graphic>
          <a:graphicData uri="http://schemas.openxmlformats.org/drawingml/2006/table">
            <a:tbl>
              <a:tblPr/>
              <a:tblGrid>
                <a:gridCol w="2843280"/>
                <a:gridCol w="3789360"/>
                <a:gridCol w="469800"/>
                <a:gridCol w="631800"/>
                <a:gridCol w="633600"/>
                <a:gridCol w="633240"/>
              </a:tblGrid>
              <a:tr h="304920"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оплаты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стациона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 marL="111240" indent="-111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условиях дневного стациона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амбулато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в сочетании с оплатой за единицу объема медицинской помощи - за медицинскую услугу, за посещение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с учетом показателей результативности деятельности медицинской организации (включая показатели объема медицинской помощи), в том числе с включением расходов на медицинскую помощь, оказываемую в иных медицинских организациях (за единицу объема медицинской помощи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единицу объема медицинской помощи - за медицинскую услугу (при оплате отдельных диагностических (лабораторных) исследований), за посещение (комплексное посещение)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ая медицинская помощь вне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в сочетании с оплатой за вызов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в составе подразделения, оказывающие медицинскую помощь в амбулаторных, стационарных условиях и в условиях дневного стациона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к медицинской организации лиц, включая оплату по всем видам и условиям медицинской помощи, оказываемой в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9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год (приложения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Схема 7" descr=""/>
          <p:cNvPicPr/>
          <p:nvPr/>
        </p:nvPicPr>
        <p:blipFill>
          <a:blip r:embed="rId2"/>
          <a:stretch/>
        </p:blipFill>
        <p:spPr>
          <a:xfrm>
            <a:off x="225360" y="1268280"/>
            <a:ext cx="8882280" cy="5400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6422"/>
                </a:solidFill>
                <a:latin typeface="Arial"/>
              </a:rPr>
              <a:t>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64" name="Прямоугольник 12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0" y="836640"/>
            <a:ext cx="878508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4 «Показатели объема и финансового обеспечения специализированной медицинской помощи, оказанной иностранным гражданам в стационарных условиях, по профилям медицинской помо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Таблица 10" descr=""/>
          <p:cNvPicPr/>
          <p:nvPr/>
        </p:nvPicPr>
        <p:blipFill>
          <a:blip r:embed="rId3"/>
          <a:stretch/>
        </p:blipFill>
        <p:spPr>
          <a:xfrm>
            <a:off x="103320" y="1596960"/>
            <a:ext cx="8791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7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5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, оказанной в стационарных условиях, по клинико-статистическим группам в рамках базовой программы ОМС</a:t>
            </a: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1628640"/>
          <a:ext cx="8712000" cy="260532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14986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1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менность без патологии, дородовая госпитализация в отделение сестринского у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, связанные с берем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24000" y="4365720"/>
          <a:ext cx="8712000" cy="210960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онкологическими, гематологическими и иммунологическими заболеваниями в тяжелых формах продолжительного т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8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ические заболевания, осложненные старческой астен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2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334E-2974-4EA4-92B3-2337DD33FD3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2"/>
          <a:srcRect l="30413" t="0" r="30608" b="0"/>
          <a:stretch/>
        </p:blipFill>
        <p:spPr>
          <a:xfrm>
            <a:off x="684360" y="115920"/>
            <a:ext cx="4090680" cy="5905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109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10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15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17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Рисунок 10" descr="logo2.png"/>
            <p:cNvPicPr/>
            <p:nvPr/>
          </p:nvPicPr>
          <p:blipFill>
            <a:blip r:embed="rId3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11" descr=""/>
          <p:cNvPicPr/>
          <p:nvPr/>
        </p:nvPicPr>
        <p:blipFill>
          <a:blip r:embed="rId4"/>
          <a:srcRect l="33366" t="6950" r="33561" b="13253"/>
          <a:stretch/>
        </p:blipFill>
        <p:spPr>
          <a:xfrm>
            <a:off x="4500720" y="1052640"/>
            <a:ext cx="4032000" cy="54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87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6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 в условиях дневных стационаров, по клинико-статистическим группам в рамках базовой программы ОМС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0920" y="1557360"/>
          <a:ext cx="8785080" cy="2824200"/>
        </p:xfrm>
        <a:graphic>
          <a:graphicData uri="http://schemas.openxmlformats.org/drawingml/2006/table">
            <a:tbl>
              <a:tblPr/>
              <a:tblGrid>
                <a:gridCol w="720720"/>
                <a:gridCol w="4843440"/>
                <a:gridCol w="557280"/>
                <a:gridCol w="718920"/>
                <a:gridCol w="865440"/>
                <a:gridCol w="1079280"/>
              </a:tblGrid>
              <a:tr h="1710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дневном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 беременности, родов, послеродов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зни женских половых ор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 на женских половых органах (уровень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0920" y="4508640"/>
          <a:ext cx="8785080" cy="2016000"/>
        </p:xfrm>
        <a:graphic>
          <a:graphicData uri="http://schemas.openxmlformats.org/drawingml/2006/table">
            <a:tbl>
              <a:tblPr/>
              <a:tblGrid>
                <a:gridCol w="720720"/>
                <a:gridCol w="4824360"/>
                <a:gridCol w="576360"/>
                <a:gridCol w="612720"/>
                <a:gridCol w="863640"/>
                <a:gridCol w="1187280"/>
              </a:tblGrid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еренесших заболевания перинатальн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нарушениями слуха без замены речевого процессора системы кохлеарной импла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FA1D-47E1-42BF-BA7F-C49D108FE77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468360" y="2133720"/>
            <a:ext cx="5688000" cy="423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дицинские организации (юридические лица) государственной (муниципальной) формы собственности независимо от их ведомственной подчиненности, а также медицинские организации (юридические лица) иных форм собственности, оказывающие медицинскую помощь населению в соответствии с территориальными программами государственных гарантий бесплатного оказания гражданам медицинской помощи отчет по форме статистической отчетности № 62 «Сведения о ресурсном обеспечении и оказании медицинской помощи населению» (далее – Форма № 62) заполняют в электронном виде в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истеме «Система мониторинга ресурсного обеспечения здравоохранения» (далее – Система), размещенной на Интернет-портале Минздрава России по адрес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http://62.rosminzdrav.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B62C-9FB8-4CF9-A32B-190D13DF572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00040" y="2071800"/>
            <a:ext cx="5943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медицинские организации в строгом соответствии с номенклатурой медицинских организаций, утвержденных приказом Минздрава России от 6 августа 2013 г. № 529н, а также с учетом приложения к территориальной программе государственных гарантий бесплатного оказания медицинской помощи (далее – территориальная программа) о перечне медицинских организаций, участвующих в реализации территориальной программы, в том числе территориальной программы ОМС.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чие организации, не входящие в номенклатуру медицинских организаций, Форму № 62 не заполн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39640" y="4653000"/>
            <a:ext cx="59040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читывая положения пункта 11 статьи 2 Федерального закона от 21 ноября 2011 г. № 323-ФЗ «Об основах охраны здоровья граждан в Российской Федерации» к медицинским организациям приравниваются индивидуальные предприниматели, осуществляющие медицинскую деятельность, данные об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ндивидуальных предпринимателях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казываются в Разделе I (1000) по соответствующим строкам не тольк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о графе 14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, но и п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графе 13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471F-2D24-4CCD-8E08-803A8425A48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0040" y="2187720"/>
            <a:ext cx="601668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адресной части Формы № 62 указывается наименование медицинской организации на 31  декабря отчетного года – в соответствии с учредительными документами, зарегистрированными в установленном поряд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500040" y="3340080"/>
            <a:ext cx="601668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ведения по Форме № 62 предоставляются только юридическими ли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и наличии у юридического лица обособленных подразделений настоящая форма заполняется в целом по юридическому лицу, включая обособленные подраз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68360" y="4707000"/>
            <a:ext cx="604836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все медицинские организации вне зависимости от продолжительности периода (месяц, квартал и т.п.) осуществления деятельности в сфере ОМС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рядок сдачи отчетов медицинскими организация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DC30-5D1C-4D52-8535-FDC8B9D9790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32400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ие организации, участвующие в реализации тер. программы, в том числе тер. программы 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747800"/>
          <a:ext cx="7993080" cy="3697200"/>
        </p:xfrm>
        <a:graphic>
          <a:graphicData uri="http://schemas.openxmlformats.org/drawingml/2006/table">
            <a:tbl>
              <a:tblPr/>
              <a:tblGrid>
                <a:gridCol w="4753080"/>
                <a:gridCol w="1438200"/>
                <a:gridCol w="180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ицин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*ОК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ГОРОДСКАЯ ПОЛИКЛИНИКА №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ГКУ «411 ВГ» М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З «УЗЛОВАЯ ПОЛИКЛИНИКА НА СТ.***** ОАО «РЖ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42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*****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альный фонд обязательного медицинского страхования (**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, оказывающие медицинские и ины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3"/>
          <p:cNvSpPr/>
          <p:nvPr/>
        </p:nvSpPr>
        <p:spPr>
          <a:xfrm>
            <a:off x="1042920" y="5516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медицинская организация = 1 пароль/ ло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42" name="Прямая соединительная линия 19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оугольник 20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22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Сроки представления отчетов медицинскими организациями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77E2-B181-4C4F-BC2D-8C6376DD3DB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08000" y="1125360"/>
            <a:ext cx="878508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14" descr=""/>
          <p:cNvPicPr/>
          <p:nvPr/>
        </p:nvPicPr>
        <p:blipFill>
          <a:blip r:embed="rId1"/>
          <a:stretch/>
        </p:blipFill>
        <p:spPr>
          <a:xfrm>
            <a:off x="596880" y="1384200"/>
            <a:ext cx="7804080" cy="4778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0"/>
          <p:cNvSpPr/>
          <p:nvPr/>
        </p:nvSpPr>
        <p:spPr>
          <a:xfrm>
            <a:off x="6012000" y="2133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м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гнутая вправо стрелка 22"/>
          <p:cNvSpPr/>
          <p:nvPr/>
        </p:nvSpPr>
        <p:spPr>
          <a:xfrm>
            <a:off x="7308720" y="1773360"/>
            <a:ext cx="730440" cy="2511360"/>
          </a:xfrm>
          <a:custGeom>
            <a:avLst/>
            <a:gdLst>
              <a:gd name="textAreaLeft" fmla="*/ 97560 w 730440"/>
              <a:gd name="textAreaRight" fmla="*/ 632880 w 730440"/>
              <a:gd name="textAreaTop" fmla="*/ 559440 h 2511360"/>
              <a:gd name="textAreaBottom" fmla="*/ 1860840 h 25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3594233"/>
                <a:lnTo>
                  <a:pt x="5400" y="21294"/>
                </a:lnTo>
                <a:lnTo>
                  <a:pt x="0" y="20030"/>
                </a:lnTo>
                <a:lnTo>
                  <a:pt x="5400" y="18154"/>
                </a:lnTo>
                <a:lnTo>
                  <a:pt x="5400" y="18939"/>
                </a:lnTo>
                <a:arcTo wR="21600" hR="9623" stAng="3594233" swAng="-3468934"/>
                <a:lnTo>
                  <a:pt x="21528" y="10408"/>
                </a:lnTo>
                <a:arcTo wR="21600" hR="9623" stAng="-125299" swAng="-5274701"/>
                <a:close/>
              </a:path>
              <a:path fill="darkenLess"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-125299"/>
                <a:lnTo>
                  <a:pt x="21528" y="10408"/>
                </a:lnTo>
                <a:arcTo wR="21600" hR="9623" stAng="-125299" swAng="-5274701"/>
                <a:close/>
              </a:path>
            </a:pathLst>
          </a:custGeom>
          <a:solidFill>
            <a:srgbClr val="009dd9"/>
          </a:solidFill>
          <a:ln w="25560">
            <a:solidFill>
              <a:srgbClr val="0072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7164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2050920" y="2133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32"/>
          <p:cNvSpPr/>
          <p:nvPr/>
        </p:nvSpPr>
        <p:spPr>
          <a:xfrm>
            <a:off x="4356000" y="45813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2050920" y="3429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5940360" y="479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войная стрелка вверх/вниз 1"/>
          <p:cNvSpPr/>
          <p:nvPr/>
        </p:nvSpPr>
        <p:spPr>
          <a:xfrm>
            <a:off x="4284720" y="2060640"/>
            <a:ext cx="287280" cy="5745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войная стрелка вверх/вниз 23"/>
          <p:cNvSpPr/>
          <p:nvPr/>
        </p:nvSpPr>
        <p:spPr>
          <a:xfrm>
            <a:off x="4356000" y="3357720"/>
            <a:ext cx="216000" cy="431640"/>
          </a:xfrm>
          <a:prstGeom prst="upDown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62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9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30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6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1E92-B96D-4C76-8156-D184F17DBBD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187280" y="1272240"/>
            <a:ext cx="4753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дицинские организации по типам, организационно-правовым формам и формам соб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539640" y="2997360"/>
            <a:ext cx="5904000" cy="13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122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 организованных центров амбулаторной онкологической помощи, всего _________________ (ед.) (1), в том числе в медицинских организациях государственной (муниципальной) системы здравоохранения __________________ (ед.) (2), в медицинских организациях частной системы здравоохранения __________________ (ед.)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3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74" name="Прямоугольник 24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23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2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431-41E8-4298-AFE4-BD3A390BA45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0" y="549360"/>
            <a:ext cx="9144000" cy="3585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108000" y="446400"/>
            <a:ext cx="878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Таблица 15" descr=""/>
          <p:cNvPicPr/>
          <p:nvPr/>
        </p:nvPicPr>
        <p:blipFill>
          <a:blip r:embed="rId3"/>
          <a:stretch/>
        </p:blipFill>
        <p:spPr>
          <a:xfrm>
            <a:off x="30240" y="865080"/>
            <a:ext cx="4614840" cy="5614920"/>
          </a:xfrm>
          <a:prstGeom prst="rect">
            <a:avLst/>
          </a:prstGeom>
          <a:ln w="0">
            <a:noFill/>
          </a:ln>
        </p:spPr>
      </p:pic>
      <p:pic>
        <p:nvPicPr>
          <p:cNvPr id="184" name="Таблица 19" descr=""/>
          <p:cNvPicPr/>
          <p:nvPr/>
        </p:nvPicPr>
        <p:blipFill>
          <a:blip r:embed="rId4"/>
          <a:stretch/>
        </p:blipFill>
        <p:spPr>
          <a:xfrm>
            <a:off x="4711680" y="847800"/>
            <a:ext cx="4329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ббасова Ляля Адыгамовна</dc:creator>
  <dc:description/>
  <dc:language>en-US</dc:language>
  <cp:lastModifiedBy>Титова Ирина Анатольевна</cp:lastModifiedBy>
  <cp:lastPrinted>2019-10-09T16:31:33Z</cp:lastPrinted>
  <dcterms:modified xsi:type="dcterms:W3CDTF">2019-10-10T08:43:28Z</dcterms:modified>
  <cp:revision>1156</cp:revision>
  <dc:subject/>
  <dc:title>Слайд 1</dc:title>
</cp:coreProperties>
</file>