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32EC-FA58-4450-9A4A-24D3447154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B83-1F38-4762-BFE8-5D373D8FD5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D8C-EA33-4852-B983-B730877F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362-39F8-404D-AEFA-8AC9060D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70F-0220-4803-AA8F-D9BF6C52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1A2-56B0-4A42-9D7D-149D855F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E162-8BFB-472D-8FDD-8D471DB9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9706-D842-4D2C-A3A9-F42DDC4B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524D-2942-4399-AA57-95632543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1E5D-0C80-4C0D-A905-59C5C1AA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731C-FC80-4613-ADC8-415824DE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B80D-17D2-4B1F-8994-2F4A25CC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C16B-3D26-46CF-A400-F12D0C5D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C37-EA26-4ACA-A4D2-F1961556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DBD8-875A-4305-8F0A-084D6DA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843C-DC3A-482B-B710-4FBF5BC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69FB-F6BA-4AF9-917F-A839278C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B4FD-0F09-4016-A1A2-566DD1D4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AF46-A08A-4D3C-9CD1-AE5D8E7E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00E-DE0B-4703-90A7-D9691CB1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AA3-1EDD-4F93-83F7-8FBE470F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280-B34E-443B-B76D-9F2B05B0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215-B2F0-401A-B732-E4D76669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80B-0B29-4F22-B1E5-71D960B8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779-81B0-4251-AB7D-7C2AC2BD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094-1F19-44AE-9540-10FB7503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5613-8560-44D4-A730-A2C7C2CC8943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862E-2B23-4D03-B9A0-23CEAE8E4C0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9384-DD08-4A4C-85AC-2A40BD0775A9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517E-EDD7-429B-BEB2-D1FBEC24F6D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GolutvoAS\Рабочий стол\преза\originnal_df2a9b8293273ab8fe6e321631ebb862.jpg"/>
          <p:cNvPicPr/>
          <p:nvPr/>
        </p:nvPicPr>
        <p:blipFill>
          <a:blip r:embed="rId2"/>
          <a:stretch/>
        </p:blipFill>
        <p:spPr>
          <a:xfrm>
            <a:off x="468360" y="115920"/>
            <a:ext cx="1442880" cy="1585800"/>
          </a:xfrm>
          <a:prstGeom prst="rect">
            <a:avLst/>
          </a:prstGeom>
          <a:ln w="0">
            <a:noFill/>
          </a:ln>
        </p:spPr>
      </p:pic>
      <p:sp>
        <p:nvSpPr>
          <p:cNvPr id="104" name="Подзаголовок 2"/>
          <p:cNvSpPr/>
          <p:nvPr/>
        </p:nvSpPr>
        <p:spPr>
          <a:xfrm>
            <a:off x="2050920" y="620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  <a:ea typeface="Arial Cyr"/>
              </a:rPr>
              <a:t>МИНИСТЕРСТВО ЗДРАВООХРАНЕН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971640" y="2060640"/>
            <a:ext cx="79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Новая форма федерального статистического наблюдения №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«Сведения о ресурсном обеспечении и оказании медицинской помощи населению» за 20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09B6-90D0-4959-A4B3-DB5C42325E6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133200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755640" y="1700280"/>
            <a:ext cx="55450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39640" y="3429000"/>
            <a:ext cx="590400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2050)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аличие остатков средств обязательного медицинского страхования, образовавшихся на счетах медицинских организаций на 1 января года, предшествующего отчетному году ____________ (руб.) (1), на 1 января отчетного года ______________ (руб.) (2) (код по ОКЕИ: рубль – 38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2" descr="med_ban.jpg"/>
          <p:cNvPicPr/>
          <p:nvPr/>
        </p:nvPicPr>
        <p:blipFill>
          <a:blip r:embed="rId1"/>
          <a:stretch/>
        </p:blipFill>
        <p:spPr>
          <a:xfrm>
            <a:off x="0" y="26028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92" name="Прямоугольник 27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оугольник 29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179280" y="907920"/>
            <a:ext cx="8785440" cy="5065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179280" y="847800"/>
            <a:ext cx="878544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I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. Фактические объемы посещений  при оказании медицинской помощи в амбулаторных условиях и их финанс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Таблица 24" descr=""/>
          <p:cNvPicPr/>
          <p:nvPr/>
        </p:nvPicPr>
        <p:blipFill>
          <a:blip r:embed="rId3"/>
          <a:stretch/>
        </p:blipFill>
        <p:spPr>
          <a:xfrm>
            <a:off x="0" y="1390680"/>
            <a:ext cx="4505400" cy="5722920"/>
          </a:xfrm>
          <a:prstGeom prst="rect">
            <a:avLst/>
          </a:prstGeom>
          <a:ln w="0">
            <a:noFill/>
          </a:ln>
        </p:spPr>
      </p:pic>
      <p:pic>
        <p:nvPicPr>
          <p:cNvPr id="202" name="Таблица 25" descr=""/>
          <p:cNvPicPr/>
          <p:nvPr/>
        </p:nvPicPr>
        <p:blipFill>
          <a:blip r:embed="rId4"/>
          <a:stretch/>
        </p:blipFill>
        <p:spPr>
          <a:xfrm>
            <a:off x="4535640" y="1390680"/>
            <a:ext cx="4505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7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0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0" y="605520"/>
            <a:ext cx="914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специализированной медицинской помощи, оказанной в стационарных условиях, по профилям медицинской помощи (таблица 6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Таблица 8" descr=""/>
          <p:cNvPicPr/>
          <p:nvPr/>
        </p:nvPicPr>
        <p:blipFill>
          <a:blip r:embed="rId3"/>
          <a:stretch/>
        </p:blipFill>
        <p:spPr>
          <a:xfrm>
            <a:off x="103320" y="1225440"/>
            <a:ext cx="4614840" cy="5413320"/>
          </a:xfrm>
          <a:prstGeom prst="rect">
            <a:avLst/>
          </a:prstGeom>
          <a:ln w="0">
            <a:noFill/>
          </a:ln>
        </p:spPr>
      </p:pic>
      <p:pic>
        <p:nvPicPr>
          <p:cNvPr id="215" name="Таблица 11" descr=""/>
          <p:cNvPicPr/>
          <p:nvPr/>
        </p:nvPicPr>
        <p:blipFill>
          <a:blip r:embed="rId4"/>
          <a:stretch/>
        </p:blipFill>
        <p:spPr>
          <a:xfrm>
            <a:off x="4784760" y="1225440"/>
            <a:ext cx="425592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18" name="Прямоугольник 11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2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оугольник 13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250920" y="551520"/>
            <a:ext cx="84247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медицинской помощи, оказанной в условиях дневных стационаров, по профилям медицинской помощи (таблица 6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Таблица 8" descr=""/>
          <p:cNvPicPr/>
          <p:nvPr/>
        </p:nvPicPr>
        <p:blipFill>
          <a:blip r:embed="rId3"/>
          <a:stretch/>
        </p:blipFill>
        <p:spPr>
          <a:xfrm>
            <a:off x="1090440" y="1206360"/>
            <a:ext cx="3121200" cy="5407200"/>
          </a:xfrm>
          <a:prstGeom prst="rect">
            <a:avLst/>
          </a:prstGeom>
          <a:ln w="0">
            <a:noFill/>
          </a:ln>
        </p:spPr>
      </p:pic>
      <p:pic>
        <p:nvPicPr>
          <p:cNvPr id="228" name="Таблица 9" descr=""/>
          <p:cNvPicPr/>
          <p:nvPr/>
        </p:nvPicPr>
        <p:blipFill>
          <a:blip r:embed="rId4"/>
          <a:stretch/>
        </p:blipFill>
        <p:spPr>
          <a:xfrm>
            <a:off x="4614840" y="1225440"/>
            <a:ext cx="3127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«Платные медицинские услуг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Таблица 8" descr=""/>
          <p:cNvPicPr/>
          <p:nvPr/>
        </p:nvPicPr>
        <p:blipFill>
          <a:blip r:embed="rId2"/>
          <a:stretch/>
        </p:blipFill>
        <p:spPr>
          <a:xfrm>
            <a:off x="0" y="1011240"/>
            <a:ext cx="9144000" cy="5827680"/>
          </a:xfrm>
          <a:prstGeom prst="rect">
            <a:avLst/>
          </a:prstGeom>
          <a:ln w="0">
            <a:noFill/>
          </a:ln>
        </p:spPr>
      </p:pic>
      <p:grpSp>
        <p:nvGrpSpPr>
          <p:cNvPr id="235" name="Прямоугольник 7"/>
          <p:cNvGrpSpPr/>
          <p:nvPr/>
        </p:nvGrpSpPr>
        <p:grpSpPr>
          <a:xfrm>
            <a:off x="4406760" y="3749760"/>
            <a:ext cx="4645080" cy="1955880"/>
            <a:chOff x="4406760" y="3749760"/>
            <a:chExt cx="4645080" cy="1955880"/>
          </a:xfrm>
        </p:grpSpPr>
        <p:pic>
          <p:nvPicPr>
            <p:cNvPr id="23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406760" y="3749760"/>
              <a:ext cx="464508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500720" y="3789360"/>
              <a:ext cx="44640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Раздел </a:t>
              </a: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VII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«Платные медицинские услуги» заполняется всеми медицинскими организациями, 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в том числе частной системы здравоохранен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, оказывающими медицинскую помощь населению в рамках территориальных программ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VII</a:t>
            </a:r>
            <a:r>
              <a:rPr b="1" lang="de-DE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Расходы финансовых средств из различных источников финансир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Таблица 10" descr=""/>
          <p:cNvPicPr/>
          <p:nvPr/>
        </p:nvPicPr>
        <p:blipFill>
          <a:blip r:embed="rId2"/>
          <a:stretch/>
        </p:blipFill>
        <p:spPr>
          <a:xfrm>
            <a:off x="324000" y="1225440"/>
            <a:ext cx="4035240" cy="466272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11" descr=""/>
          <p:cNvPicPr/>
          <p:nvPr/>
        </p:nvPicPr>
        <p:blipFill>
          <a:blip r:embed="rId3"/>
          <a:stretch/>
        </p:blipFill>
        <p:spPr>
          <a:xfrm>
            <a:off x="4572000" y="1225440"/>
            <a:ext cx="4035600" cy="4205520"/>
          </a:xfrm>
          <a:prstGeom prst="rect">
            <a:avLst/>
          </a:prstGeom>
          <a:ln w="0">
            <a:noFill/>
          </a:ln>
        </p:spPr>
      </p:pic>
      <p:grpSp>
        <p:nvGrpSpPr>
          <p:cNvPr id="245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46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Рисунок 10" descr="logo2.png"/>
            <p:cNvPicPr/>
            <p:nvPr/>
          </p:nvPicPr>
          <p:blipFill>
            <a:blip r:embed="rId4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179280" y="747000"/>
            <a:ext cx="842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X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пособы оплаты медицинской помощи в рамках территориальной программы ОМС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8000" y="1197000"/>
          <a:ext cx="9001080" cy="5629320"/>
        </p:xfrm>
        <a:graphic>
          <a:graphicData uri="http://schemas.openxmlformats.org/drawingml/2006/table">
            <a:tbl>
              <a:tblPr/>
              <a:tblGrid>
                <a:gridCol w="2843280"/>
                <a:gridCol w="3789360"/>
                <a:gridCol w="469800"/>
                <a:gridCol w="631800"/>
                <a:gridCol w="633600"/>
                <a:gridCol w="633240"/>
              </a:tblGrid>
              <a:tr h="304920"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оплаты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стациона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 marL="111240" indent="-111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условиях дневного стациона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амбулато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в сочетании с оплатой за единицу объема медицинской помощи - за медицинскую услугу, за посещение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с учетом показателей результативности деятельности медицинской организации (включая показатели объема медицинской помощи), в том числе с включением расходов на медицинскую помощь, оказываемую в иных медицинских организациях (за единицу объема медицинской помощи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единицу объема медицинской помощи - за медицинскую услугу (при оплате отдельных диагностических (лабораторных) исследований), за посещение (комплексное посещение)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ая медицинская помощь вне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в сочетании с оплатой за вызов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в составе подразделения, оказывающие медицинскую помощь в амбулаторных, стационарных условиях и в условиях дневного стациона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к медицинской организации лиц, включая оплату по всем видам и условиям медицинской помощи, оказываемой в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9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год (приложения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Схема 7" descr=""/>
          <p:cNvPicPr/>
          <p:nvPr/>
        </p:nvPicPr>
        <p:blipFill>
          <a:blip r:embed="rId2"/>
          <a:stretch/>
        </p:blipFill>
        <p:spPr>
          <a:xfrm>
            <a:off x="225360" y="1268280"/>
            <a:ext cx="8882280" cy="5400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6422"/>
                </a:solidFill>
                <a:latin typeface="Arial"/>
              </a:rPr>
              <a:t>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64" name="Прямоугольник 12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0" y="836640"/>
            <a:ext cx="878508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4 «Показатели объема и финансового обеспечения специализированной медицинской помощи, оказанной иностранным гражданам в стационарных условиях, по профилям медицинской помо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Таблица 10" descr=""/>
          <p:cNvPicPr/>
          <p:nvPr/>
        </p:nvPicPr>
        <p:blipFill>
          <a:blip r:embed="rId3"/>
          <a:stretch/>
        </p:blipFill>
        <p:spPr>
          <a:xfrm>
            <a:off x="103320" y="1596960"/>
            <a:ext cx="8791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7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5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, оказанной в стационарных условиях, по клинико-статистическим группам в рамках базовой программы ОМС</a:t>
            </a: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1628640"/>
          <a:ext cx="8712000" cy="260532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14986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1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менность без патологии, дородовая госпитализация в отделение сестринского у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, связанные с берем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24000" y="4365720"/>
          <a:ext cx="8712000" cy="210960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онкологическими, гематологическими и иммунологическими заболеваниями в тяжелых формах продолжительного т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8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ические заболевания, осложненные старческой астен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2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F60F-86AB-462D-9196-8163234108B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2"/>
          <a:srcRect l="30413" t="0" r="30608" b="0"/>
          <a:stretch/>
        </p:blipFill>
        <p:spPr>
          <a:xfrm>
            <a:off x="684360" y="115920"/>
            <a:ext cx="4090680" cy="5905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109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10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15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17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Рисунок 10" descr="logo2.png"/>
            <p:cNvPicPr/>
            <p:nvPr/>
          </p:nvPicPr>
          <p:blipFill>
            <a:blip r:embed="rId3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11" descr=""/>
          <p:cNvPicPr/>
          <p:nvPr/>
        </p:nvPicPr>
        <p:blipFill>
          <a:blip r:embed="rId4"/>
          <a:srcRect l="33366" t="6950" r="33561" b="13253"/>
          <a:stretch/>
        </p:blipFill>
        <p:spPr>
          <a:xfrm>
            <a:off x="4500720" y="1052640"/>
            <a:ext cx="4032000" cy="54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87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6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 в условиях дневных стационаров, по клинико-статистическим группам в рамках базовой программы ОМС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0920" y="1557360"/>
          <a:ext cx="8785080" cy="2824200"/>
        </p:xfrm>
        <a:graphic>
          <a:graphicData uri="http://schemas.openxmlformats.org/drawingml/2006/table">
            <a:tbl>
              <a:tblPr/>
              <a:tblGrid>
                <a:gridCol w="720720"/>
                <a:gridCol w="4843440"/>
                <a:gridCol w="557280"/>
                <a:gridCol w="718920"/>
                <a:gridCol w="865440"/>
                <a:gridCol w="1079280"/>
              </a:tblGrid>
              <a:tr h="1710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дневном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 беременности, родов, послеродов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зни женских половых ор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 на женских половых органах (уровень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0920" y="4508640"/>
          <a:ext cx="8785080" cy="2016000"/>
        </p:xfrm>
        <a:graphic>
          <a:graphicData uri="http://schemas.openxmlformats.org/drawingml/2006/table">
            <a:tbl>
              <a:tblPr/>
              <a:tblGrid>
                <a:gridCol w="720720"/>
                <a:gridCol w="4824360"/>
                <a:gridCol w="576360"/>
                <a:gridCol w="612720"/>
                <a:gridCol w="863640"/>
                <a:gridCol w="1187280"/>
              </a:tblGrid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еренесших заболевания перинатальн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нарушениями слуха без замены речевого процессора системы кохлеарной импла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B0A7-AE3F-4FDD-8ADD-76D7B0EBC4B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468360" y="2133720"/>
            <a:ext cx="5688000" cy="423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дицинские организации (юридические лица) государственной (муниципальной) формы собственности независимо от их ведомственной подчиненности, а также медицинские организации (юридические лица) иных форм собственности, оказывающие медицинскую помощь населению в соответствии с территориальными программами государственных гарантий бесплатного оказания гражданам медицинской помощи отчет по форме статистической отчетности № 62 «Сведения о ресурсном обеспечении и оказании медицинской помощи населению» (далее – Форма № 62) заполняют в электронном виде в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истеме «Система мониторинга ресурсного обеспечения здравоохранения» (далее – Система), размещенной на Интернет-портале Минздрава России по адрес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http://62.rosminzdrav.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C159-BE59-404B-A109-F724F3601CF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00040" y="2071800"/>
            <a:ext cx="5943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медицинские организации в строгом соответствии с номенклатурой медицинских организаций, утвержденных приказом Минздрава России от 6 августа 2013 г. № 529н, а также с учетом приложения к территориальной программе государственных гарантий бесплатного оказания медицинской помощи (далее – территориальная программа) о перечне медицинских организаций, участвующих в реализации территориальной программы, в том числе территориальной программы ОМС.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чие организации, не входящие в номенклатуру медицинских организаций, Форму № 62 не заполн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39640" y="4653000"/>
            <a:ext cx="59040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читывая положения пункта 11 статьи 2 Федерального закона от 21 ноября 2011 г. № 323-ФЗ «Об основах охраны здоровья граждан в Российской Федерации» к медицинским организациям приравниваются индивидуальные предприниматели, осуществляющие медицинскую деятельность, данные об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ндивидуальных предпринимателях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казываются в Разделе I (1000) по соответствующим строкам не тольк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о графе 14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, но и п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графе 13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09E0-38F3-45C3-95FA-3340B816AB1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0040" y="2187720"/>
            <a:ext cx="601668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адресной части Формы № 62 указывается наименование медицинской организации на 31  декабря отчетного года – в соответствии с учредительными документами, зарегистрированными в установленном поряд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500040" y="3340080"/>
            <a:ext cx="601668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ведения по Форме № 62 предоставляются только юридическими ли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и наличии у юридического лица обособленных подразделений настоящая форма заполняется в целом по юридическому лицу, включая обособленные подраз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68360" y="4707000"/>
            <a:ext cx="604836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все медицинские организации вне зависимости от продолжительности периода (месяц, квартал и т.п.) осуществления деятельности в сфере ОМС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рядок сдачи отчетов медицинскими организация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5F58-FA93-41F9-AE84-D0E0945BF3F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32400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ие организации, участвующие в реализации тер. программы, в том числе тер. программы 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747800"/>
          <a:ext cx="7993080" cy="3697200"/>
        </p:xfrm>
        <a:graphic>
          <a:graphicData uri="http://schemas.openxmlformats.org/drawingml/2006/table">
            <a:tbl>
              <a:tblPr/>
              <a:tblGrid>
                <a:gridCol w="4753080"/>
                <a:gridCol w="1438200"/>
                <a:gridCol w="180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ицин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*ОК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ГОРОДСКАЯ ПОЛИКЛИНИКА №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ГКУ «411 ВГ» М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З «УЗЛОВАЯ ПОЛИКЛИНИКА НА СТ.***** ОАО «РЖ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42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*****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альный фонд обязательного медицинского страхования (**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, оказывающие медицинские и ины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3"/>
          <p:cNvSpPr/>
          <p:nvPr/>
        </p:nvSpPr>
        <p:spPr>
          <a:xfrm>
            <a:off x="1042920" y="5516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медицинская организация = 1 пароль/ ло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42" name="Прямая соединительная линия 19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оугольник 20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22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Сроки представления отчетов медицинскими организациями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0FB2-24BE-4C4D-9B2C-B3504BF0CBF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08000" y="1125360"/>
            <a:ext cx="878508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14" descr=""/>
          <p:cNvPicPr/>
          <p:nvPr/>
        </p:nvPicPr>
        <p:blipFill>
          <a:blip r:embed="rId1"/>
          <a:stretch/>
        </p:blipFill>
        <p:spPr>
          <a:xfrm>
            <a:off x="596880" y="1384200"/>
            <a:ext cx="7804080" cy="4778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0"/>
          <p:cNvSpPr/>
          <p:nvPr/>
        </p:nvSpPr>
        <p:spPr>
          <a:xfrm>
            <a:off x="6012000" y="2133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м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гнутая вправо стрелка 22"/>
          <p:cNvSpPr/>
          <p:nvPr/>
        </p:nvSpPr>
        <p:spPr>
          <a:xfrm>
            <a:off x="7308720" y="1773360"/>
            <a:ext cx="730440" cy="2511360"/>
          </a:xfrm>
          <a:custGeom>
            <a:avLst/>
            <a:gdLst>
              <a:gd name="textAreaLeft" fmla="*/ 97560 w 730440"/>
              <a:gd name="textAreaRight" fmla="*/ 632880 w 730440"/>
              <a:gd name="textAreaTop" fmla="*/ 559440 h 2511360"/>
              <a:gd name="textAreaBottom" fmla="*/ 1860840 h 25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3594233"/>
                <a:lnTo>
                  <a:pt x="5400" y="21294"/>
                </a:lnTo>
                <a:lnTo>
                  <a:pt x="0" y="20030"/>
                </a:lnTo>
                <a:lnTo>
                  <a:pt x="5400" y="18154"/>
                </a:lnTo>
                <a:lnTo>
                  <a:pt x="5400" y="18939"/>
                </a:lnTo>
                <a:arcTo wR="21600" hR="9623" stAng="3594233" swAng="-3468934"/>
                <a:lnTo>
                  <a:pt x="21528" y="10408"/>
                </a:lnTo>
                <a:arcTo wR="21600" hR="9623" stAng="-125299" swAng="-5274701"/>
                <a:close/>
              </a:path>
              <a:path fill="darkenLess"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-125299"/>
                <a:lnTo>
                  <a:pt x="21528" y="10408"/>
                </a:lnTo>
                <a:arcTo wR="21600" hR="9623" stAng="-125299" swAng="-5274701"/>
                <a:close/>
              </a:path>
            </a:pathLst>
          </a:custGeom>
          <a:solidFill>
            <a:srgbClr val="009dd9"/>
          </a:solidFill>
          <a:ln w="25560">
            <a:solidFill>
              <a:srgbClr val="0072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7164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2050920" y="2133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32"/>
          <p:cNvSpPr/>
          <p:nvPr/>
        </p:nvSpPr>
        <p:spPr>
          <a:xfrm>
            <a:off x="4356000" y="45813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2050920" y="3429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5940360" y="479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войная стрелка вверх/вниз 1"/>
          <p:cNvSpPr/>
          <p:nvPr/>
        </p:nvSpPr>
        <p:spPr>
          <a:xfrm>
            <a:off x="4284720" y="2060640"/>
            <a:ext cx="287280" cy="5745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войная стрелка вверх/вниз 23"/>
          <p:cNvSpPr/>
          <p:nvPr/>
        </p:nvSpPr>
        <p:spPr>
          <a:xfrm>
            <a:off x="4356000" y="3357720"/>
            <a:ext cx="216000" cy="431640"/>
          </a:xfrm>
          <a:prstGeom prst="upDown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62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9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30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6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2C36-86D7-49BB-94A3-A1BD1CB1196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187280" y="1272240"/>
            <a:ext cx="4753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дицинские организации по типам, организационно-правовым формам и формам соб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539640" y="2997360"/>
            <a:ext cx="5904000" cy="13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122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 организованных центров амбулаторной онкологической помощи, всего _________________ (ед.) (1), в том числе в медицинских организациях государственной (муниципальной) системы здравоохранения __________________ (ед.) (2), в медицинских организациях частной системы здравоохранения __________________ (ед.)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3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74" name="Прямоугольник 24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23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2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A328-854B-4F24-99B5-5185D8E7C57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0" y="549360"/>
            <a:ext cx="9144000" cy="3585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108000" y="446400"/>
            <a:ext cx="878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Таблица 15" descr=""/>
          <p:cNvPicPr/>
          <p:nvPr/>
        </p:nvPicPr>
        <p:blipFill>
          <a:blip r:embed="rId3"/>
          <a:stretch/>
        </p:blipFill>
        <p:spPr>
          <a:xfrm>
            <a:off x="30240" y="865080"/>
            <a:ext cx="4614840" cy="5614920"/>
          </a:xfrm>
          <a:prstGeom prst="rect">
            <a:avLst/>
          </a:prstGeom>
          <a:ln w="0">
            <a:noFill/>
          </a:ln>
        </p:spPr>
      </p:pic>
      <p:pic>
        <p:nvPicPr>
          <p:cNvPr id="184" name="Таблица 19" descr=""/>
          <p:cNvPicPr/>
          <p:nvPr/>
        </p:nvPicPr>
        <p:blipFill>
          <a:blip r:embed="rId4"/>
          <a:stretch/>
        </p:blipFill>
        <p:spPr>
          <a:xfrm>
            <a:off x="4711680" y="847800"/>
            <a:ext cx="4329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ббасова Ляля Адыгамовна</dc:creator>
  <dc:description/>
  <dc:language>en-US</dc:language>
  <cp:lastModifiedBy>Титова Ирина Анатольевна</cp:lastModifiedBy>
  <cp:lastPrinted>2019-10-09T16:31:33Z</cp:lastPrinted>
  <dcterms:modified xsi:type="dcterms:W3CDTF">2019-10-10T08:43:28Z</dcterms:modified>
  <cp:revision>1156</cp:revision>
  <dc:subject/>
  <dc:title>Слайд 1</dc:title>
</cp:coreProperties>
</file>