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9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8B0E-03AE-406C-B186-41340BE674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3289-9734-4402-878B-0BDE699990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EB0A-78BF-409C-823B-51A3B49B9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6633-E10C-4DE3-ACD1-B4C00BC2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DC40-330F-4820-90ED-6AC08CA0D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2CD9-3C76-4883-ADF4-C038B656B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3FE7-70B3-445F-82DF-E51E756FB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5C61-4224-47DE-B014-15E41EAF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57E9-60C4-4951-89C8-8D946364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10FC-C469-433D-A677-5AC84330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5916-0726-43D6-BE83-4DE87EA5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5267-5A7A-4D79-9AB0-66EE8D67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5BD4-A9E2-44C2-8370-C35E880A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9CC6-0CC3-4616-A97E-8BC9A2E8D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EA6D-3DA8-4990-8810-33369225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4731-4DEB-4E12-AE71-1E93B582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A294-2738-4D09-A432-6031A450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43F3-3A5B-4375-9E6E-1677DEEC1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322D-F15B-4864-81F0-C8878BC4B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C829-C664-4691-9E08-027D7AEC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061D-FB51-4E5E-8B57-DE37507D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9E32-EAFF-4451-A67F-D7F76AF2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98EC-282B-403C-A304-962788B0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C5CD-36BD-418E-AD8C-C26535EB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1FC6-651A-4AF4-9697-33337484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F57A-4931-4643-A935-D05848A3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1127-B469-4774-9C88-46DA6BCA16E2}" type="datetime">
              <a:rPr b="0" lang="ru-RU" sz="1200" spc="-1" strike="noStrike">
                <a:solidFill>
                  <a:srgbClr val="045c75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A9B2-7AE0-4DB6-B20D-6F2C95E34A45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EFD8-054C-4055-9406-FDBD22E3BB2B}" type="datetime">
              <a:rPr b="0" lang="ru-RU" sz="1200" spc="-1" strike="noStrike">
                <a:solidFill>
                  <a:srgbClr val="045c75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26CB-F6F1-4944-A233-68075064B6F5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6" descr="фон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C:\Documents and Settings\GolutvoAS\Рабочий стол\преза\originnal_df2a9b8293273ab8fe6e321631ebb862.jpg"/>
          <p:cNvPicPr/>
          <p:nvPr/>
        </p:nvPicPr>
        <p:blipFill>
          <a:blip r:embed="rId2"/>
          <a:stretch/>
        </p:blipFill>
        <p:spPr>
          <a:xfrm>
            <a:off x="468360" y="115920"/>
            <a:ext cx="1442880" cy="1585800"/>
          </a:xfrm>
          <a:prstGeom prst="rect">
            <a:avLst/>
          </a:prstGeom>
          <a:ln w="0">
            <a:noFill/>
          </a:ln>
        </p:spPr>
      </p:pic>
      <p:sp>
        <p:nvSpPr>
          <p:cNvPr id="104" name="Подзаголовок 2"/>
          <p:cNvSpPr/>
          <p:nvPr/>
        </p:nvSpPr>
        <p:spPr>
          <a:xfrm>
            <a:off x="2050920" y="620640"/>
            <a:ext cx="612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Cyr"/>
                <a:ea typeface="Arial Cyr"/>
              </a:rPr>
              <a:t>МИНИСТЕРСТВО ЗДРАВООХРАНЕНИЯ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9"/>
          <p:cNvSpPr/>
          <p:nvPr/>
        </p:nvSpPr>
        <p:spPr>
          <a:xfrm>
            <a:off x="971640" y="2060640"/>
            <a:ext cx="7921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Новая форма федерального статистического наблюдения № 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«Сведения о ресурсном обеспечении и оказании медицинской помощи населению» за 2019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Рисунок 13" descr="original_558262258e97b6c11e8b456c_5837d6a2532b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284D-80CE-4376-8D52-9E4CA8E5142F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15"/>
          <p:cNvSpPr/>
          <p:nvPr/>
        </p:nvSpPr>
        <p:spPr>
          <a:xfrm>
            <a:off x="1332000" y="6922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несение изменений в Форму № 62 за 2019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11"/>
          <p:cNvSpPr/>
          <p:nvPr/>
        </p:nvSpPr>
        <p:spPr>
          <a:xfrm>
            <a:off x="755640" y="1700280"/>
            <a:ext cx="5545080" cy="106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17b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дел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Формирование и выполнение территориальной программы государственных гарантий бесплатного оказания гражданам медицинской помощ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2"/>
          <p:cNvSpPr/>
          <p:nvPr/>
        </p:nvSpPr>
        <p:spPr>
          <a:xfrm>
            <a:off x="539640" y="3429000"/>
            <a:ext cx="5904000" cy="1159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(2050)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Наличие остатков средств обязательного медицинского страхования, образовавшихся на счетах медицинских организаций на 1 января года, предшествующего отчетному году ____________ (руб.) (1), на 1 января отчетного года ______________ (руб.) (2) (код по ОКЕИ: рубль – 383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Рисунок 12" descr="med_ban.jpg"/>
          <p:cNvPicPr/>
          <p:nvPr/>
        </p:nvPicPr>
        <p:blipFill>
          <a:blip r:embed="rId1"/>
          <a:stretch/>
        </p:blipFill>
        <p:spPr>
          <a:xfrm>
            <a:off x="0" y="260280"/>
            <a:ext cx="91105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1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192" name="Прямоугольник 27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Прямая соединительная линия 28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Прямоугольник 29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Рисунок 10" descr="logo2.png"/>
            <p:cNvPicPr/>
            <p:nvPr/>
          </p:nvPicPr>
          <p:blipFill>
            <a:blip r:embed="rId2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79200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ctr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Внесение изменений в Форму № 62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за 2019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2"/>
          <p:cNvSpPr/>
          <p:nvPr/>
        </p:nvSpPr>
        <p:spPr>
          <a:xfrm>
            <a:off x="179280" y="907920"/>
            <a:ext cx="8785440" cy="50652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"/>
          <p:cNvSpPr/>
          <p:nvPr/>
        </p:nvSpPr>
        <p:spPr>
          <a:xfrm>
            <a:off x="179280" y="847800"/>
            <a:ext cx="8785440" cy="520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Arial"/>
              </a:rPr>
              <a:t>Раздел </a:t>
            </a:r>
            <a:r>
              <a:rPr b="1" lang="en-US" sz="1400" spc="-1" strike="noStrike">
                <a:solidFill>
                  <a:srgbClr val="c00000"/>
                </a:solidFill>
                <a:latin typeface="Arial"/>
                <a:ea typeface="Arial"/>
              </a:rPr>
              <a:t>III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Arial"/>
              </a:rPr>
              <a:t>. Фактические объемы посещений  при оказании медицинской помощи в амбулаторных условиях и их финансиров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Таблица 24" descr=""/>
          <p:cNvPicPr/>
          <p:nvPr/>
        </p:nvPicPr>
        <p:blipFill>
          <a:blip r:embed="rId3"/>
          <a:stretch/>
        </p:blipFill>
        <p:spPr>
          <a:xfrm>
            <a:off x="0" y="1390680"/>
            <a:ext cx="4505400" cy="5722920"/>
          </a:xfrm>
          <a:prstGeom prst="rect">
            <a:avLst/>
          </a:prstGeom>
          <a:ln w="0">
            <a:noFill/>
          </a:ln>
        </p:spPr>
      </p:pic>
      <p:pic>
        <p:nvPicPr>
          <p:cNvPr id="202" name="Таблица 25" descr=""/>
          <p:cNvPicPr/>
          <p:nvPr/>
        </p:nvPicPr>
        <p:blipFill>
          <a:blip r:embed="rId4"/>
          <a:stretch/>
        </p:blipFill>
        <p:spPr>
          <a:xfrm>
            <a:off x="4535640" y="1390680"/>
            <a:ext cx="450504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Рисунок 7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04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205" name="Прямоугольник 13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Прямая соединительная линия 14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Прямоугольник 15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9" name="Рисунок 10" descr="logo2.png"/>
            <p:cNvPicPr/>
            <p:nvPr/>
          </p:nvPicPr>
          <p:blipFill>
            <a:blip r:embed="rId2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64800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Внесение изменений в Форму № 62 за 2019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Прямоугольник 2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"/>
          <p:cNvSpPr/>
          <p:nvPr/>
        </p:nvSpPr>
        <p:spPr>
          <a:xfrm>
            <a:off x="0" y="605520"/>
            <a:ext cx="9144000" cy="733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Раздел V</a:t>
            </a: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I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. Расчетные и фактические показатели объема и финансового обеспечения специализированной медицинской помощи, оказанной в стационарных условиях, по профилям медицинской помощи (таблица 6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Таблица 8" descr=""/>
          <p:cNvPicPr/>
          <p:nvPr/>
        </p:nvPicPr>
        <p:blipFill>
          <a:blip r:embed="rId3"/>
          <a:stretch/>
        </p:blipFill>
        <p:spPr>
          <a:xfrm>
            <a:off x="103320" y="1225440"/>
            <a:ext cx="4614840" cy="5413320"/>
          </a:xfrm>
          <a:prstGeom prst="rect">
            <a:avLst/>
          </a:prstGeom>
          <a:ln w="0">
            <a:noFill/>
          </a:ln>
        </p:spPr>
      </p:pic>
      <p:pic>
        <p:nvPicPr>
          <p:cNvPr id="215" name="Таблица 11" descr=""/>
          <p:cNvPicPr/>
          <p:nvPr/>
        </p:nvPicPr>
        <p:blipFill>
          <a:blip r:embed="rId4"/>
          <a:stretch/>
        </p:blipFill>
        <p:spPr>
          <a:xfrm>
            <a:off x="4784760" y="1225440"/>
            <a:ext cx="4255920" cy="54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Рисунок 6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7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218" name="Прямоугольник 11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Прямая соединительная линия 12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Прямоугольник 13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" name="Рисунок 10" descr="logo2.png"/>
            <p:cNvPicPr/>
            <p:nvPr/>
          </p:nvPicPr>
          <p:blipFill>
            <a:blip r:embed="rId2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3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57636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Внесение изменений в Форму № 62 за 2019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Прямоугольник 2"/>
          <p:cNvSpPr/>
          <p:nvPr/>
        </p:nvSpPr>
        <p:spPr>
          <a:xfrm>
            <a:off x="0" y="620640"/>
            <a:ext cx="9144000" cy="57636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"/>
          <p:cNvSpPr/>
          <p:nvPr/>
        </p:nvSpPr>
        <p:spPr>
          <a:xfrm>
            <a:off x="250920" y="551520"/>
            <a:ext cx="8424720" cy="733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Раздел V</a:t>
            </a: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I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. Расчетные и фактические показатели объема и финансового обеспечения медицинской помощи, оказанной в условиях дневных стационаров, по профилям медицинской помощи (таблица 600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Таблица 8" descr=""/>
          <p:cNvPicPr/>
          <p:nvPr/>
        </p:nvPicPr>
        <p:blipFill>
          <a:blip r:embed="rId3"/>
          <a:stretch/>
        </p:blipFill>
        <p:spPr>
          <a:xfrm>
            <a:off x="1090440" y="1206360"/>
            <a:ext cx="3121200" cy="5407200"/>
          </a:xfrm>
          <a:prstGeom prst="rect">
            <a:avLst/>
          </a:prstGeom>
          <a:ln w="0">
            <a:noFill/>
          </a:ln>
        </p:spPr>
      </p:pic>
      <p:pic>
        <p:nvPicPr>
          <p:cNvPr id="228" name="Таблица 9" descr=""/>
          <p:cNvPicPr/>
          <p:nvPr/>
        </p:nvPicPr>
        <p:blipFill>
          <a:blip r:embed="rId4"/>
          <a:stretch/>
        </p:blipFill>
        <p:spPr>
          <a:xfrm>
            <a:off x="4614840" y="1225440"/>
            <a:ext cx="312732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Рисунок 6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785440" cy="79236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Внесение изменений в Форму № 62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за 2019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Прямоугольник 2"/>
          <p:cNvSpPr/>
          <p:nvPr/>
        </p:nvSpPr>
        <p:spPr>
          <a:xfrm>
            <a:off x="179280" y="765000"/>
            <a:ext cx="8785440" cy="28908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"/>
          <p:cNvSpPr/>
          <p:nvPr/>
        </p:nvSpPr>
        <p:spPr>
          <a:xfrm>
            <a:off x="179280" y="765360"/>
            <a:ext cx="84250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Раздел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VII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«Платные медицинские услуг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Таблица 8" descr=""/>
          <p:cNvPicPr/>
          <p:nvPr/>
        </p:nvPicPr>
        <p:blipFill>
          <a:blip r:embed="rId2"/>
          <a:stretch/>
        </p:blipFill>
        <p:spPr>
          <a:xfrm>
            <a:off x="0" y="1011240"/>
            <a:ext cx="9144000" cy="5827680"/>
          </a:xfrm>
          <a:prstGeom prst="rect">
            <a:avLst/>
          </a:prstGeom>
          <a:ln w="0">
            <a:noFill/>
          </a:ln>
        </p:spPr>
      </p:pic>
      <p:grpSp>
        <p:nvGrpSpPr>
          <p:cNvPr id="235" name="Прямоугольник 7"/>
          <p:cNvGrpSpPr/>
          <p:nvPr/>
        </p:nvGrpSpPr>
        <p:grpSpPr>
          <a:xfrm>
            <a:off x="4406760" y="3749760"/>
            <a:ext cx="4645080" cy="1955880"/>
            <a:chOff x="4406760" y="3749760"/>
            <a:chExt cx="4645080" cy="1955880"/>
          </a:xfrm>
        </p:grpSpPr>
        <p:pic>
          <p:nvPicPr>
            <p:cNvPr id="236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4406760" y="3749760"/>
              <a:ext cx="4645080" cy="19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4500720" y="3789360"/>
              <a:ext cx="446400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nstantia"/>
                </a:rPr>
                <a:t>Раздел </a:t>
              </a:r>
              <a:r>
                <a:rPr b="0" lang="en-US" sz="1600" spc="-1" strike="noStrike">
                  <a:solidFill>
                    <a:srgbClr val="000000"/>
                  </a:solidFill>
                  <a:latin typeface="Constantia"/>
                </a:rPr>
                <a:t>VII</a:t>
              </a:r>
              <a:r>
                <a:rPr b="1" lang="ru-RU" sz="16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Constantia"/>
                </a:rPr>
                <a:t>«Платные медицинские услуги» заполняется всеми медицинскими организациями, </a:t>
              </a:r>
              <a:r>
                <a:rPr b="1" lang="ru-RU" sz="1600" spc="-1" strike="noStrike">
                  <a:solidFill>
                    <a:srgbClr val="000000"/>
                  </a:solidFill>
                  <a:latin typeface="Constantia"/>
                </a:rPr>
                <a:t>в том числе частной системы здравоохранения</a:t>
              </a:r>
              <a:r>
                <a:rPr b="0" lang="ru-RU" sz="1600" spc="-1" strike="noStrike">
                  <a:solidFill>
                    <a:srgbClr val="000000"/>
                  </a:solidFill>
                  <a:latin typeface="Constantia"/>
                </a:rPr>
                <a:t>, оказывающими медицинскую помощь населению в рамках территориальных программ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6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785440" cy="79236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Внесение изменений в Форму № 62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за 2019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Прямоугольник 2"/>
          <p:cNvSpPr/>
          <p:nvPr/>
        </p:nvSpPr>
        <p:spPr>
          <a:xfrm>
            <a:off x="179280" y="765000"/>
            <a:ext cx="8785440" cy="28908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"/>
          <p:cNvSpPr/>
          <p:nvPr/>
        </p:nvSpPr>
        <p:spPr>
          <a:xfrm>
            <a:off x="179280" y="765360"/>
            <a:ext cx="84250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Раздел </a:t>
            </a: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VII</a:t>
            </a:r>
            <a:r>
              <a:rPr b="1" lang="de-DE" sz="1400" spc="-1" strike="noStrike">
                <a:solidFill>
                  <a:srgbClr val="c00000"/>
                </a:solidFill>
                <a:latin typeface="Arial"/>
              </a:rPr>
              <a:t>I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 «Расходы финансовых средств из различных источников финансировани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Таблица 10" descr=""/>
          <p:cNvPicPr/>
          <p:nvPr/>
        </p:nvPicPr>
        <p:blipFill>
          <a:blip r:embed="rId2"/>
          <a:stretch/>
        </p:blipFill>
        <p:spPr>
          <a:xfrm>
            <a:off x="324000" y="1225440"/>
            <a:ext cx="4035240" cy="4662720"/>
          </a:xfrm>
          <a:prstGeom prst="rect">
            <a:avLst/>
          </a:prstGeom>
          <a:ln w="0">
            <a:noFill/>
          </a:ln>
        </p:spPr>
      </p:pic>
      <p:pic>
        <p:nvPicPr>
          <p:cNvPr id="244" name="Таблица 11" descr=""/>
          <p:cNvPicPr/>
          <p:nvPr/>
        </p:nvPicPr>
        <p:blipFill>
          <a:blip r:embed="rId3"/>
          <a:stretch/>
        </p:blipFill>
        <p:spPr>
          <a:xfrm>
            <a:off x="4572000" y="1225440"/>
            <a:ext cx="4035600" cy="4205520"/>
          </a:xfrm>
          <a:prstGeom prst="rect">
            <a:avLst/>
          </a:prstGeom>
          <a:ln w="0">
            <a:noFill/>
          </a:ln>
        </p:spPr>
      </p:pic>
      <p:grpSp>
        <p:nvGrpSpPr>
          <p:cNvPr id="245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246" name="Прямоугольник 13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Прямая соединительная линия 14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Прямоугольник 15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Рисунок 10" descr="logo2.png"/>
            <p:cNvPicPr/>
            <p:nvPr/>
          </p:nvPicPr>
          <p:blipFill>
            <a:blip r:embed="rId4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Рисунок 6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785440" cy="79236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Внесение изменений в Форму № 62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за 2019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Прямоугольник 2"/>
          <p:cNvSpPr/>
          <p:nvPr/>
        </p:nvSpPr>
        <p:spPr>
          <a:xfrm>
            <a:off x="179280" y="765000"/>
            <a:ext cx="8785440" cy="50328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"/>
          <p:cNvSpPr/>
          <p:nvPr/>
        </p:nvSpPr>
        <p:spPr>
          <a:xfrm>
            <a:off x="179280" y="747000"/>
            <a:ext cx="8425080" cy="520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Раздел </a:t>
            </a: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IX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 «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Способы оплаты медицинской помощи в рамках территориальной программы ОМС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08000" y="1197000"/>
          <a:ext cx="9001080" cy="5629320"/>
        </p:xfrm>
        <a:graphic>
          <a:graphicData uri="http://schemas.openxmlformats.org/drawingml/2006/table">
            <a:tbl>
              <a:tblPr/>
              <a:tblGrid>
                <a:gridCol w="2843280"/>
                <a:gridCol w="3789360"/>
                <a:gridCol w="469800"/>
                <a:gridCol w="631800"/>
                <a:gridCol w="633600"/>
                <a:gridCol w="633240"/>
              </a:tblGrid>
              <a:tr h="304920">
                <a:tc rowSpan="2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ы оплаты медицинской помощ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медицинских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уров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 уров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 уров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 rowSpan="4"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помощь, оказанная в стационарных условия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законченный случай лечения заболевания, в том числ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линико-статистическим группам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линико-профильным группам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линико-профильным группам в сочетании с клинико-статистическими группа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 rowSpan="4">
                  <a:txBody>
                    <a:bodyPr lIns="44640" rIns="44640" tIns="0" bIns="0" anchor="ctr">
                      <a:noAutofit/>
                    </a:bodyPr>
                    <a:p>
                      <a:pPr marL="111240" indent="-111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помощь, оказанная в условиях дневного стационар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законченный случай лечения заболевания, в том числ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линико-статистическим группам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линико-профильным группам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линико-профильным группам в сочетании с клинико-статистическими группа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480">
                <a:tc rowSpan="3"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помощь, оказанная в амбулаторных условия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ушевому нормативу финансирования на прикрепившихся лиц в сочетании с оплатой за единицу объема медицинской помощи - за медицинскую услугу, за посещение, за обращение (законченный случа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ушевому нормативу финансирования на прикрепившихся лиц с учетом показателей результативности деятельности медицинской организации (включая показатели объема медицинской помощи), в том числе с включением расходов на медицинскую помощь, оказываемую в иных медицинских организациях (за единицу объема медицинской помощи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единицу объема медицинской помощи - за медицинскую услугу (при оплате отдельных диагностических (лабораторных) исследований), за посещение (комплексное посещение), за обращение (законченный случа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3240"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ая медицинская помощь вне медицинской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ушевому нормативу финансирования в сочетании с оплатой за вызов скорой медицинской помощ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480">
                <a:tc>
                  <a:txBody>
                    <a:bodyPr lIns="44640" rIns="44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организации, имеющие в составе подразделения, оказывающие медицинскую помощь в амбулаторных, стационарных условиях и в условиях дневного стациона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ушевому нормативу финансирования на прикрепившихся к медицинской организации лиц, включая оплату по всем видам и условиям медицинской помощи, оказываемой в медицинской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Рисунок 14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785440" cy="79236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Внесение изменений в Форму № 62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за 201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9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 год (приложения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0" name="Схема 7" descr=""/>
          <p:cNvPicPr/>
          <p:nvPr/>
        </p:nvPicPr>
        <p:blipFill>
          <a:blip r:embed="rId2"/>
          <a:stretch/>
        </p:blipFill>
        <p:spPr>
          <a:xfrm>
            <a:off x="225360" y="1268280"/>
            <a:ext cx="8882280" cy="5400720"/>
          </a:xfrm>
          <a:prstGeom prst="rect">
            <a:avLst/>
          </a:prstGeom>
          <a:ln w="0">
            <a:noFill/>
          </a:ln>
        </p:spPr>
      </p:pic>
      <p:sp>
        <p:nvSpPr>
          <p:cNvPr id="261" name="Прямоугольник 2"/>
          <p:cNvSpPr/>
          <p:nvPr/>
        </p:nvSpPr>
        <p:spPr>
          <a:xfrm>
            <a:off x="179280" y="765000"/>
            <a:ext cx="8785440" cy="50328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46422"/>
                </a:solidFill>
                <a:latin typeface="Arial"/>
              </a:rPr>
              <a:t>При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Рисунок 9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63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264" name="Прямоугольник 12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Прямая соединительная линия 14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Прямоугольник 15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8" name="Рисунок 10" descr="logo2.png"/>
            <p:cNvPicPr/>
            <p:nvPr/>
          </p:nvPicPr>
          <p:blipFill>
            <a:blip r:embed="rId2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9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785440" cy="79236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Приложения к отчету по форме № 62 за 2019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Прямоугольник 2"/>
          <p:cNvSpPr/>
          <p:nvPr/>
        </p:nvSpPr>
        <p:spPr>
          <a:xfrm>
            <a:off x="0" y="836640"/>
            <a:ext cx="8785080" cy="72072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Приложение 4 «Показатели объема и финансового обеспечения специализированной медицинской помощи, оказанной иностранным гражданам в стационарных условиях, по профилям медицинской помощ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Таблица 10" descr=""/>
          <p:cNvPicPr/>
          <p:nvPr/>
        </p:nvPicPr>
        <p:blipFill>
          <a:blip r:embed="rId3"/>
          <a:stretch/>
        </p:blipFill>
        <p:spPr>
          <a:xfrm>
            <a:off x="103320" y="1596960"/>
            <a:ext cx="879156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Рисунок 9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74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275" name="Прямоугольник 13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Прямая соединительная линия 14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Прямоугольник 15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9" name="Рисунок 10" descr="logo2.png"/>
            <p:cNvPicPr/>
            <p:nvPr/>
          </p:nvPicPr>
          <p:blipFill>
            <a:blip r:embed="rId2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0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785440" cy="79236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Приложения к отчету по форме № 62 за 2019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Прямоугольник 2"/>
          <p:cNvSpPr/>
          <p:nvPr/>
        </p:nvSpPr>
        <p:spPr>
          <a:xfrm>
            <a:off x="0" y="836640"/>
            <a:ext cx="8820000" cy="72072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Приложение 5 «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Фактические показатели объема и финансового обеспечения медицинской помощи, оказанной в стационарных условиях, по клинико-статистическим группам в рамках базовой программы ОМС</a:t>
            </a:r>
            <a:r>
              <a:rPr b="0" lang="ru-RU" sz="1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24000" y="1628640"/>
          <a:ext cx="8712000" cy="2605320"/>
        </p:xfrm>
        <a:graphic>
          <a:graphicData uri="http://schemas.openxmlformats.org/drawingml/2006/table">
            <a:tbl>
              <a:tblPr/>
              <a:tblGrid>
                <a:gridCol w="634680"/>
                <a:gridCol w="4621320"/>
                <a:gridCol w="719280"/>
                <a:gridCol w="720720"/>
                <a:gridCol w="936720"/>
                <a:gridCol w="1079280"/>
              </a:tblGrid>
              <a:tr h="149868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КС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КС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учаев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чения, 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финан-сирования,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яя длительность пребывания 1-ого пациента в стационаре (дне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924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652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01.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ременность без патологии, дородовая госпитализация в отделение сестринского ух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92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02.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ложнения, связанные с беременность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324000" y="4365720"/>
          <a:ext cx="8712000" cy="2109600"/>
        </p:xfrm>
        <a:graphic>
          <a:graphicData uri="http://schemas.openxmlformats.org/drawingml/2006/table">
            <a:tbl>
              <a:tblPr/>
              <a:tblGrid>
                <a:gridCol w="634680"/>
                <a:gridCol w="4621320"/>
                <a:gridCol w="719280"/>
                <a:gridCol w="720720"/>
                <a:gridCol w="936720"/>
                <a:gridCol w="1079280"/>
              </a:tblGrid>
              <a:tr h="6458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37.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ская реабилитация детей с онкологическими, гематологическими и иммунологическими заболеваниями в тяжелых формах продолжительного те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37.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ская реабилитация детей с поражениями центральной нервной сист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012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37.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ская реабилитация детей, после хирургической коррекции врожденных пороков развития органов и сист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38.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матические заболевания, осложненные старческой астени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12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4EF9-B14B-48D5-BD0F-244B3548AF13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2"/>
          <a:srcRect l="30413" t="0" r="30608" b="0"/>
          <a:stretch/>
        </p:blipFill>
        <p:spPr>
          <a:xfrm>
            <a:off x="684360" y="115920"/>
            <a:ext cx="4090680" cy="5905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grpSp>
        <p:nvGrpSpPr>
          <p:cNvPr id="109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110" name="Прямая соединительная линия 14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Прямоугольник 15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Прямоугольник 17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Рисунок 10" descr="logo2.png"/>
            <p:cNvPicPr/>
            <p:nvPr/>
          </p:nvPicPr>
          <p:blipFill>
            <a:blip r:embed="rId3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5" name="Picture 11" descr=""/>
          <p:cNvPicPr/>
          <p:nvPr/>
        </p:nvPicPr>
        <p:blipFill>
          <a:blip r:embed="rId4"/>
          <a:srcRect l="33366" t="6950" r="33561" b="13253"/>
          <a:stretch/>
        </p:blipFill>
        <p:spPr>
          <a:xfrm>
            <a:off x="4500720" y="1052640"/>
            <a:ext cx="4032000" cy="5472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Рисунок 9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86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287" name="Прямоугольник 13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Прямая соединительная линия 14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Прямоугольник 15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1" name="Рисунок 10" descr="logo2.png"/>
            <p:cNvPicPr/>
            <p:nvPr/>
          </p:nvPicPr>
          <p:blipFill>
            <a:blip r:embed="rId2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2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785440" cy="79236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Приложения к отчету по форме № 62 за 2019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Прямоугольник 2"/>
          <p:cNvSpPr/>
          <p:nvPr/>
        </p:nvSpPr>
        <p:spPr>
          <a:xfrm>
            <a:off x="0" y="836640"/>
            <a:ext cx="8820000" cy="72072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Приложение 6 «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Фактические показатели объема и финансового обеспечения медицинской помощи в условиях дневных стационаров, по клинико-статистическим группам в рамках базовой программы ОМС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250920" y="1557360"/>
          <a:ext cx="8785080" cy="2824200"/>
        </p:xfrm>
        <a:graphic>
          <a:graphicData uri="http://schemas.openxmlformats.org/drawingml/2006/table">
            <a:tbl>
              <a:tblPr/>
              <a:tblGrid>
                <a:gridCol w="720720"/>
                <a:gridCol w="4843440"/>
                <a:gridCol w="557280"/>
                <a:gridCol w="718920"/>
                <a:gridCol w="865440"/>
                <a:gridCol w="1079280"/>
              </a:tblGrid>
              <a:tr h="171072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КС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КС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о-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учаев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чения, 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финан-сирования,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яя длительность пребывания 1-ого пациента в дневном стационаре (дне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508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s02.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ложнения беременности, родов, послеродового пери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s02.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лезни женских половых орга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s02.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ерации на женских половых органах (уровень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250920" y="4508640"/>
          <a:ext cx="8785080" cy="2016000"/>
        </p:xfrm>
        <a:graphic>
          <a:graphicData uri="http://schemas.openxmlformats.org/drawingml/2006/table">
            <a:tbl>
              <a:tblPr/>
              <a:tblGrid>
                <a:gridCol w="720720"/>
                <a:gridCol w="4824360"/>
                <a:gridCol w="576360"/>
                <a:gridCol w="612720"/>
                <a:gridCol w="863640"/>
                <a:gridCol w="1187280"/>
              </a:tblGrid>
              <a:tr h="4320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s37.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ская реабилитация детей, перенесших заболевания перинатального пери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58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s37.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ская реабилитация детей с нарушениями слуха без замены речевого процессора системы кохлеарной имплан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s37.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ская реабилитация детей с поражениями центральной нервной сист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616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s37.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ская реабилитация детей после хирургической коррекции врожденных пороков развития органов и сист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3" descr="original_558262258e97b6c11e8b456c_5837d6a2532b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AD14-F6A4-4479-B2BA-C79E047C1C00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2"/>
          <p:cNvSpPr/>
          <p:nvPr/>
        </p:nvSpPr>
        <p:spPr>
          <a:xfrm>
            <a:off x="468360" y="2133720"/>
            <a:ext cx="5688000" cy="423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Медицинские организации (юридические лица) государственной (муниципальной) формы собственности независимо от их ведомственной подчиненности, а также медицинские организации (юридические лица) иных форм собственности, оказывающие медицинскую помощь населению в соответствии с территориальными программами государственных гарантий бесплатного оказания гражданам медицинской помощи отчет по форме статистической отчетности № 62 «Сведения о ресурсном обеспечении и оказании медицинской помощи населению» (далее – Форма № 62) заполняют в электронном виде в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Системе «Система мониторинга ресурсного обеспечения здравоохранения» (далее – Система), размещенной на Интернет-портале Минздрава России по адресу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http://62.rosminzdrav.r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15"/>
          <p:cNvSpPr/>
          <p:nvPr/>
        </p:nvSpPr>
        <p:spPr>
          <a:xfrm>
            <a:off x="1332000" y="4762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орядок сдачи отчетов медицинскими организац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13" descr="original_558262258e97b6c11e8b456c_5837d6a2532b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CB27-C346-4C50-BD0D-902ECE90EC73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5"/>
          <p:cNvSpPr/>
          <p:nvPr/>
        </p:nvSpPr>
        <p:spPr>
          <a:xfrm>
            <a:off x="1332000" y="4762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орядок сдачи отчетов медицинскими организац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500040" y="2071800"/>
            <a:ext cx="5943600" cy="243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Отчет по Форме № 62 заполняют медицинские организации в строгом соответствии с номенклатурой медицинских организаций, утвержденных приказом Минздрава России от 6 августа 2013 г. № 529н, а также с учетом приложения к территориальной программе государственных гарантий бесплатного оказания медицинской помощи (далее – территориальная программа) о перечне медицинских организаций, участвующих в реализации территориальной программы, в том числе территориальной программы ОМС.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Прочие организации, не входящие в номенклатуру медицинских организаций, Форму № 62 не заполня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539640" y="4653000"/>
            <a:ext cx="5904000" cy="20120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Учитывая положения пункта 11 статьи 2 Федерального закона от 21 ноября 2011 г. № 323-ФЗ «Об основах охраны здоровья граждан в Российской Федерации» к медицинским организациям приравниваются индивидуальные предприниматели, осуществляющие медицинскую деятельность, данные об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индивидуальных предпринимателях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указываются в Разделе I (1000) по соответствующим строкам не только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по графе 14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, но и по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графе 13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13" descr="original_558262258e97b6c11e8b456c_5837d6a2532b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156B-789D-4975-BCB8-F6E0D496292F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5"/>
          <p:cNvSpPr/>
          <p:nvPr/>
        </p:nvSpPr>
        <p:spPr>
          <a:xfrm>
            <a:off x="1332000" y="4762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орядок сдачи отчетов медицинскими организац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500040" y="2187720"/>
            <a:ext cx="6016680" cy="9464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В адресной части Формы № 62 указывается наименование медицинской организации на 31  декабря отчетного года – в соответствии с учредительными документами, зарегистрированными в установленном поряд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500040" y="3340080"/>
            <a:ext cx="6016680" cy="1159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Сведения по Форме № 62 предоставляются только юридическими лиц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При наличии у юридического лица обособленных подразделений настоящая форма заполняется в целом по юридическому лицу, включая обособленные подразде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0"/>
          <p:cNvSpPr/>
          <p:nvPr/>
        </p:nvSpPr>
        <p:spPr>
          <a:xfrm>
            <a:off x="468360" y="4707000"/>
            <a:ext cx="6048360" cy="9464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Отчет по Форме № 62 заполняют все медицинские организации вне зависимости от продолжительности периода (месяц, квартал и т.п.) осуществления деятельности в сфере ОМС в отчетном го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14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100944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Порядок сдачи отчетов медицинскими организациям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44A1-0432-4515-A666-12D6061B6842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2"/>
          <p:cNvSpPr/>
          <p:nvPr/>
        </p:nvSpPr>
        <p:spPr>
          <a:xfrm>
            <a:off x="179280" y="1125360"/>
            <a:ext cx="8785440" cy="57492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8"/>
          <p:cNvSpPr/>
          <p:nvPr/>
        </p:nvSpPr>
        <p:spPr>
          <a:xfrm>
            <a:off x="324000" y="1125360"/>
            <a:ext cx="856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дицинские организации, участвующие в реализации тер. программы, в том числе тер. программы ОМ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68360" y="1747800"/>
          <a:ext cx="7993080" cy="3697200"/>
        </p:xfrm>
        <a:graphic>
          <a:graphicData uri="http://schemas.openxmlformats.org/drawingml/2006/table">
            <a:tbl>
              <a:tblPr/>
              <a:tblGrid>
                <a:gridCol w="4753080"/>
                <a:gridCol w="1438200"/>
                <a:gridCol w="180180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дицинские орган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ог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аро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</a:tr>
              <a:tr h="36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АУЗ *О «*ОКБ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</a:tr>
              <a:tr h="36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АУЗ *О «ГОРОДСКАЯ ПОЛИКЛИНИКА №4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ГКУ «411 ВГ» МО 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УЗ «УЗЛОВАЯ ПОЛИКЛИНИКА НА СТ.***** ОАО «РЖД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</a:tr>
              <a:tr h="423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ОО «*****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рриториальный фонд обязательного медицинского страхования (****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f0f4e9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е организации, оказывающие медицинские и иные услу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5c249"/>
                      </a:solidFill>
                    </a:lnL>
                    <a:lnR w="5760">
                      <a:solidFill>
                        <a:srgbClr val="a5c249"/>
                      </a:solidFill>
                    </a:lnR>
                    <a:lnT w="5760">
                      <a:solidFill>
                        <a:srgbClr val="a5c249"/>
                      </a:solidFill>
                    </a:lnT>
                    <a:lnB w="5760">
                      <a:solidFill>
                        <a:srgbClr val="a5c249"/>
                      </a:solidFill>
                    </a:lnB>
                    <a:solidFill>
                      <a:srgbClr val="e1e9cf"/>
                    </a:solidFill>
                  </a:tcPr>
                </a:tc>
              </a:tr>
            </a:tbl>
          </a:graphicData>
        </a:graphic>
      </p:graphicFrame>
      <p:sp>
        <p:nvSpPr>
          <p:cNvPr id="140" name="TextBox 13"/>
          <p:cNvSpPr/>
          <p:nvPr/>
        </p:nvSpPr>
        <p:spPr>
          <a:xfrm>
            <a:off x="1042920" y="551664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медицинская организация = 1 пароль/ лог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142" name="Прямая соединительная линия 19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Прямоугольник 20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Прямоугольник 22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6" name="Рисунок 10" descr="logo2.png"/>
            <p:cNvPicPr/>
            <p:nvPr/>
          </p:nvPicPr>
          <p:blipFill>
            <a:blip r:embed="rId2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100944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b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00"/>
                </a:solidFill>
                <a:latin typeface="Calibri"/>
              </a:rPr>
              <a:t>Сроки представления отчетов медицинскими организациями</a:t>
            </a:r>
            <a:br>
              <a:rPr sz="2500"/>
            </a:b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301A-0E6F-4E4A-8854-F90CEB209A05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4"/>
          <p:cNvSpPr/>
          <p:nvPr/>
        </p:nvSpPr>
        <p:spPr>
          <a:xfrm>
            <a:off x="900000" y="0"/>
            <a:ext cx="142884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520" bIns="47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2"/>
          <p:cNvSpPr/>
          <p:nvPr/>
        </p:nvSpPr>
        <p:spPr>
          <a:xfrm>
            <a:off x="108000" y="1125360"/>
            <a:ext cx="8785080" cy="28908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Схема 14" descr=""/>
          <p:cNvPicPr/>
          <p:nvPr/>
        </p:nvPicPr>
        <p:blipFill>
          <a:blip r:embed="rId1"/>
          <a:stretch/>
        </p:blipFill>
        <p:spPr>
          <a:xfrm>
            <a:off x="596880" y="1384200"/>
            <a:ext cx="7804080" cy="4778640"/>
          </a:xfrm>
          <a:prstGeom prst="rect">
            <a:avLst/>
          </a:prstGeom>
          <a:ln w="0">
            <a:noFill/>
          </a:ln>
        </p:spPr>
      </p:pic>
      <p:sp>
        <p:nvSpPr>
          <p:cNvPr id="152" name="TextBox 20"/>
          <p:cNvSpPr/>
          <p:nvPr/>
        </p:nvSpPr>
        <p:spPr>
          <a:xfrm>
            <a:off x="6012000" y="213372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 мар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Выгнутая вправо стрелка 22"/>
          <p:cNvSpPr/>
          <p:nvPr/>
        </p:nvSpPr>
        <p:spPr>
          <a:xfrm>
            <a:off x="7308720" y="1773360"/>
            <a:ext cx="730440" cy="2511360"/>
          </a:xfrm>
          <a:custGeom>
            <a:avLst/>
            <a:gdLst>
              <a:gd name="textAreaLeft" fmla="*/ 97560 w 730440"/>
              <a:gd name="textAreaRight" fmla="*/ 632880 w 730440"/>
              <a:gd name="textAreaTop" fmla="*/ 559440 h 2511360"/>
              <a:gd name="textAreaBottom" fmla="*/ 1860840 h 251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623" stAng="-5400000" swAng="5400000"/>
                <a:lnTo>
                  <a:pt x="21600" y="11193"/>
                </a:lnTo>
                <a:arcTo wR="21600" hR="9623" stAng="0" swAng="3594233"/>
                <a:lnTo>
                  <a:pt x="5400" y="21294"/>
                </a:lnTo>
                <a:lnTo>
                  <a:pt x="0" y="20030"/>
                </a:lnTo>
                <a:lnTo>
                  <a:pt x="5400" y="18154"/>
                </a:lnTo>
                <a:lnTo>
                  <a:pt x="5400" y="18939"/>
                </a:lnTo>
                <a:arcTo wR="21600" hR="9623" stAng="3594233" swAng="-3468934"/>
                <a:lnTo>
                  <a:pt x="21528" y="10408"/>
                </a:lnTo>
                <a:arcTo wR="21600" hR="9623" stAng="-125299" swAng="-5274701"/>
                <a:close/>
              </a:path>
              <a:path fill="darkenLess" w="21600" h="21600">
                <a:moveTo>
                  <a:pt x="0" y="0"/>
                </a:moveTo>
                <a:arcTo wR="21600" hR="9623" stAng="-5400000" swAng="5400000"/>
                <a:lnTo>
                  <a:pt x="21600" y="11193"/>
                </a:lnTo>
                <a:arcTo wR="21600" hR="9623" stAng="0" swAng="-125299"/>
                <a:lnTo>
                  <a:pt x="21528" y="10408"/>
                </a:lnTo>
                <a:arcTo wR="21600" hR="9623" stAng="-125299" swAng="-5274701"/>
                <a:close/>
              </a:path>
            </a:pathLst>
          </a:custGeom>
          <a:solidFill>
            <a:srgbClr val="009dd9"/>
          </a:solidFill>
          <a:ln w="25560">
            <a:solidFill>
              <a:srgbClr val="0072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3"/>
          <p:cNvSpPr/>
          <p:nvPr/>
        </p:nvSpPr>
        <p:spPr>
          <a:xfrm>
            <a:off x="7164360" y="321300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5 ма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5"/>
          <p:cNvSpPr/>
          <p:nvPr/>
        </p:nvSpPr>
        <p:spPr>
          <a:xfrm>
            <a:off x="2050920" y="213372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гласовыв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трелка вниз 32"/>
          <p:cNvSpPr/>
          <p:nvPr/>
        </p:nvSpPr>
        <p:spPr>
          <a:xfrm>
            <a:off x="4356000" y="45813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33"/>
          <p:cNvSpPr/>
          <p:nvPr/>
        </p:nvSpPr>
        <p:spPr>
          <a:xfrm>
            <a:off x="2050920" y="342900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гласовыв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4"/>
          <p:cNvSpPr/>
          <p:nvPr/>
        </p:nvSpPr>
        <p:spPr>
          <a:xfrm>
            <a:off x="5940360" y="479736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5 ма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Двойная стрелка вверх/вниз 1"/>
          <p:cNvSpPr/>
          <p:nvPr/>
        </p:nvSpPr>
        <p:spPr>
          <a:xfrm>
            <a:off x="4284720" y="2060640"/>
            <a:ext cx="287280" cy="574560"/>
          </a:xfrm>
          <a:prstGeom prst="up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Двойная стрелка вверх/вниз 23"/>
          <p:cNvSpPr/>
          <p:nvPr/>
        </p:nvSpPr>
        <p:spPr>
          <a:xfrm>
            <a:off x="4356000" y="3357720"/>
            <a:ext cx="216000" cy="431640"/>
          </a:xfrm>
          <a:prstGeom prst="upDownArrow">
            <a:avLst>
              <a:gd name="adj1" fmla="val 50000"/>
              <a:gd name="adj2" fmla="val 4995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162" name="Прямая соединительная линия 28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Прямоугольник 29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Прямоугольник 30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Рисунок 10" descr="logo2.png"/>
            <p:cNvPicPr/>
            <p:nvPr/>
          </p:nvPicPr>
          <p:blipFill>
            <a:blip r:embed="rId2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Рисунок 13" descr="original_558262258e97b6c11e8b456c_5837d6a2532bb.jpg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68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BC86-CC10-4AEE-8C8E-67BDDBA8CA52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15"/>
          <p:cNvSpPr/>
          <p:nvPr/>
        </p:nvSpPr>
        <p:spPr>
          <a:xfrm>
            <a:off x="1332000" y="4762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несение изменений в Форму № 62 за 2019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11"/>
          <p:cNvSpPr/>
          <p:nvPr/>
        </p:nvSpPr>
        <p:spPr>
          <a:xfrm>
            <a:off x="1187280" y="1272240"/>
            <a:ext cx="47530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4617b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дел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Медицинские организации по типам, организационно-правовым формам и формам собствен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2"/>
          <p:cNvSpPr/>
          <p:nvPr/>
        </p:nvSpPr>
        <p:spPr>
          <a:xfrm>
            <a:off x="539640" y="2997360"/>
            <a:ext cx="5904000" cy="13726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1221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Количество организованных центров амбулаторной онкологической помощи, всего _________________ (ед.) (1), в том числе в медицинских организациях государственной (муниципальной) системы здравоохранения __________________ (ед.) (2), в медицинских организациях частной системы здравоохранения __________________ (ед.) (3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Рисунок 13" descr="med_ban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Группа 23"/>
          <p:cNvGrpSpPr/>
          <p:nvPr/>
        </p:nvGrpSpPr>
        <p:grpSpPr>
          <a:xfrm>
            <a:off x="250920" y="6237360"/>
            <a:ext cx="8424720" cy="620640"/>
            <a:chOff x="250920" y="6237360"/>
            <a:chExt cx="8424720" cy="620640"/>
          </a:xfrm>
        </p:grpSpPr>
        <p:sp>
          <p:nvSpPr>
            <p:cNvPr id="174" name="Прямоугольник 24"/>
            <p:cNvSpPr/>
            <p:nvPr/>
          </p:nvSpPr>
          <p:spPr>
            <a:xfrm>
              <a:off x="3490920" y="6251400"/>
              <a:ext cx="5083200" cy="60660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Прямая соединительная линия 23"/>
            <p:cNvSpPr/>
            <p:nvPr/>
          </p:nvSpPr>
          <p:spPr>
            <a:xfrm flipH="1">
              <a:off x="250920" y="6251400"/>
              <a:ext cx="1440" cy="606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Прямоугольник 25"/>
            <p:cNvSpPr/>
            <p:nvPr/>
          </p:nvSpPr>
          <p:spPr>
            <a:xfrm>
              <a:off x="8574120" y="6251400"/>
              <a:ext cx="101520" cy="606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Подзаголовок 2"/>
            <p:cNvSpPr/>
            <p:nvPr/>
          </p:nvSpPr>
          <p:spPr>
            <a:xfrm>
              <a:off x="1235880" y="6353280"/>
              <a:ext cx="235872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rmAutofit fontScale="93000"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ru-RU" sz="900" spc="-1" strike="noStrike">
                  <a:solidFill>
                    <a:srgbClr val="a50021"/>
                  </a:solidFill>
                  <a:latin typeface="Helios"/>
                </a:rPr>
                <a:t>МИНИСТЕРСТВО ЗДРАВООХРАНЕНИЯ РОССИЙСКОЙ ФЕДЕ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8" name="Рисунок 10" descr="logo2.png"/>
            <p:cNvPicPr/>
            <p:nvPr/>
          </p:nvPicPr>
          <p:blipFill>
            <a:blip r:embed="rId2"/>
            <a:stretch/>
          </p:blipFill>
          <p:spPr>
            <a:xfrm>
              <a:off x="415800" y="6237360"/>
              <a:ext cx="767880" cy="62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576360"/>
          </a:xfrm>
          <a:prstGeom prst="rect">
            <a:avLst/>
          </a:prstGeom>
          <a:solidFill>
            <a:srgbClr val="0f6fc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0" rIns="0" bIns="0" anchor="ctr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Внесение изменений в Форму № 62 за 2019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09F1-34F1-4271-B097-CC1718B8121C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2"/>
          <p:cNvSpPr/>
          <p:nvPr/>
        </p:nvSpPr>
        <p:spPr>
          <a:xfrm>
            <a:off x="0" y="549360"/>
            <a:ext cx="9144000" cy="358560"/>
          </a:xfrm>
          <a:prstGeom prst="rect">
            <a:avLst/>
          </a:prstGeom>
          <a:gradFill rotWithShape="0">
            <a:gsLst>
              <a:gs pos="0">
                <a:srgbClr val="ffffff">
                  <a:alpha val="87058"/>
                </a:srgbClr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"/>
          <p:cNvSpPr/>
          <p:nvPr/>
        </p:nvSpPr>
        <p:spPr>
          <a:xfrm>
            <a:off x="108000" y="446400"/>
            <a:ext cx="8785080" cy="520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bf5f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Times New Roman"/>
              </a:rPr>
              <a:t>Раздел </a:t>
            </a:r>
            <a:r>
              <a:rPr b="1" lang="en-US" sz="1400" spc="-1" strike="noStrike">
                <a:solidFill>
                  <a:srgbClr val="c00000"/>
                </a:solidFill>
                <a:latin typeface="Arial"/>
                <a:ea typeface="Times New Roman"/>
              </a:rPr>
              <a:t>II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Times New Roman"/>
              </a:rPr>
              <a:t>. Формирование и выполнение территориальной программы государственных гарантий бесплатного оказания гражданам медицинской помощ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Таблица 15" descr=""/>
          <p:cNvPicPr/>
          <p:nvPr/>
        </p:nvPicPr>
        <p:blipFill>
          <a:blip r:embed="rId3"/>
          <a:stretch/>
        </p:blipFill>
        <p:spPr>
          <a:xfrm>
            <a:off x="30240" y="865080"/>
            <a:ext cx="4614840" cy="5614920"/>
          </a:xfrm>
          <a:prstGeom prst="rect">
            <a:avLst/>
          </a:prstGeom>
          <a:ln w="0">
            <a:noFill/>
          </a:ln>
        </p:spPr>
      </p:pic>
      <p:pic>
        <p:nvPicPr>
          <p:cNvPr id="184" name="Таблица 19" descr=""/>
          <p:cNvPicPr/>
          <p:nvPr/>
        </p:nvPicPr>
        <p:blipFill>
          <a:blip r:embed="rId4"/>
          <a:stretch/>
        </p:blipFill>
        <p:spPr>
          <a:xfrm>
            <a:off x="4711680" y="847800"/>
            <a:ext cx="432900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аббасова Ляля Адыгамовна</dc:creator>
  <dc:description/>
  <dc:language>en-US</dc:language>
  <cp:lastModifiedBy>Титова Ирина Анатольевна</cp:lastModifiedBy>
  <cp:lastPrinted>2019-10-09T16:31:33Z</cp:lastPrinted>
  <dcterms:modified xsi:type="dcterms:W3CDTF">2019-10-10T08:43:28Z</dcterms:modified>
  <cp:revision>1156</cp:revision>
  <dc:subject/>
  <dc:title>Слайд 1</dc:title>
</cp:coreProperties>
</file>