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ED73-6752-4738-9835-E7FEB6A2D1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14BE-FFCF-4994-9517-A6262CE1BD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7804-8BD7-4263-861F-E6DE085755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7E62-F0D7-428D-971A-04C4E0EE28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93C-E5D7-450D-8452-2F0673F3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4B0-DA6C-4F84-9A51-20E50372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3C8-F563-496C-B80B-5BC611AB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E97-1C39-41E2-BF20-D22457A6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5B00-DA1E-4CB5-8375-193DF154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2C4D-A261-4E60-8BC8-203C532F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8C96-D53C-49D7-97DE-E7867144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1B27-4C31-4129-BFC1-8B5E56FF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CF68-3232-4F8E-BBB2-BF0F909E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E080-7499-47C9-8BB8-DC68746D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4100-7C6A-469A-A87F-B6B4D2D4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0F0-2E9D-4BC0-81AA-E07497A7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1204-A9C4-4B56-B83A-0E8AFE8E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8EB8-5F75-46DB-9E58-6DB4409D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7DA7-3097-4727-BCBD-4DE3A91B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8AD4-5491-4458-B715-6A5D961F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AA57-BFB3-41AD-91DE-7BD1D649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EC3-1D62-4BAE-909D-8F22C906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A4F-33AC-4726-923E-71C01DF9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08D-AEDF-4F35-8C41-4C3A8DFF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C51-343D-40CA-8FB7-26B58D2E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A9B-1D40-478A-9BC1-2CEB0AA6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E05-6B6D-4DEE-AF70-44642079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B5F-C423-405C-A796-DDC3AE0E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D89D-BE9F-4406-A8AE-01385D4CA05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BAF4-C392-47CA-AB1A-D3989697B4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D3EF-8545-4EDD-AB41-D62757600EB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8D7A-2FCE-4CCD-99FA-54C306431A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9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476360" y="27813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шибки при формировании формы ФС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 «Сведения о деятельности подразделений медицинской организации, оказывающих медицинскую помощь в стационарных услов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769D-7D09-4627-B983-9AB6C2078C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6560" y="96840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880"/>
                <a:gridCol w="466560"/>
                <a:gridCol w="647640"/>
                <a:gridCol w="531720"/>
                <a:gridCol w="598680"/>
                <a:gridCol w="600120"/>
                <a:gridCol w="522360"/>
                <a:gridCol w="52200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рямоугольник 7"/>
          <p:cNvSpPr/>
          <p:nvPr/>
        </p:nvSpPr>
        <p:spPr>
          <a:xfrm>
            <a:off x="646200" y="4869000"/>
            <a:ext cx="79912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равна сумме строк (10.7.1+10.7.2+10.7.3+ 10.7.4+ 10.7.5+10.7.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о графам 4-7, 13-16 и 22-27:      14,2000,107,04:07.13:16.22:27=14,2000,380+381+333╧336,04:07.13:16.22:27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больше или равна сумме строк (10.7.1+10.7.2+10.7.3+ 10.7.4+ 10.7.5+10.7.6) по графам 8-12, 17-21 и 28-33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14,2000,107,08:12.17:21.28:33&gt;=14,2000,380+381+333╧336,08:12.17:21.28:33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6560" y="2860560"/>
          <a:ext cx="8229600" cy="1900440"/>
        </p:xfrm>
        <a:graphic>
          <a:graphicData uri="http://schemas.openxmlformats.org/drawingml/2006/table">
            <a:tbl>
              <a:tblPr/>
              <a:tblGrid>
                <a:gridCol w="2505240"/>
                <a:gridCol w="449280"/>
                <a:gridCol w="646200"/>
                <a:gridCol w="576000"/>
                <a:gridCol w="576360"/>
                <a:gridCol w="576360"/>
                <a:gridCol w="576360"/>
                <a:gridCol w="503280"/>
                <a:gridCol w="471240"/>
                <a:gridCol w="405000"/>
                <a:gridCol w="495360"/>
                <a:gridCol w="448920"/>
              </a:tblGrid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60-I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арахноидальное кровоизлия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овое и другое внутричерепно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излияни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1, I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ный, как кровоизлияние  или инфар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прецеребральных, церебральных артерий, не приводящ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фаркту мозг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5- I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7240" rIns="57240" tIns="0" bIns="0" anchor="t">
                      <a:noAutofit/>
                    </a:bodyPr>
                    <a:p>
                      <a:pPr marL="44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ребральный атер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EB72-B238-43D7-8B55-8FD3E0427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68200" y="3065400"/>
          <a:ext cx="8229600" cy="1692360"/>
        </p:xfrm>
        <a:graphic>
          <a:graphicData uri="http://schemas.openxmlformats.org/drawingml/2006/table">
            <a:tbl>
              <a:tblPr/>
              <a:tblGrid>
                <a:gridCol w="1639800"/>
                <a:gridCol w="50328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432000"/>
                <a:gridCol w="433080"/>
                <a:gridCol w="358920"/>
                <a:gridCol w="409680"/>
                <a:gridCol w="420480"/>
              </a:tblGrid>
              <a:tr h="456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е болезни миндалин и аденоидов, перитонзиллярный абсце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35-J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1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11"/>
          <p:cNvSpPr/>
          <p:nvPr/>
        </p:nvSpPr>
        <p:spPr>
          <a:xfrm>
            <a:off x="838080" y="4941720"/>
            <a:ext cx="7848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117-119 по графам 25 и 27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17:119,25.27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CD1D-6503-410D-B50E-2AC2D92883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62080" y="3032280"/>
          <a:ext cx="8215200" cy="274320"/>
        </p:xfrm>
        <a:graphic>
          <a:graphicData uri="http://schemas.openxmlformats.org/drawingml/2006/table">
            <a:tbl>
              <a:tblPr/>
              <a:tblGrid>
                <a:gridCol w="1693800"/>
                <a:gridCol w="449280"/>
                <a:gridCol w="576000"/>
                <a:gridCol w="576360"/>
                <a:gridCol w="576360"/>
                <a:gridCol w="503280"/>
                <a:gridCol w="504720"/>
                <a:gridCol w="503280"/>
                <a:gridCol w="433440"/>
                <a:gridCol w="365040"/>
                <a:gridCol w="361800"/>
                <a:gridCol w="417600"/>
                <a:gridCol w="417600"/>
                <a:gridCol w="41760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72880" y="3429000"/>
          <a:ext cx="8229600" cy="549360"/>
        </p:xfrm>
        <a:graphic>
          <a:graphicData uri="http://schemas.openxmlformats.org/drawingml/2006/table">
            <a:tbl>
              <a:tblPr/>
              <a:tblGrid>
                <a:gridCol w="1697040"/>
                <a:gridCol w="44136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385920"/>
                <a:gridCol w="417240"/>
                <a:gridCol w="417600"/>
                <a:gridCol w="41904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t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35" name="Прямоугольник 3"/>
          <p:cNvSpPr/>
          <p:nvPr/>
        </p:nvSpPr>
        <p:spPr>
          <a:xfrm>
            <a:off x="495360" y="4292640"/>
            <a:ext cx="7775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5.9, 5.10, 15.10, 15.11, 16.0 по графам 25, 27 и 33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59.510.364.365.160,25.27.33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D79D-D820-4499-84CE-CE5B2C266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ошибки при заполнении таблицы 2000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</a:t>
            </a:r>
            <a:r>
              <a:rPr b="1" lang="ru-RU" sz="2400" spc="-1" strike="noStrike">
                <a:solidFill>
                  <a:srgbClr val="75213f"/>
                </a:solidFill>
                <a:latin typeface="Arial"/>
                <a:ea typeface="Arial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заболеваний по каждой строке в таблице между графами, а также между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чих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болеваний по каждому классу болезней между графами, а также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корректное число проведенных выписанными пациентами койко-дней. Средний койко-день не может бы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не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разделе В.Дети (в возрасте 0-17 лет включительно)     типичные ошибки связаны с графами 25 (выписано детей до 1 года) и 27 (проведено койко-дней в возрасте до 1 го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5E9F-0FA7-4E17-8516-117210491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9640" y="836640"/>
          <a:ext cx="8353440" cy="4808520"/>
        </p:xfrm>
        <a:graphic>
          <a:graphicData uri="http://schemas.openxmlformats.org/drawingml/2006/table">
            <a:tbl>
              <a:tblPr/>
              <a:tblGrid>
                <a:gridCol w="1305000"/>
                <a:gridCol w="782640"/>
                <a:gridCol w="995400"/>
                <a:gridCol w="1020600"/>
                <a:gridCol w="993960"/>
                <a:gridCol w="1068480"/>
                <a:gridCol w="1035000"/>
                <a:gridCol w="1152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кстрапирамидные и др.двиг. нару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них б-нь Паркинс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р.экстрапирамид. двиг.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9800">
                <a:tc>
                  <a:txBody>
                    <a:bodyPr lIns="25704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25704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-7.3.1-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66B3-A97E-4A92-B114-26D8063333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1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33 5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 8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 7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534 6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2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8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8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 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0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 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 8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 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17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9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 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0 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 8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 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764 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 7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2B84-101D-4FAB-8E16-5C4549F5AA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2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 Взрослые старше трудоспособно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 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857 7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9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9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9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2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8 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3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 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3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64 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8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 7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 8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 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7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 5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245D-CEE2-4D91-9F1A-648A5D6DED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3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 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6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4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76 8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6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 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7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86 8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BD82-191E-4737-BFFE-5B2988A569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3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907920"/>
          <a:ext cx="8229600" cy="54784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из 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25704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зни вен, лимфатич. сосудов и лимфатич. уз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980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флебит и тромбофлеб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мбоз портальной в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484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козное расширение вен нижних конеч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D6FF-1509-437C-A776-2F85FD553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4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907920"/>
          <a:ext cx="8229600" cy="51181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613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2200">
                <a:tc>
                  <a:txBody>
                    <a:bodyPr lIns="25704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нфекционный энтерит и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5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К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731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венный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9E42-773D-4621-9553-97402C9ECB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8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476360" y="18446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619280" y="227664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за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т 19 ноября 2018 г. № 6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F0D4-0EB8-4299-A7DA-933E4990C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5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765000"/>
          <a:ext cx="7848720" cy="541980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8233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31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7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B628-C251-4A87-9DA1-76459EADA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7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5640" y="765000"/>
          <a:ext cx="7848720" cy="551052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9151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(Взрослые трудоспособного возрас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49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6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664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1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DDA4-6D25-4554-BF12-C228EFA05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</a:t>
            </a:r>
            <a:br>
              <a:rPr sz="24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Таблица 3000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НОВОРОЖДЕННЫХ С ЗАБОЛЕВАНИЯМИ, ПОСТУПИВШИХ В ВОЗРАСТЕ 0-6 ДНЕЙ ЖИЗНИ, И ИСХОДЫ ИХ ЛЕЧЕНИЯ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268280"/>
          <a:ext cx="8229600" cy="4896000"/>
        </p:xfrm>
        <a:graphic>
          <a:graphicData uri="http://schemas.openxmlformats.org/drawingml/2006/table">
            <a:tbl>
              <a:tblPr/>
              <a:tblGrid>
                <a:gridCol w="2259000"/>
                <a:gridCol w="365040"/>
                <a:gridCol w="585720"/>
                <a:gridCol w="871560"/>
                <a:gridCol w="871560"/>
                <a:gridCol w="871560"/>
                <a:gridCol w="801720"/>
                <a:gridCol w="801720"/>
                <a:gridCol w="801720"/>
              </a:tblGrid>
              <a:tr h="106920"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й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пересмотр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до 1000 г (500-999г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1000 г и боле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новорожденных с заболевания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 заболеваниями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респираторные инфекции верхних дыхательных путей, грип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06, J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J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2-J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 кожи и подкожной клетчат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дленный  рост и недостаточность пит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ая травм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-P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разрыв внутричерепных тка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овоизлияние вследствие родовой трав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ые нарушения, характерные для перинатального периода - всег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-P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утробная гипоксия, асфиксия при род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,P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ое расстройство у новорожденных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ая пневмони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ые аспирационные синдро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болезни, специфичные дл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ого период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5-P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1600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актериальный сепсис новорожденн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литическая болезнь плода и новорожденного, водянка плода, обусловленная гемолитической болезнью; ядерная желтух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5-P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ая желтуха, обусловленная чрезмерным гемолизом, другими и неуточненными причинами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8-P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ррагическая болезнь, диссеминированное внутрисосудистое свертывание у плода и новорожденного, другие перинатальные гематологически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3,P60,P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болезн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3262-EE68-4440-A9DA-BA76D8D81F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2133720"/>
            <a:ext cx="7777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Основная ошибка при заполнении данной таблицы – учет детей, выписанных и умерших в родовспомогательных учреждениях (родильных домах и перинатальных цент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A138-793C-4481-8CCD-6216C4108A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682560" y="140328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ходящие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в состав родовспомогательных учреждений (роддомов, перинатальных цент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б  этих новорожденных показывают в таблицах 2000 и 22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а заполняется только теми медицинскими организациями, в которые переводились новорожденные указанного возраста из других ЛПУ и в данной организации есть койки для выхаживания недоношенных и патологии новорожденн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79B7-3A96-44AE-AD09-2FA375C0B4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457200" y="836640"/>
            <a:ext cx="81471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1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 В составе многопрофильного стационара имеются родильные отделения (койки для беременных и рожениц) и отделения для новорожденных (койки патологии новорожденных и недоношенных детей). На эти койки поступают больные новорожденные в пределах своего юридического лица (т.е. внутренние переводы из родильного отделения на койки патологии новорожденных), а также больные новорожденные из других медицинских организац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переведенным новорожденным в пределах своего юр.лица (внутренние переводы) т.3000  не заполнять, заполняют т.2000 и форму 32. А в случае смерти новорожденных - т.2200. Т.3000 заполнять только переведенным из других ЛПУ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2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Медицинская организация имеет в своем составе койки для новорожденны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Заполнять в том случае, если в этой МО нет родильных отделений и на эти койки новорожденных поступают больные новорожденные из родильных отделений других ЛП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3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В МО оказывается специализированная помощь новорожденным, в составе которой имеются педиатрические койки соответствующего профиля, реанимационные койки для новорожденных и койки интенсивной терапии для новорожденны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.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аналогичен ответу на 2-й вопро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Форма №14 Таблица 4000</a:t>
            </a:r>
            <a:br>
              <a:rPr sz="2400"/>
            </a:b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3. Хирургическая работа стациона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765000" y="1197000"/>
            <a:ext cx="7921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таблицу включаются сведения о всех выполненных операциях (плановых и экстренных), проведенных в лечебном учреждении, независимо от того, в каком отделении была проведе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ри проведении нескольких операций  одному и тому же пациенту в таблице показываются все операции, независимо от того, одномоментно или в разные сроки были произведены эти операц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Операция, произведенная в несколько этапов в течение одной госпитализации, учитывается как од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графе «умерло оперированных в стационаре» указывается число умерших оперированных пациентов, независимо от причины смерти: заболевание, по поводу которого была произведена операция, осложнение, связанное с операцией или другие заболе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ложной и радикальной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2F41-7A84-42EB-BCC9-6FA64BADC8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14, 4000, 1, 03:28 = 14, 4000, 2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╧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20 + 42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Отсутствие дубл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Расшифровка «прочих» операций, не вошедших в предлагаемый  переч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28 - указывается число направленных материалов на морфологическое исследовани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числу операций 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(Приказ МЗ РФ от 24 марта 2016 г. №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 должно быть цифр  в «закрещенных» клет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18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0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2D76-8D25-4C5D-89F5-91DB72ADFE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0472"/>
                </a:solidFill>
                <a:latin typeface="Calibri"/>
              </a:rPr>
              <a:t>Пример 8. Таблица 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8360" y="981000"/>
          <a:ext cx="8148600" cy="5684760"/>
        </p:xfrm>
        <a:graphic>
          <a:graphicData uri="http://schemas.openxmlformats.org/drawingml/2006/table">
            <a:tbl>
              <a:tblPr/>
              <a:tblGrid>
                <a:gridCol w="2016000"/>
                <a:gridCol w="874800"/>
                <a:gridCol w="1314360"/>
                <a:gridCol w="1314360"/>
                <a:gridCol w="1314720"/>
                <a:gridCol w="131436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сосудистых пороках моз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аневризм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эндоваскулярное вы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67B2-F4BB-4C72-BB89-58FE6DFA5E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3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имер 9. Таблица 4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765000"/>
          <a:ext cx="8640720" cy="5197680"/>
        </p:xfrm>
        <a:graphic>
          <a:graphicData uri="http://schemas.openxmlformats.org/drawingml/2006/table">
            <a:tbl>
              <a:tblPr/>
              <a:tblGrid>
                <a:gridCol w="1931760"/>
                <a:gridCol w="708120"/>
                <a:gridCol w="1200240"/>
                <a:gridCol w="1200240"/>
                <a:gridCol w="1199880"/>
                <a:gridCol w="1200240"/>
                <a:gridCol w="1200240"/>
              </a:tblGrid>
              <a:tr h="36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с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эпилепсии, паркинсонизме, мышечно-тонических расстройст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резекционные и деструктивны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ановка стим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9386-5F1B-495F-A052-9FD094B322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  <a:ea typeface="Arial"/>
              </a:rPr>
              <a:t>     </a:t>
            </a:r>
            <a:r>
              <a:rPr b="1" lang="ru-RU" sz="2800" spc="-1" strike="noStrike">
                <a:solidFill>
                  <a:srgbClr val="0c0472"/>
                </a:solidFill>
                <a:latin typeface="Arial"/>
                <a:ea typeface="Arial"/>
              </a:rPr>
              <a:t>Форму федерального статистического наблюдения №14 составляют и предоставляют юридические лица – медицинские организации, имеющие подразделения, оказывающие медицинскую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01F5-2543-4950-B734-680367DE9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10. Таблица 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4360" y="1341360"/>
          <a:ext cx="7886520" cy="4486320"/>
        </p:xfrm>
        <a:graphic>
          <a:graphicData uri="http://schemas.openxmlformats.org/drawingml/2006/table">
            <a:tbl>
              <a:tblPr/>
              <a:tblGrid>
                <a:gridCol w="1577880"/>
                <a:gridCol w="1576440"/>
                <a:gridCol w="1577880"/>
                <a:gridCol w="1576440"/>
                <a:gridCol w="1577880"/>
              </a:tblGrid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3 направлено материалов на морфл.иссл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сосуд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ерации на артер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ве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операции по строке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CBF4-A135-41B9-9E5F-1ADF65615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1. Таблицы 4000, 40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052640"/>
          <a:ext cx="7975440" cy="5522760"/>
        </p:xfrm>
        <a:graphic>
          <a:graphicData uri="http://schemas.openxmlformats.org/drawingml/2006/table">
            <a:tbl>
              <a:tblPr/>
              <a:tblGrid>
                <a:gridCol w="1008000"/>
                <a:gridCol w="865080"/>
                <a:gridCol w="790920"/>
                <a:gridCol w="1152360"/>
                <a:gridCol w="1152360"/>
                <a:gridCol w="1008360"/>
                <a:gridCol w="863640"/>
                <a:gridCol w="113472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 (Т. 4000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 4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 таб.4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эндоваскулярные диля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со стентир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 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F9B2-ACDC-4B0D-A67B-CE476CBC01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87280" y="1557360"/>
          <a:ext cx="6212160" cy="2286000"/>
        </p:xfrm>
        <a:graphic>
          <a:graphicData uri="http://schemas.openxmlformats.org/drawingml/2006/table">
            <a:tbl>
              <a:tblPr/>
              <a:tblGrid>
                <a:gridCol w="2643480"/>
                <a:gridCol w="758880"/>
                <a:gridCol w="760320"/>
                <a:gridCol w="760320"/>
                <a:gridCol w="1289160"/>
              </a:tblGrid>
              <a:tr h="152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, е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DAAF-B473-41CB-98AA-7799EDBA3B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3960" y="1773360"/>
          <a:ext cx="8229600" cy="33526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990720"/>
                <a:gridCol w="685800"/>
                <a:gridCol w="799920"/>
                <a:gridCol w="723960"/>
                <a:gridCol w="762120"/>
                <a:gridCol w="685800"/>
                <a:gridCol w="1218960"/>
              </a:tblGrid>
              <a:tr h="13708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рансплант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операций (трансплантаций)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пераций,  при которых наблюдалис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ир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ф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всего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ой желе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ой киш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го моз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2-х и более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D7A3-DE9A-4F9D-B075-229E77E26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Данные о пересадке тканей (роговицы, свободного кожного лоскута и т.д.) не вносятся в табл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е не показываются 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строку «прочие органы» вносится информация о пересадке трахеи, верхней конечности и ее фрагментов, нижней конечности и ее конеч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9 необходимо указывать число направленных материалов на морфологическое исследование по числу трансплантаций  (Приказ МЗ РФ от 24 марта 2016 г. № 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обходимо проведение сверки данных таблицы с отраслевой формой №63 – должно быть строгое соотве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35E4-AFAA-4DB7-B1C7-FA27AEEDFD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шибки, связанные с некорректным кодированием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2B49-7E83-4491-906F-F8F16C191C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Кодирование ишемических болезней сердц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енокардия не может быть  первоначальной причиной смерти пациент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Пациент поступает с диагнозом: Стенокардия (Нестабильная стенокарди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ыписывается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с диагнозом: Стенокардия (Нестабильная стенокардия) строка 10.4.1 или 10.4.1.1 графа 4 (13, 2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В случае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смерти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 больного, поступившего с диагнозом Стенокардия (Нестабильная стенокардия) используется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код </a:t>
            </a:r>
            <a:r>
              <a:rPr b="1" lang="en-US" sz="2000" spc="-1" strike="noStrike">
                <a:solidFill>
                  <a:srgbClr val="0c0472"/>
                </a:solidFill>
                <a:latin typeface="Calibri"/>
              </a:rPr>
              <a:t>I25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–Хроническая ишемическая болезнь сердца - строка 10.4.5, графа 8 (17, 2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93D5-61B2-4174-AD41-2544A7C625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116000" y="1484280"/>
            <a:ext cx="75596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ого или повторного инфаркта миокарда следует помнить, что не все случаи инфарктов миокарда кодируются  I21-I2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ого или повторн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ы миокарда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й или повторный инфаркт миокарда (коды I21-I22) в промежуток времени до 28 дней или в пределах эпизода оказания медицинской помощи (даже, если эпизод закончился позже 28 дней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(МКБ-10, т. 1, ч. 1, стр. 49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8E0A-710E-4824-B87A-064BBF62F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1116000" y="1484280"/>
            <a:ext cx="75596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 I25.2 в качестве первоначальной причины смерти не применяется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23 и I24.0 в качестве первоначальной причины смерти также не применяются, необходимо использовать коды I21-I22 (МКБ-10, т. 2, стр. 6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 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4668-7F2D-440A-BE11-BF5981AA6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хема 1" descr=""/>
          <p:cNvPicPr/>
          <p:nvPr/>
        </p:nvPicPr>
        <p:blipFill>
          <a:blip r:embed="rId1"/>
          <a:stretch/>
        </p:blipFill>
        <p:spPr>
          <a:xfrm>
            <a:off x="785880" y="390600"/>
            <a:ext cx="7572240" cy="5645160"/>
          </a:xfrm>
          <a:prstGeom prst="rect">
            <a:avLst/>
          </a:prstGeom>
          <a:ln w="0">
            <a:noFill/>
          </a:ln>
        </p:spPr>
      </p:pic>
      <p:sp>
        <p:nvSpPr>
          <p:cNvPr id="2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E5C9-4F2F-41D2-9C57-6E666FF6CF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Источники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при составлении формы №14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3413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66/у-02 «Статистическая карта выбывшего из стационара круглосуточного пребы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16/у-02 «Ведомость учета движения пациентов и коечного фонда стациона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01 «Журнал учета приема больных и отказов в госпитал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003/у «Медицинская карта стационарного больног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2439-E61A-4917-A9C8-A880F334FB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 на такое нарушение, когда в акушерско-гинекологической практике сепсис регистрируется не как осложнение аборта, беременности, родов и послеродового периода, а как криптогенное заболе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0B9E-8070-4456-8D90-395D92E5E6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68360" y="1413000"/>
          <a:ext cx="8229600" cy="4349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сепсиса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ы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3C81-8DBD-4A24-AE77-6CA540C6E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3434-53D6-4B0C-8804-2EF954CD80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6920" y="1628640"/>
          <a:ext cx="7129800" cy="4489560"/>
        </p:xfrm>
        <a:graphic>
          <a:graphicData uri="http://schemas.openxmlformats.org/drawingml/2006/table">
            <a:tbl>
              <a:tblPr/>
              <a:tblGrid>
                <a:gridCol w="828720"/>
                <a:gridCol w="1835280"/>
                <a:gridCol w="1873080"/>
                <a:gridCol w="2592720"/>
              </a:tblGrid>
              <a:tr h="542880">
                <a:tc rowSpan="2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579C-3276-47D6-AF86-BE4E919CB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8"/>
          <p:cNvSpPr/>
          <p:nvPr/>
        </p:nvSpPr>
        <p:spPr>
          <a:xfrm>
            <a:off x="1547640" y="260280"/>
            <a:ext cx="698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26920" y="1197000"/>
          <a:ext cx="7797960" cy="4236840"/>
        </p:xfrm>
        <a:graphic>
          <a:graphicData uri="http://schemas.openxmlformats.org/drawingml/2006/table">
            <a:tbl>
              <a:tblPr/>
              <a:tblGrid>
                <a:gridCol w="1559160"/>
                <a:gridCol w="1560600"/>
                <a:gridCol w="1558800"/>
                <a:gridCol w="1560600"/>
                <a:gridCol w="1558800"/>
              </a:tblGrid>
              <a:tr h="304920"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9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050F-E51D-4732-BE44-885589D97C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ятельность стационаров Российской Федераци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ИМПТО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900000" y="1557360"/>
            <a:ext cx="76327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ациенты с симптомами заболевания госпитализируются для уточнения диагноза.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диагноз заболевания не уточнен, эти случаи госпитализации следует рассматривать как обследование и должны регистрироваться в строке 21.0 «Факторы, влияющие на состояние здоровья и обращения в учреждения здравоохран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случай летального исхода по классу 18 МКБ-10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(симптомы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се случаи выписки пациентов с диагнозом по классу 18 МКБ-10 (симптомы) должны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тверждены письменно с указанием кода и пояснением причины использования данного 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604A-ED4C-4781-AF0A-ABDC736D5B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рость – первоначальная причина смер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684360" y="1125360"/>
            <a:ext cx="81356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Термин «старость» относится к неточно обозначенным состояниям (в соответствии с правилом А модификации выбранной причины смерти). </a:t>
            </a:r>
            <a:br>
              <a:rPr sz="1800"/>
            </a:b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тарость не может быть выбрана в качестве первоначальной причины смерти при наличии любого состояния, классифицированного в других рубриках (МКБ-10, том 2, стр. 46-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ми использ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4 «Старость» в качестве первоначальной причины смерт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старше 80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в медицинской документации указаний на хронические заболевания, травмы и их последствия, способные вызвать смер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подозрений на насильственную 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проведении патологоанатомического или судебно-медицинского вскрытия  умершего в возрасте старше 80 лет отсутствие патологических изменений в органах и тканях невозможно. После проведения вскрытия с учетом гистологических данных, должны быть определены конкретные причины, приведшие к смерти, что исключает использования термина «Старос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C30C-AAD4-4677-A7E6-9EB11A9833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Состоя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Сепс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Почечная недоста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Ожи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3866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ждый случай летального исхода при использовании этих осложнений в качестве причины смерти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E4E9-EB23-4C18-ACD7-2F2FB04430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Необходимо представить подтверждения на следующие случаи смер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672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Сепсис (А40-41, строка 2.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Анемии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D50-D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4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жирение (Е66, строка 5.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F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-F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9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рипп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9-J11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2 )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0-J06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G9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7.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еморрой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 (K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2.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F422-59BA-481F-8F82-F34C938544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ОЖИРЕНИЯ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413000"/>
          <a:ext cx="8229600" cy="4714920"/>
        </p:xfrm>
        <a:graphic>
          <a:graphicData uri="http://schemas.openxmlformats.org/drawingml/2006/table">
            <a:tbl>
              <a:tblPr/>
              <a:tblGrid>
                <a:gridCol w="2057400"/>
                <a:gridCol w="1254240"/>
                <a:gridCol w="803160"/>
                <a:gridCol w="1212840"/>
                <a:gridCol w="844560"/>
                <a:gridCol w="1171440"/>
                <a:gridCol w="885960"/>
              </a:tblGrid>
              <a:tr h="37152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 ожирения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B681-9641-4F76-AC52-FABF27B83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принципы форм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Использование МКБ -10 пересмо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Заключительный клинический диагн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основное заболе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первоначальная причина смер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6,10.6.7, 10.6.8 и 10.6.9 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рдно-желудочковая (атриовентрикулярная) блок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удочковая тахикардия, фибрилляция и трепетание предсердий, синдром слабости синусового узла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]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являются осложнением «основного заболевания», они в Форму не включают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C933-028D-41C7-9C9C-667839773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684360" y="1341360"/>
            <a:ext cx="799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нфекционных и паразитарных болезней (рубрики охватывают все инфекционные и паразитарные болезни) В90-В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недостаточности питания и недостатка других питательных веществ Е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збыточности питания Е6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спалительных болезней центральной нервной системы G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цереброваскулярных болезней I6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Смерть матери от последствий прямых акушерских причин O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здействия внешних причин заболеваемости и смертности Y85-Y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576360" y="3459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РУБРИКИ ПОСЛЕДСТВИЙ МКБ-10, ПРЕДНАЗНАЧЕННЫЕ ДЛЯ КОДИРОВАНИЯ ТОЛЬКО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4C27-6406-4BAD-A5DB-EBF36FE5A4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1116000" y="1484280"/>
            <a:ext cx="7559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(рубрика I69) используются только для регистрации летальных исх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существую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течение года и более с момента возникновения острой формы заболева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DBF2-EC2A-4250-8823-191983C487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1116000" y="1484280"/>
            <a:ext cx="755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елах эпизода оказания медицинской помощи, если диагноз эпизода или госпитализации; установлен до 30 дней от начала заболевания, то 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одно из состояний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эпизод оказания медицинской помощи начался позже 30 дней, то регистрируют 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состояния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последств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29D4-6D3E-4608-9043-ABE089CDD2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187280" y="345960"/>
            <a:ext cx="73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116000" y="148428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684360" y="1125360"/>
            <a:ext cx="8135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0-I6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последствия 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8F08-8FBC-44E8-8906-5AEBA721A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хема 1" descr=""/>
          <p:cNvPicPr/>
          <p:nvPr/>
        </p:nvPicPr>
        <p:blipFill>
          <a:blip r:embed="rId1"/>
          <a:stretch/>
        </p:blipFill>
        <p:spPr>
          <a:xfrm>
            <a:off x="957240" y="182520"/>
            <a:ext cx="7589880" cy="5627880"/>
          </a:xfrm>
          <a:prstGeom prst="rect">
            <a:avLst/>
          </a:prstGeom>
          <a:ln w="0">
            <a:noFill/>
          </a:ln>
        </p:spPr>
      </p:pic>
      <p:sp>
        <p:nvSpPr>
          <p:cNvPr id="2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7E58-7369-48C0-AE2D-FA02A151DD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628640"/>
            <a:ext cx="806292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В последние годы в связи с реализацией  Федеральных нацпроектов и проведением мониторинга мероприятий по снижению смертности от 7 нозологий в Российской Федерации наблюдается тенденция к росту смертности по классам болезней и нозологиям, по которым наблюдение не осуществляется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При наличии достаточно высокого числа летальных исходов по данным классам болезней и нозологиям следует предоставить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список первоначальных причин смерти с кодами по МКБ-10 и пояснения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96BF-CB54-4A69-A51D-2DB0B35D6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1116000" y="836640"/>
            <a:ext cx="6840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CE55-ACA1-4E3A-AAA3-1F8EE825D5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266840" y="270828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3CF2-8556-447D-8F04-393A3B9E6D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11280" y="184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включаются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всех выписанных пациентах изо всех стациона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доставленных по экстренным показаниям, в том числе СМ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проведенных койко-дн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б умерших во всех стационар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900000" y="620640"/>
            <a:ext cx="763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712800" y="41529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ся сведения о пациентах, переведенных в другие организации (стацион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переведенных госпитализированных показываются в  таблице 2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4D42-3105-4E2D-B1F2-89B93CBE2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611280" y="184464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 случаях смерти женщин по истечении 42 дней после беременности показываются в форме на общих основа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971640" y="311040"/>
            <a:ext cx="76327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B3AA-B2DF-4659-9F69-9E2134CDCF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" y="3330720"/>
          <a:ext cx="8234280" cy="1536480"/>
        </p:xfrm>
        <a:graphic>
          <a:graphicData uri="http://schemas.openxmlformats.org/drawingml/2006/table">
            <a:tbl>
              <a:tblPr/>
              <a:tblGrid>
                <a:gridCol w="2543040"/>
                <a:gridCol w="454320"/>
                <a:gridCol w="610920"/>
                <a:gridCol w="478080"/>
                <a:gridCol w="609480"/>
                <a:gridCol w="611280"/>
                <a:gridCol w="609480"/>
                <a:gridCol w="455760"/>
                <a:gridCol w="465120"/>
                <a:gridCol w="465120"/>
                <a:gridCol w="466560"/>
                <a:gridCol w="465120"/>
              </a:tblGrid>
              <a:tr h="2077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   кровяным давл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04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сенциальная гипертен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(гипертоническая болезнь с преимущественным поражением сердц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почек (гипертоническая болезнь с преимущественным поражением  почек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и  почек (гипертоническая болезнь с преимущественным поражением сердца и почек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3 равна сумме строк (10.3.1+10.3.2+10.3.3+ 0.3.4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3,04:33=14,2000,313╧316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BB0C-5941-41E5-A8D4-08262BE1E8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4 равна сумме строк (10.4.1+10.4.2+10.4.3+ 10.4.4+ 10.4.5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4,04:33=14,2000,317+319+320+372+373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3314880"/>
          <a:ext cx="8229600" cy="1600200"/>
        </p:xfrm>
        <a:graphic>
          <a:graphicData uri="http://schemas.openxmlformats.org/drawingml/2006/table">
            <a:tbl>
              <a:tblPr/>
              <a:tblGrid>
                <a:gridCol w="2538360"/>
                <a:gridCol w="453960"/>
                <a:gridCol w="611280"/>
                <a:gridCol w="582480"/>
                <a:gridCol w="576360"/>
                <a:gridCol w="576360"/>
                <a:gridCol w="504720"/>
                <a:gridCol w="523800"/>
                <a:gridCol w="465120"/>
                <a:gridCol w="465120"/>
                <a:gridCol w="466920"/>
                <a:gridCol w="46512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шемические болезни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- </a:t>
                      </a: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нестабильная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формы острых ишемических болезней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постинфарктный карди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469D-9B6D-4C1C-97F9-27FE3DFCE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emano</cp:lastModifiedBy>
  <cp:lastPrinted>2018-11-24T15:54:01Z</cp:lastPrinted>
  <dcterms:modified xsi:type="dcterms:W3CDTF">2019-12-01T21:41:00Z</dcterms:modified>
  <cp:revision>659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