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5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5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428A8-1DF5-4C84-9BD3-4DA27340034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ADFBF-8FF3-4F0D-9BBB-11FFDE22E38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A96F7-DAC7-4909-B871-06F6A47FBB0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DE724-6D50-468A-B3F2-4EAF32AAB70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98D7-BF8A-42C5-BA04-B29DA1575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C651-DAB9-4504-BBFC-D0F4D54EF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21A0-1590-4E7A-8FEF-B98745ACB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BAA9-5973-4BA1-9B47-A4287CAA1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C7CA1-4DCD-4D06-B4DA-00F2978AD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019A1-C096-4AD0-995F-5251B6210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DE989-8EFA-44D0-8CB0-742277561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23CAB-C8B9-46C3-8BD2-C7134008E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C0D67-AB7C-4FAB-B666-D95C1D715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315E2-F63F-4240-8B7F-51D1720C0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161BE-F209-4819-9D40-6DC94B91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319C-0240-4D4E-9E7A-53091D91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A27DD-5184-49D3-9518-EE2287F1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6E184-BD7B-4322-BB1B-2A3D2002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4BFF7-2284-4C97-8923-804A420C1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2077B-6974-445D-8128-C86E626AE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79644-CE90-4000-A18F-694162C39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AFAA-9F75-4009-98F5-7FFD0218B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FC0F-3503-4F25-A92C-93A4E7919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324F-D6B9-4BF4-BE34-F3293CD32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8F5F-3144-4220-8DC4-162E2845C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DA4F-4F05-4F75-BD91-F3D53694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4742-BF7D-4B5E-BA24-B12D9A60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1C94-8458-40A2-B3C1-C3DF0847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10084-2F00-40ED-93E6-412B948C47D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937FB-9AFB-49FD-B3D9-C9FDFAE70A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87B89-37F8-4B53-8BC2-9D109E7AA90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37082-927F-404E-9176-A4C3662EC0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hyperlink" Target="mailto:emil@mednet.ru" TargetMode="External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3"/>
          <p:cNvSpPr/>
          <p:nvPr/>
        </p:nvSpPr>
        <p:spPr>
          <a:xfrm>
            <a:off x="3276720" y="6435720"/>
            <a:ext cx="27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  <a:ea typeface="Calibri"/>
              </a:rPr>
              <a:t>Москва 2019 г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5"/>
          <p:cNvSpPr/>
          <p:nvPr/>
        </p:nvSpPr>
        <p:spPr>
          <a:xfrm>
            <a:off x="1476360" y="2781360"/>
            <a:ext cx="640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шибки при формировании формы ФС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№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4 «Сведения о деятельности подразделений медицинской организации, оказывающих медицинскую помощь в стационарных условия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7D82F-68AA-4767-89C7-4BD1EC2E38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45840" y="188640"/>
            <a:ext cx="8040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2000</a:t>
            </a:r>
            <a:br>
              <a:rPr sz="2000"/>
            </a:b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Некоторые условия контро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66560" y="968400"/>
          <a:ext cx="8229600" cy="1782720"/>
        </p:xfrm>
        <a:graphic>
          <a:graphicData uri="http://schemas.openxmlformats.org/drawingml/2006/table">
            <a:tbl>
              <a:tblPr/>
              <a:tblGrid>
                <a:gridCol w="2495880"/>
                <a:gridCol w="466560"/>
                <a:gridCol w="647640"/>
                <a:gridCol w="531720"/>
                <a:gridCol w="598680"/>
                <a:gridCol w="600120"/>
                <a:gridCol w="522360"/>
                <a:gridCol w="522000"/>
                <a:gridCol w="460440"/>
                <a:gridCol w="461880"/>
                <a:gridCol w="460440"/>
                <a:gridCol w="461880"/>
              </a:tblGrid>
              <a:tr h="137520">
                <a:tc row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КБ-10 пересмотр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Взрослые (18 лет и более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 выписан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йко-дн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о- ставлен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х п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тренны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ния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доставлен-н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 помощью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3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-мических вскрыт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-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-дений диагноз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 судебно-медицин-ских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крыт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-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-дений диагноз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Прямоугольник 7"/>
          <p:cNvSpPr/>
          <p:nvPr/>
        </p:nvSpPr>
        <p:spPr>
          <a:xfrm>
            <a:off x="646200" y="4869000"/>
            <a:ext cx="799128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Строка 10.7 равна сумме строк (10.7.1+10.7.2+10.7.3+ 10.7.4+ 10.7.5+10.7.6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по графам 4-7, 13-16 и 22-27:      14,2000,107,04:07.13:16.22:27=14,2000,380+381+333╧336,04:07.13:16.22:27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Строка 10.7 больше или равна сумме строк (10.7.1+10.7.2+10.7.3+ 10.7.4+ 10.7.5+10.7.6) по графам 8-12, 17-21 и 28-33: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14,2000,107,08:12.17:21.28:33&gt;=14,2000,380+381+333╧336,08:12.17:21.28:33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66560" y="2860560"/>
          <a:ext cx="8229600" cy="1900440"/>
        </p:xfrm>
        <a:graphic>
          <a:graphicData uri="http://schemas.openxmlformats.org/drawingml/2006/table">
            <a:tbl>
              <a:tblPr/>
              <a:tblGrid>
                <a:gridCol w="2505240"/>
                <a:gridCol w="449280"/>
                <a:gridCol w="646200"/>
                <a:gridCol w="576000"/>
                <a:gridCol w="576360"/>
                <a:gridCol w="576360"/>
                <a:gridCol w="576360"/>
                <a:gridCol w="503280"/>
                <a:gridCol w="471240"/>
                <a:gridCol w="405000"/>
                <a:gridCol w="495360"/>
                <a:gridCol w="448920"/>
              </a:tblGrid>
              <a:tr h="137520">
                <a:tc>
                  <a:txBody>
                    <a:bodyPr lIns="57240" rIns="5724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цереброваскулярные болез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0.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I60-I6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74680">
                <a:tc>
                  <a:txBody>
                    <a:bodyPr lIns="57240" rIns="572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арахноидальное кровоизлиян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6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7240" rIns="572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утримозговое и другое внутричерепно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воизлияние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61, I6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57240" rIns="572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аркт мозг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6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ульт не уточненный, как кровоизлияние  или инфарк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.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6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упорка и стеноз прецеребральных, церебральных артерий, не приводящ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инфаркту мозг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65- I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цереброваскулярные болез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.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7240" rIns="57240" tIns="0" bIns="0" anchor="t">
                      <a:noAutofit/>
                    </a:bodyPr>
                    <a:p>
                      <a:pPr marL="4492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церебральный атеросклеро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.6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1E45A-8FC2-4B55-B696-4496A840F8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45840" y="188640"/>
            <a:ext cx="8040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2000</a:t>
            </a:r>
            <a:br>
              <a:rPr sz="2000"/>
            </a:b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Некоторые условия контро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68200" y="907920"/>
          <a:ext cx="8229600" cy="2035440"/>
        </p:xfrm>
        <a:graphic>
          <a:graphicData uri="http://schemas.openxmlformats.org/drawingml/2006/table">
            <a:tbl>
              <a:tblPr/>
              <a:tblGrid>
                <a:gridCol w="1657440"/>
                <a:gridCol w="469800"/>
                <a:gridCol w="565200"/>
                <a:gridCol w="595440"/>
                <a:gridCol w="596880"/>
                <a:gridCol w="519120"/>
                <a:gridCol w="446040"/>
                <a:gridCol w="519120"/>
                <a:gridCol w="444600"/>
                <a:gridCol w="371520"/>
                <a:gridCol w="409320"/>
                <a:gridCol w="408240"/>
                <a:gridCol w="407880"/>
                <a:gridCol w="409680"/>
                <a:gridCol w="409320"/>
              </a:tblGrid>
              <a:tr h="137520">
                <a:tc rowSpan="4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п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 пере-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тр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 Дети (в возрасте 0-17 лет включительно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-дено выписан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ми койко-дн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26)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рас-те д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остав- ленных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экст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нны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-ния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доставлен-н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. помощью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2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22  в возрас-те до 1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28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расте до 1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-го-анато-мичес-ких вскры-т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-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-дений диагно-з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 судебно-меди-цин-ских вскры-т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-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-дений диагно-з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268200" y="3065400"/>
          <a:ext cx="8229600" cy="1692360"/>
        </p:xfrm>
        <a:graphic>
          <a:graphicData uri="http://schemas.openxmlformats.org/drawingml/2006/table">
            <a:tbl>
              <a:tblPr/>
              <a:tblGrid>
                <a:gridCol w="1639800"/>
                <a:gridCol w="503280"/>
                <a:gridCol w="576360"/>
                <a:gridCol w="576360"/>
                <a:gridCol w="576360"/>
                <a:gridCol w="502920"/>
                <a:gridCol w="505080"/>
                <a:gridCol w="503280"/>
                <a:gridCol w="433080"/>
                <a:gridCol w="358920"/>
                <a:gridCol w="432000"/>
                <a:gridCol w="433080"/>
                <a:gridCol w="358920"/>
                <a:gridCol w="409680"/>
                <a:gridCol w="420480"/>
              </a:tblGrid>
              <a:tr h="456840">
                <a:tc>
                  <a:txBody>
                    <a:bodyPr lIns="57960" rIns="5796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ронические болезни миндалин и аденоидов, перитонзиллярный абсцес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35-J3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7960" rIns="579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бронхит хронический и неуточненный, эмфизем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1.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J40-J4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11840">
                <a:tc>
                  <a:txBody>
                    <a:bodyPr lIns="57960" rIns="579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другая хроническая обструктивная легочная болезнь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1.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J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74680">
                <a:tc>
                  <a:txBody>
                    <a:bodyPr lIns="57960" rIns="579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бронхоэктатическая болез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1.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J4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74680">
                <a:tc>
                  <a:txBody>
                    <a:bodyPr lIns="57960" rIns="579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тма; астматический стату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45, J4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Прямоугольник 11"/>
          <p:cNvSpPr/>
          <p:nvPr/>
        </p:nvSpPr>
        <p:spPr>
          <a:xfrm>
            <a:off x="838080" y="4941720"/>
            <a:ext cx="784872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Строки 117-119 по графам 25 и 27 должны быть равны 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14,2000,117:119,25.27=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C4C2B-DBA2-4469-A64A-3D5BB40CFC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45840" y="188640"/>
            <a:ext cx="8040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2000</a:t>
            </a:r>
            <a:br>
              <a:rPr sz="2000"/>
            </a:b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Некоторые условия контро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68200" y="907920"/>
          <a:ext cx="8229600" cy="2035440"/>
        </p:xfrm>
        <a:graphic>
          <a:graphicData uri="http://schemas.openxmlformats.org/drawingml/2006/table">
            <a:tbl>
              <a:tblPr/>
              <a:tblGrid>
                <a:gridCol w="1657440"/>
                <a:gridCol w="469800"/>
                <a:gridCol w="565200"/>
                <a:gridCol w="595440"/>
                <a:gridCol w="596880"/>
                <a:gridCol w="519120"/>
                <a:gridCol w="446040"/>
                <a:gridCol w="519120"/>
                <a:gridCol w="444600"/>
                <a:gridCol w="371520"/>
                <a:gridCol w="409320"/>
                <a:gridCol w="408240"/>
                <a:gridCol w="407880"/>
                <a:gridCol w="409680"/>
                <a:gridCol w="409320"/>
              </a:tblGrid>
              <a:tr h="137520">
                <a:tc rowSpan="4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п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 пере-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тр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 Дети (в возрасте 0-17 лет включительно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-дено выписан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ми койко-дн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26)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рас-те д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остав- ленных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экст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нны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-ния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доставлен-н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. помощью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2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22  в возрас-те до 1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28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расте до 1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-го-анато-мичес-ких вскры-т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-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-дений диагно-з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 судебно-меди-цин-ских вскры-т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-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-дений диагно-з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262080" y="3032280"/>
          <a:ext cx="8215200" cy="274320"/>
        </p:xfrm>
        <a:graphic>
          <a:graphicData uri="http://schemas.openxmlformats.org/drawingml/2006/table">
            <a:tbl>
              <a:tblPr/>
              <a:tblGrid>
                <a:gridCol w="1693800"/>
                <a:gridCol w="449280"/>
                <a:gridCol w="576000"/>
                <a:gridCol w="576360"/>
                <a:gridCol w="576360"/>
                <a:gridCol w="503280"/>
                <a:gridCol w="504720"/>
                <a:gridCol w="503280"/>
                <a:gridCol w="433440"/>
                <a:gridCol w="365040"/>
                <a:gridCol w="361800"/>
                <a:gridCol w="417600"/>
                <a:gridCol w="417600"/>
                <a:gridCol w="417600"/>
                <a:gridCol w="419040"/>
              </a:tblGrid>
              <a:tr h="137520">
                <a:tc>
                  <a:txBody>
                    <a:bodyPr lIns="57960" rIns="5796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функция яичник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2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37520">
                <a:tc>
                  <a:txBody>
                    <a:bodyPr lIns="57960" rIns="5796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функция яиче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2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272880" y="3429000"/>
          <a:ext cx="8229600" cy="549360"/>
        </p:xfrm>
        <a:graphic>
          <a:graphicData uri="http://schemas.openxmlformats.org/drawingml/2006/table">
            <a:tbl>
              <a:tblPr/>
              <a:tblGrid>
                <a:gridCol w="1697040"/>
                <a:gridCol w="441360"/>
                <a:gridCol w="576360"/>
                <a:gridCol w="576360"/>
                <a:gridCol w="576360"/>
                <a:gridCol w="502920"/>
                <a:gridCol w="505080"/>
                <a:gridCol w="503280"/>
                <a:gridCol w="433080"/>
                <a:gridCol w="358920"/>
                <a:gridCol w="385920"/>
                <a:gridCol w="417240"/>
                <a:gridCol w="417600"/>
                <a:gridCol w="419040"/>
                <a:gridCol w="419040"/>
              </a:tblGrid>
              <a:tr h="137520">
                <a:tc>
                  <a:txBody>
                    <a:bodyPr lIns="57960" rIns="5796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тройства менструаций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91-N9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37520">
                <a:tc>
                  <a:txBody>
                    <a:bodyPr lIns="57960" rIns="57960" tIns="0" bIns="0" anchor="t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ское бесплод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74680">
                <a:tc>
                  <a:txBody>
                    <a:bodyPr lIns="57960" rIns="5796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135" name="Прямоугольник 3"/>
          <p:cNvSpPr/>
          <p:nvPr/>
        </p:nvSpPr>
        <p:spPr>
          <a:xfrm>
            <a:off x="495360" y="4292640"/>
            <a:ext cx="77756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Строки 5.9, 5.10, 15.10, 15.11, 16.0 по графам 25, 27 и 33 должны быть равны 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14,2000,59.510.364.365.160,25.27.33=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971EF-1F65-4BD5-B115-9FD71F0726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Основные ошибки при заполнении таблицы 2000</a:t>
            </a: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1.</a:t>
            </a:r>
            <a:r>
              <a:rPr b="1" lang="ru-RU" sz="2400" spc="-1" strike="noStrike">
                <a:solidFill>
                  <a:srgbClr val="75213f"/>
                </a:solidFill>
                <a:latin typeface="Arial"/>
                <a:ea typeface="Arial"/>
              </a:rPr>
              <a:t>Состав пациентов в стационаре, сроки и исходы леч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Не проведен контроль числа заболеваний по каждой строке в таблице между графами, а также между разделами А.Взрослые (18 лет и более) и Б.Взрослые старше трудоспособного возраста по всем строкам и граф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Не проведен контроль числа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прочих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заболеваний по каждому классу болезней между графами, а также разделами А.Взрослые (18 лет и более) и Б.Взрослые старше трудоспособного возраста по всем строкам и граф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Некорректное число проведенных выписанными пациентами койко-дней. Средний койко-день не может быт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менее 1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В разделе В.Дети (в возрасте 0-17 лет включительно)     типичные ошибки связаны с графами 25 (выписано детей до 1 года) и 27 (проведено койко-дней в возрасте до 1 год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A2CB2-4B91-4A9B-B07C-20A3DF7B2C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р 1. Таблица 2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539640" y="836640"/>
          <a:ext cx="8353440" cy="4808520"/>
        </p:xfrm>
        <a:graphic>
          <a:graphicData uri="http://schemas.openxmlformats.org/drawingml/2006/table">
            <a:tbl>
              <a:tblPr/>
              <a:tblGrid>
                <a:gridCol w="1305000"/>
                <a:gridCol w="782640"/>
                <a:gridCol w="995400"/>
                <a:gridCol w="1020600"/>
                <a:gridCol w="993960"/>
                <a:gridCol w="1068480"/>
                <a:gridCol w="1035000"/>
                <a:gridCol w="11523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зросл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зрослые старше трудоспособного возра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нтрол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мер 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ерло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суд.-мед. вскрыт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ерло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суд.-мед. Вскрыт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-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-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428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39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Экстрапирамидные и др.двиг. наруш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9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з них б-нь Паркинс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639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р.экстрапирамид. двиг.наруш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739800">
                <a:tc>
                  <a:txBody>
                    <a:bodyPr lIns="25704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5704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25704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-7.3.1-7.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5704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4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1B790-9C78-4B0F-B722-437E513EC8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р 2 (часть 1). Таблица 2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900000" y="765000"/>
          <a:ext cx="7759800" cy="5789880"/>
        </p:xfrm>
        <a:graphic>
          <a:graphicData uri="http://schemas.openxmlformats.org/drawingml/2006/table">
            <a:tbl>
              <a:tblPr/>
              <a:tblGrid>
                <a:gridCol w="1162080"/>
                <a:gridCol w="493920"/>
                <a:gridCol w="576000"/>
                <a:gridCol w="7272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533520">
                <a:tc gridSpan="11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. Взрослые (18 лет и более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исано пациен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ерш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79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доставленных по экстренным показа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пациентов, доставленных СМП (из гр.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паталогоанатомических вск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установлено расхождений диаг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судебно-медиц. вскры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установ. расхождений диагно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реброваскулярные болез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33 5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0 8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0 7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 534 6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2 2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 0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4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2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02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 х субарахн.кровоизл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4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3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2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2 8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4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3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3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нутримозг и вн.череп. кровоизл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 7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 8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 5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0 0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 8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 0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1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фаркт мозг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0 1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9 8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1 3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317 0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 3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 9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сульт не уточнен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0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8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2 4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0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купорка и стеноз ц.а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 3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2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5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8 3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.церебрроваскул б-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0 2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9 8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 7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764 2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 6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6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4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6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4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9 7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8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3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14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500FF-B8EE-4F13-865D-DA6877653D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р 2 (часть 2). Таблица 2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900000" y="765000"/>
          <a:ext cx="7759800" cy="5789880"/>
        </p:xfrm>
        <a:graphic>
          <a:graphicData uri="http://schemas.openxmlformats.org/drawingml/2006/table">
            <a:tbl>
              <a:tblPr/>
              <a:tblGrid>
                <a:gridCol w="1162080"/>
                <a:gridCol w="493920"/>
                <a:gridCol w="576000"/>
                <a:gridCol w="7272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533520">
                <a:tc gridSpan="11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. Взрослые старше трудоспособного возра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исано пациен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ерш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79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доставленных по экстренным показа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пациентов, доставленных СМП (из гр.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паталогоанатомических вск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установлено расхождений диаг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судебно-медиц. вскры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установ. расхождений диагно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реброваскулярные болез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9 2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 1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4 3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857 7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 9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 9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9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2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02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 х субарахн.кровоизл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6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4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 6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9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3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нутримозг и вн.череп. кровоизл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 7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 9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 2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8 3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 9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3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фаркт мозг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9 7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5 3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1 8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164 1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 8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 3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сульт не уточнен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6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9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1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 7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7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купорка и стеноз ц.а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5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5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6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5 8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.церебрроваскул б-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7 4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5 0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 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677 3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4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9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8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6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8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0 5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0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3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14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F1510-AD20-4693-BD8E-FFA7AF6CE9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р 2 (часть 3). Таблица 2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900000" y="765000"/>
          <a:ext cx="7759800" cy="5789880"/>
        </p:xfrm>
        <a:graphic>
          <a:graphicData uri="http://schemas.openxmlformats.org/drawingml/2006/table">
            <a:tbl>
              <a:tblPr/>
              <a:tblGrid>
                <a:gridCol w="1162080"/>
                <a:gridCol w="493920"/>
                <a:gridCol w="576000"/>
                <a:gridCol w="7272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533520">
                <a:tc gridSpan="11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НТРО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исано пациен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ерш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79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-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доставленных по экстренным показа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-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пациентов, доставленных СМП (из гр.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-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-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паталогоанатомических вск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-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установлено расхождений диаг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-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судебно-медиц. вскры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-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установ. расхождений диагно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-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реброваскулярные болез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4 3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 6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 4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676 8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 3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0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02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 х субарахн.кровоизл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2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6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8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 2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4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3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нутримозг и вн.череп. кровоизл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0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9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2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1 6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9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6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фаркт мозг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 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 4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 4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152 8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5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5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сульт не уточнен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4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1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7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 7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купорка и стеноз ц.а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8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6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 4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.церебрроваскул б-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2 7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 7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 6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086 8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5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1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5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9F495-AD1B-4F28-A059-48F1B6D72F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р 3. Таблица 2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539640" y="907920"/>
          <a:ext cx="8229600" cy="547848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480"/>
                <a:gridCol w="1174680"/>
                <a:gridCol w="1176480"/>
                <a:gridCol w="1174680"/>
                <a:gridCol w="1176120"/>
              </a:tblGrid>
              <a:tr h="3988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.  Дети (в возрасте 0-17 лет включительно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классов и отдельных болез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гр.22 в возрасте до 1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ено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к/д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(из гр.26) в возрасте до 1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к/день в возрасте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22320">
                <a:tc>
                  <a:txBody>
                    <a:bodyPr lIns="25704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олезни вен, лимфатич. сосудов и лимфатич. узл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704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0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9800">
                <a:tc>
                  <a:txBody>
                    <a:bodyPr lIns="34308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флебит и тромбофлеб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30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9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7280">
                <a:tc>
                  <a:txBody>
                    <a:bodyPr lIns="34308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омбоз портальной ве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30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9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04840">
                <a:tc>
                  <a:txBody>
                    <a:bodyPr lIns="34308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рикозное расширение вен нижних конеч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30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9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5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47FDB-066A-40BD-B1DB-E4B697C71A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р 4. Таблица 2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539640" y="907920"/>
          <a:ext cx="8229600" cy="511812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480"/>
                <a:gridCol w="1174680"/>
                <a:gridCol w="1176480"/>
                <a:gridCol w="1174680"/>
                <a:gridCol w="1176120"/>
              </a:tblGrid>
              <a:tr h="6130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.  Дети (в возрасте 0-17 лет включительно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классов и отдельных болез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гр.22 в возрасте до 1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ено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к/д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(гр.26) в возрасте до 1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к/день в возрасте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3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62200">
                <a:tc>
                  <a:txBody>
                    <a:bodyPr lIns="25704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инфекционный энтерит и коли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5704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73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5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50520">
                <a:tc>
                  <a:txBody>
                    <a:bodyPr lIns="34308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болезнь К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4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2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</a:tr>
              <a:tr h="573120">
                <a:tc>
                  <a:txBody>
                    <a:bodyPr lIns="34308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звенный коли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4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4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5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4FFE3-178A-45D3-AC60-04797485BD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3"/>
          <p:cNvSpPr/>
          <p:nvPr/>
        </p:nvSpPr>
        <p:spPr>
          <a:xfrm>
            <a:off x="3276720" y="6435720"/>
            <a:ext cx="27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  <a:ea typeface="Calibri"/>
              </a:rPr>
              <a:t>Москва 2018 г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4"/>
          <p:cNvSpPr/>
          <p:nvPr/>
        </p:nvSpPr>
        <p:spPr>
          <a:xfrm>
            <a:off x="1476360" y="1844640"/>
            <a:ext cx="69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ЕДЕРАЛЬНОЕ СТАТИСТИЧЕСКОЕ НАБЛЮ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5"/>
          <p:cNvSpPr/>
          <p:nvPr/>
        </p:nvSpPr>
        <p:spPr>
          <a:xfrm>
            <a:off x="1619280" y="2276640"/>
            <a:ext cx="64087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</a:rPr>
              <a:t>СВЕДЕНИЯ О ДЕЯТЕЛЬ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</a:rPr>
              <a:t>ПОДРАЗДЕЛЕНИЙ МЕДИЦИНСКОЙ ОРГАНИЗАЦИИ, ОКАЗЫВАЮЩИХ МЕДИЦИНСКУЮ ПОМОЩЬ В СТАЦИОНАРНЫХ УСЛОВ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</a:rPr>
              <a:t>за 2019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17375e"/>
                </a:solidFill>
                <a:uFillTx/>
                <a:latin typeface="Arial"/>
              </a:rPr>
              <a:t>Форма №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Arial"/>
              </a:rPr>
              <a:t>Приказ Росст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Arial"/>
              </a:rPr>
              <a:t>Об утверждении фор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Arial"/>
              </a:rPr>
              <a:t>От 19 ноября 2018 г. № 67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1C9B9-72B3-425F-AB36-F1BA225697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р 5. Таблица 200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755640" y="765000"/>
          <a:ext cx="7848720" cy="5419800"/>
        </p:xfrm>
        <a:graphic>
          <a:graphicData uri="http://schemas.openxmlformats.org/drawingml/2006/table">
            <a:tbl>
              <a:tblPr/>
              <a:tblGrid>
                <a:gridCol w="665280"/>
                <a:gridCol w="252360"/>
                <a:gridCol w="703080"/>
                <a:gridCol w="708120"/>
                <a:gridCol w="709560"/>
                <a:gridCol w="809640"/>
                <a:gridCol w="811440"/>
                <a:gridCol w="809640"/>
                <a:gridCol w="758520"/>
                <a:gridCol w="811440"/>
                <a:gridCol w="809640"/>
              </a:tblGrid>
              <a:tr h="823320">
                <a:tc grid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. Взрослые (18 лет и более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.Взрослые старше трудоспособного возра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нтро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8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исано пациентов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к/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исано пациентов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к/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исано пациентов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к/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114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/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/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-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16/4-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23760">
                <a:tc>
                  <a:txBody>
                    <a:bodyPr lIns="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страпир. и др. двиг. наруш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3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28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1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3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5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03160">
                <a:tc>
                  <a:txBody>
                    <a:bodyPr lIns="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болезнь Паркинс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11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57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08080">
                <a:tc>
                  <a:txBody>
                    <a:bodyPr lIns="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экстрапирамид. и двигат. наруш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2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1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4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2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6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75B7F-9CC6-4697-BD56-8A89EAE84A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р 7. Таблица 200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755640" y="765000"/>
          <a:ext cx="7848720" cy="5510520"/>
        </p:xfrm>
        <a:graphic>
          <a:graphicData uri="http://schemas.openxmlformats.org/drawingml/2006/table">
            <a:tbl>
              <a:tblPr/>
              <a:tblGrid>
                <a:gridCol w="665280"/>
                <a:gridCol w="252360"/>
                <a:gridCol w="703080"/>
                <a:gridCol w="708120"/>
                <a:gridCol w="709560"/>
                <a:gridCol w="809640"/>
                <a:gridCol w="811440"/>
                <a:gridCol w="809640"/>
                <a:gridCol w="758520"/>
                <a:gridCol w="811440"/>
                <a:gridCol w="809640"/>
              </a:tblGrid>
              <a:tr h="915120">
                <a:tc grid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. Взрослые (18 лет и более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.Взрослые старше трудоспособного возра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нтроль (Взрослые трудоспособного возраст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7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исано пациентов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к/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исано пациентов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к/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исано пациентов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к/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11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/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/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-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16/4-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23760">
                <a:tc>
                  <a:txBody>
                    <a:bodyPr lIns="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страпир. и др. двиг. наруш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3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28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1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3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5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04960">
                <a:tc>
                  <a:txBody>
                    <a:bodyPr lIns="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болезнь Паркинс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11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6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5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06640">
                <a:tc>
                  <a:txBody>
                    <a:bodyPr lIns="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экстрапирамид. и двигат. наруш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2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1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4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4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</a:tr>
            </a:tbl>
          </a:graphicData>
        </a:graphic>
      </p:graphicFrame>
      <p:sp>
        <p:nvSpPr>
          <p:cNvPr id="16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CBDEA-E055-4F48-A287-4A4C586623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1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Форма 14</a:t>
            </a:r>
            <a:br>
              <a:rPr sz="2400"/>
            </a:b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Таблица 3000</a:t>
            </a:r>
            <a:br>
              <a:rPr sz="20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АВ НОВОРОЖДЕННЫХ С ЗАБОЛЕВАНИЯМИ, ПОСТУПИВШИХ В ВОЗРАСТЕ 0-6 ДНЕЙ ЖИЗНИ, И ИСХОДЫ ИХ ЛЕЧЕНИЯ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57200" y="1268280"/>
          <a:ext cx="8229600" cy="4896000"/>
        </p:xfrm>
        <a:graphic>
          <a:graphicData uri="http://schemas.openxmlformats.org/drawingml/2006/table">
            <a:tbl>
              <a:tblPr/>
              <a:tblGrid>
                <a:gridCol w="2259000"/>
                <a:gridCol w="365040"/>
                <a:gridCol w="585720"/>
                <a:gridCol w="871560"/>
                <a:gridCol w="871560"/>
                <a:gridCol w="871560"/>
                <a:gridCol w="801720"/>
                <a:gridCol w="801720"/>
                <a:gridCol w="801720"/>
              </a:tblGrid>
              <a:tr h="106920">
                <a:tc rowSpan="3"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заболеваний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п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пересмотр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ой тела при рождении до 1000 г (500-999г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ой тела при рождении 1000 г и более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упило пациентов в первые 0-6 дней после рожде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мерл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упило пациентов в первые 0-6 дней после рожде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мерл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ервые 0-6 дней после рожде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в первые 0-6 дней после рожде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новорожденных с заболеваниям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с заболеваниями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рые респираторные инфекции верхних дыхательных путей, грипп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06, J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J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невмони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12-J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и кожи и подкожной клетчатк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ьные состояния, возникающие в перинатальном периоде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00-P9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5440" rIns="55440" tIns="0" bIns="0" anchor="ctr">
                      <a:noAutofit/>
                    </a:bodyPr>
                    <a:p>
                      <a:pPr marL="20016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016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дленный  рост и недостаточность пита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55440" rIns="55440" tIns="0" bIns="0" anchor="ctr">
                      <a:noAutofit/>
                    </a:bodyPr>
                    <a:p>
                      <a:pPr marL="20016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овая травма - всег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10-P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5440" rIns="55440" tIns="0" bIns="0" anchor="ctr">
                      <a:noAutofit/>
                    </a:bodyPr>
                    <a:p>
                      <a:pPr marL="2905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разрыв внутричерепных ткане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905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кровоизлияние вследствие родовой травмы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5440" rIns="55440" tIns="0" bIns="0" anchor="ctr">
                      <a:noAutofit/>
                    </a:bodyPr>
                    <a:p>
                      <a:pPr marL="20016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ыхательные нарушения, характерные для перинатального периода - всего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20-P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5440" rIns="55440" tIns="0" bIns="0" anchor="ctr">
                      <a:noAutofit/>
                    </a:bodyPr>
                    <a:p>
                      <a:pPr marL="2905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905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утриутробная гипоксия, асфиксия при родах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20,P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080">
                <a:tc>
                  <a:txBody>
                    <a:bodyPr lIns="55440" rIns="55440" tIns="0" bIns="0" anchor="ctr">
                      <a:noAutofit/>
                    </a:bodyPr>
                    <a:p>
                      <a:pPr marL="2905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ыхательное расстройство у новорожденных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.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2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55440" rIns="55440" tIns="0" bIns="0" anchor="ctr">
                      <a:noAutofit/>
                    </a:bodyPr>
                    <a:p>
                      <a:pPr marL="290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ая пневмония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.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2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55440" rIns="55440" tIns="0" bIns="0" anchor="ctr">
                      <a:noAutofit/>
                    </a:bodyPr>
                    <a:p>
                      <a:pPr marL="290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натальные аспирационные синдромы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.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онные болезни, специфичные для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натального периода - всег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35-P3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080">
                <a:tc>
                  <a:txBody>
                    <a:bodyPr lIns="55440" rIns="55440" tIns="0" bIns="0" anchor="ctr">
                      <a:noAutofit/>
                    </a:bodyPr>
                    <a:p>
                      <a:pPr marL="21600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бактериальный сепсис новорожденног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4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3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55440" rIns="55440" tIns="0" bIns="0" anchor="ctr">
                      <a:noAutofit/>
                    </a:bodyPr>
                    <a:p>
                      <a:pPr marL="142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молитическая болезнь плода и новорожденного, водянка плода, обусловленная гемолитической болезнью; ядерная желтух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55-P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5440" rIns="55440" tIns="0" bIns="0" anchor="ctr">
                      <a:noAutofit/>
                    </a:bodyPr>
                    <a:p>
                      <a:pPr marL="142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натальная желтуха, обусловленная чрезмерным гемолизом, другими и неуточненными причинами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58-P5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5440" rIns="55440" tIns="0" bIns="0" anchor="ctr">
                      <a:noAutofit/>
                    </a:bodyPr>
                    <a:p>
                      <a:pPr marL="14292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моррагическая болезнь, диссеминированное внутрисосудистое свертывание у плода и новорожденного, другие перинатальные гематологические наруше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53,P60,P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 (пороки развития), деформации и хромосомные наруше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болезн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DFC82-89B0-4FF8-B1EC-A6274E6F91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3000</a:t>
            </a:r>
            <a:br>
              <a:rPr sz="2000"/>
            </a:b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2.</a:t>
            </a:r>
            <a:r>
              <a:rPr b="1" lang="ru-RU" sz="2000" spc="-1" strike="noStrike">
                <a:solidFill>
                  <a:srgbClr val="953735"/>
                </a:solidFill>
                <a:latin typeface="Calibri"/>
              </a:rPr>
              <a:t>«Состав новорожденных с заболеваниями, поступивших в возрасте </a:t>
            </a:r>
            <a:br>
              <a:rPr sz="2000"/>
            </a:br>
            <a:r>
              <a:rPr b="1" lang="ru-RU" sz="2000" spc="-1" strike="noStrike">
                <a:solidFill>
                  <a:srgbClr val="953735"/>
                </a:solidFill>
                <a:latin typeface="Calibri"/>
              </a:rPr>
              <a:t>0-6 дней жизни, и исходы их лечения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Прямоугольник 2"/>
          <p:cNvSpPr/>
          <p:nvPr/>
        </p:nvSpPr>
        <p:spPr>
          <a:xfrm>
            <a:off x="2286000" y="21366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"/>
          <p:cNvSpPr/>
          <p:nvPr/>
        </p:nvSpPr>
        <p:spPr>
          <a:xfrm>
            <a:off x="684360" y="2133720"/>
            <a:ext cx="7777080" cy="21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Arial"/>
              </a:rPr>
              <a:t>Основная ошибка при заполнении данной таблицы – учет детей, выписанных и умерших в родовспомогательных учреждениях (родильных домах и перинатальных центра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DE843-D5B5-4D62-BA24-1E25BF23E1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3000</a:t>
            </a:r>
            <a:br>
              <a:rPr sz="2000"/>
            </a:b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2.</a:t>
            </a:r>
            <a:r>
              <a:rPr b="1" lang="ru-RU" sz="2000" spc="-1" strike="noStrike">
                <a:solidFill>
                  <a:srgbClr val="953735"/>
                </a:solidFill>
                <a:latin typeface="Calibri"/>
              </a:rPr>
              <a:t>«Состав новорожденных с заболеваниями, поступивших в возрасте </a:t>
            </a:r>
            <a:br>
              <a:rPr sz="2000"/>
            </a:br>
            <a:r>
              <a:rPr b="1" lang="ru-RU" sz="2000" spc="-1" strike="noStrike">
                <a:solidFill>
                  <a:srgbClr val="953735"/>
                </a:solidFill>
                <a:latin typeface="Calibri"/>
              </a:rPr>
              <a:t>0-6 дней жизни, и исходы их лечения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Прямоугольник 2"/>
          <p:cNvSpPr/>
          <p:nvPr/>
        </p:nvSpPr>
        <p:spPr>
          <a:xfrm>
            <a:off x="2286000" y="21366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3"/>
          <p:cNvSpPr/>
          <p:nvPr/>
        </p:nvSpPr>
        <p:spPr>
          <a:xfrm>
            <a:off x="682560" y="1403280"/>
            <a:ext cx="7777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Таблицу заполняют только учреждения, имеющие отделения (койки) патологии новорожденных и недоношенных дете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входящие</a:t>
            </a: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 в состав родовспомогательных учреждений (роддомов, перинатальных центров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В таблицу не включают сведения о больных и заболевших детях, оставленных в палатах новорожденных родовспомогательных учреждений (отделений), сведения об  этих новорожденных показывают в таблицах 2000 и 220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Таблица заполняется только теми медицинскими организациями, в которые переводились новорожденные указанного возраста из других ЛПУ и в данной организации есть койки для выхаживания недоношенных и патологии новорожденных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54B8C-884A-4ED0-9447-4081E0D833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3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2"/>
          <p:cNvSpPr/>
          <p:nvPr/>
        </p:nvSpPr>
        <p:spPr>
          <a:xfrm>
            <a:off x="457200" y="836640"/>
            <a:ext cx="814716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c0472"/>
                </a:solidFill>
                <a:latin typeface="Arial"/>
              </a:rPr>
              <a:t>Пример 1.</a:t>
            </a:r>
            <a:r>
              <a:rPr b="0" lang="ru-RU" sz="1500" spc="-1" strike="noStrike">
                <a:solidFill>
                  <a:srgbClr val="0c0472"/>
                </a:solidFill>
                <a:latin typeface="Arial"/>
              </a:rPr>
              <a:t>  В составе многопрофильного стационара имеются родильные отделения (койки для беременных и рожениц) и отделения для новорожденных (койки патологии новорожденных и недоношенных детей). На эти койки поступают больные новорожденные в пределах своего юридического лица (т.е. внутренние переводы из родильного отделения на койки патологии новорожденных), а также больные новорожденные из других медицинских организаций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c0472"/>
                </a:solidFill>
                <a:latin typeface="Arial"/>
              </a:rPr>
              <a:t>Вопрос:</a:t>
            </a:r>
            <a:r>
              <a:rPr b="0" lang="ru-RU" sz="1500" spc="-1" strike="noStrike">
                <a:solidFill>
                  <a:srgbClr val="0c0472"/>
                </a:solidFill>
                <a:latin typeface="Arial"/>
              </a:rPr>
              <a:t> надо ли заполнять таблицу 3000 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c0472"/>
                </a:solidFill>
                <a:latin typeface="Arial"/>
              </a:rPr>
              <a:t>Ответ: </a:t>
            </a:r>
            <a:r>
              <a:rPr b="0" lang="ru-RU" sz="1500" spc="-1" strike="noStrike">
                <a:solidFill>
                  <a:srgbClr val="0c0472"/>
                </a:solidFill>
                <a:latin typeface="Arial"/>
              </a:rPr>
              <a:t>переведенным новорожденным в пределах своего юр.лица (внутренние переводы) т.3000  не заполнять, заполняют т.2000 и форму 32. А в случае смерти новорожденных - т.2200. Т.3000 заполнять только переведенным из других ЛПУ.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c0472"/>
                </a:solidFill>
                <a:latin typeface="Arial"/>
              </a:rPr>
              <a:t>Пример 2.</a:t>
            </a:r>
            <a:r>
              <a:rPr b="0" lang="ru-RU" sz="1500" spc="-1" strike="noStrike">
                <a:solidFill>
                  <a:srgbClr val="0c0472"/>
                </a:solidFill>
                <a:latin typeface="Arial"/>
              </a:rPr>
              <a:t> Медицинская организация имеет в своем составе койки для новорожденных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c0472"/>
                </a:solidFill>
                <a:latin typeface="Arial"/>
              </a:rPr>
              <a:t>Вопрос: </a:t>
            </a:r>
            <a:r>
              <a:rPr b="0" lang="ru-RU" sz="1500" spc="-1" strike="noStrike">
                <a:solidFill>
                  <a:srgbClr val="0c0472"/>
                </a:solidFill>
                <a:latin typeface="Arial"/>
              </a:rPr>
              <a:t>надо ли заполнять таблицу 3000 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c0472"/>
                </a:solidFill>
                <a:latin typeface="Arial"/>
              </a:rPr>
              <a:t>Ответ:</a:t>
            </a:r>
            <a:r>
              <a:rPr b="0" lang="ru-RU" sz="1500" spc="-1" strike="noStrike">
                <a:solidFill>
                  <a:srgbClr val="0c0472"/>
                </a:solidFill>
                <a:latin typeface="Arial"/>
              </a:rPr>
              <a:t> Заполнять в том случае, если в этой МО нет родильных отделений и на эти койки новорожденных поступают больные новорожденные из родильных отделений других ЛПУ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c0472"/>
                </a:solidFill>
                <a:latin typeface="Arial"/>
              </a:rPr>
              <a:t>Пример 3.</a:t>
            </a:r>
            <a:r>
              <a:rPr b="0" lang="ru-RU" sz="1500" spc="-1" strike="noStrike">
                <a:solidFill>
                  <a:srgbClr val="0c0472"/>
                </a:solidFill>
                <a:latin typeface="Arial"/>
              </a:rPr>
              <a:t> В МО оказывается специализированная помощь новорожденным, в составе которой имеются педиатрические койки соответствующего профиля, реанимационные койки для новорожденных и койки интенсивной терапии для новорожденных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c0472"/>
                </a:solidFill>
                <a:latin typeface="Arial"/>
              </a:rPr>
              <a:t>Вопрос:</a:t>
            </a:r>
            <a:r>
              <a:rPr b="0" lang="ru-RU" sz="1500" spc="-1" strike="noStrike">
                <a:solidFill>
                  <a:srgbClr val="0c0472"/>
                </a:solidFill>
                <a:latin typeface="Arial"/>
              </a:rPr>
              <a:t> надо ли заполнять т.3000 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c0472"/>
                </a:solidFill>
                <a:latin typeface="Arial"/>
              </a:rPr>
              <a:t>Ответ:</a:t>
            </a:r>
            <a:r>
              <a:rPr b="0" lang="ru-RU" sz="1500" spc="-1" strike="noStrike">
                <a:solidFill>
                  <a:srgbClr val="0c0472"/>
                </a:solidFill>
                <a:latin typeface="Arial"/>
              </a:rPr>
              <a:t> аналогичен ответу на 2-й вопрос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75213f"/>
                </a:solidFill>
                <a:latin typeface="Calibri"/>
              </a:rPr>
              <a:t>Форма №14 Таблица 4000</a:t>
            </a:r>
            <a:br>
              <a:rPr sz="2400"/>
            </a:br>
            <a:r>
              <a:rPr b="1" lang="ru-RU" sz="2400" spc="-1" strike="noStrike">
                <a:solidFill>
                  <a:srgbClr val="75213f"/>
                </a:solidFill>
                <a:latin typeface="Calibri"/>
              </a:rPr>
              <a:t>3. Хирургическая работа стационар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000"/>
            </a:br>
            <a:br>
              <a:rPr sz="20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рямоугольник 2"/>
          <p:cNvSpPr/>
          <p:nvPr/>
        </p:nvSpPr>
        <p:spPr>
          <a:xfrm>
            <a:off x="765000" y="1197000"/>
            <a:ext cx="79218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В таблицу включаются сведения о всех выполненных операциях (плановых и экстренных), проведенных в лечебном учреждении, независимо от того, в каком отделении была проведена операц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При проведении нескольких операций  одному и тому же пациенту в таблице показываются все операции, независимо от того, одномоментно или в разные сроки были произведены эти операции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Операция, произведенная в несколько этапов в течение одной госпитализации, учитывается как одна операц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В графе «умерло оперированных в стационаре» указывается число умерших оперированных пациентов, независимо от причины смерти: заболевание, по поводу которого была произведена операция, осложнение, связанное с операцией или другие заболе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В случае смерти пациента, перенесшего несколько операций, как умершего его следуют показывать лишь по одной операции (наиболее сложной и радикальной)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A1961-2381-4BFA-821B-6EB37F665D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14, 4000, 1, 03:28 = 14, 4000, 2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c0472"/>
                </a:solidFill>
                <a:latin typeface="Arial"/>
              </a:rPr>
              <a:t>╧ </a:t>
            </a: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20 + 421, 03:2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Отсутствие дублир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Расшифровка «прочих» операций, не вошедших в предлагаемый  перечен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В графе 28 - указывается число направленных материалов на морфологическое исследование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по числу операций  </a:t>
            </a: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(Приказ МЗ РФ от 24 марта 2016 г. №179Н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Не должно быть цифр  в «закрещенных» клетка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188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4000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62290-9D8D-456F-ABB3-5058AC1071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55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c0472"/>
                </a:solidFill>
                <a:latin typeface="Calibri"/>
              </a:rPr>
              <a:t>Пример 8. Таблица 4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68360" y="981000"/>
          <a:ext cx="8148600" cy="5684760"/>
        </p:xfrm>
        <a:graphic>
          <a:graphicData uri="http://schemas.openxmlformats.org/drawingml/2006/table">
            <a:tbl>
              <a:tblPr/>
              <a:tblGrid>
                <a:gridCol w="2016000"/>
                <a:gridCol w="874800"/>
                <a:gridCol w="1314360"/>
                <a:gridCol w="1314360"/>
                <a:gridCol w="1314720"/>
                <a:gridCol w="1314360"/>
              </a:tblGrid>
              <a:tr h="3682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опер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операций, проведенных в стационар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детям 0-17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ключитель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ключи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ль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гр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возрас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1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-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ключи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ль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ерации при сосудистых пороках моз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на аневризм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эндоваскулярное выклю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.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 из 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8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AA886-5F46-4CD5-90D8-0F399E87C3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32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Пример 9. Таблица 4000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50920" y="765000"/>
          <a:ext cx="8640720" cy="5197680"/>
        </p:xfrm>
        <a:graphic>
          <a:graphicData uri="http://schemas.openxmlformats.org/drawingml/2006/table">
            <a:tbl>
              <a:tblPr/>
              <a:tblGrid>
                <a:gridCol w="1931760"/>
                <a:gridCol w="708120"/>
                <a:gridCol w="1200240"/>
                <a:gridCol w="1200240"/>
                <a:gridCol w="1199880"/>
                <a:gridCol w="1200240"/>
                <a:gridCol w="1200240"/>
              </a:tblGrid>
              <a:tr h="36900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оп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операций, проведенных в стационар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нус де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17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детям 0-17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ключи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ключи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гр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возраст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1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-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ключи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ерации при эпилепсии, паркинсонизме, мышечно-тонических расстройств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резекционные и деструктивные оп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.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становка стимулят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.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 из 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8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E278D-CB8C-44C5-845B-94084FC44F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Arial"/>
                <a:ea typeface="Arial"/>
              </a:rPr>
              <a:t>     </a:t>
            </a:r>
            <a:r>
              <a:rPr b="1" lang="ru-RU" sz="2800" spc="-1" strike="noStrike">
                <a:solidFill>
                  <a:srgbClr val="0c0472"/>
                </a:solidFill>
                <a:latin typeface="Arial"/>
                <a:ea typeface="Arial"/>
              </a:rPr>
              <a:t>Форму федерального статистического наблюдения №14 составляют и предоставляют юридические лица – медицинские организации, имеющие подразделения, оказывающие медицинскую помощь в стационарных условия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18847-E795-40DE-88B1-496CDCB205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имер 10. Таблица 4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684360" y="1341360"/>
          <a:ext cx="7886520" cy="4486320"/>
        </p:xfrm>
        <a:graphic>
          <a:graphicData uri="http://schemas.openxmlformats.org/drawingml/2006/table">
            <a:tbl>
              <a:tblPr/>
              <a:tblGrid>
                <a:gridCol w="1577880"/>
                <a:gridCol w="1576440"/>
                <a:gridCol w="1577880"/>
                <a:gridCol w="1576440"/>
                <a:gridCol w="1577880"/>
              </a:tblGrid>
              <a:tr h="131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опер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операц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гр.3 направлено материалов на морфл.иссл-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тро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36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ерации на сосуд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10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2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58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операции на артерия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67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1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96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ерации на вен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15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2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63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 операции по строке 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9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F91E4-13D5-4CE5-90C9-22A0FE5FBD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р 11. Таблицы 4000, 40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95280" y="1052640"/>
          <a:ext cx="7975440" cy="5522760"/>
        </p:xfrm>
        <a:graphic>
          <a:graphicData uri="http://schemas.openxmlformats.org/drawingml/2006/table">
            <a:tbl>
              <a:tblPr/>
              <a:tblGrid>
                <a:gridCol w="1008000"/>
                <a:gridCol w="865080"/>
                <a:gridCol w="790920"/>
                <a:gridCol w="1152360"/>
                <a:gridCol w="1152360"/>
                <a:gridCol w="1008360"/>
                <a:gridCol w="863640"/>
                <a:gridCol w="1134720"/>
              </a:tblGrid>
              <a:tr h="946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ние оп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блица 4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блица 4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троль  (Т. 4000 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. 400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операций с осложнени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с применением ВМ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операций с осложнени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из гр. 11 таб.40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с применением ВМ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операций с осложнени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с применением ВМ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нтгенэндоваскулярные дилят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1.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со стентировани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1.1.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e26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e26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 из строки 8.1.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9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BAAC6-2B5E-400C-AA15-3A0E052507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41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187280" y="1557360"/>
          <a:ext cx="6212160" cy="2286000"/>
        </p:xfrm>
        <a:graphic>
          <a:graphicData uri="http://schemas.openxmlformats.org/drawingml/2006/table">
            <a:tbl>
              <a:tblPr/>
              <a:tblGrid>
                <a:gridCol w="2643480"/>
                <a:gridCol w="758880"/>
                <a:gridCol w="760320"/>
                <a:gridCol w="760320"/>
                <a:gridCol w="1289160"/>
              </a:tblGrid>
              <a:tr h="1526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анестез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анестезий, е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пациентов, че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тре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ов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госед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пидуральная анесте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нальная (субарахноидальная) анесте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нально-эпидуральная анесте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тальная внутривенная анесте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бинированный эндотрахеальный нарко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четанная анесте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кральная анесте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утриполостная анесте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296CF-8C1B-450A-BEDD-B9487527D1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42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53960" y="1773360"/>
          <a:ext cx="8229600" cy="3352680"/>
        </p:xfrm>
        <a:graphic>
          <a:graphicData uri="http://schemas.openxmlformats.org/drawingml/2006/table">
            <a:tbl>
              <a:tblPr/>
              <a:tblGrid>
                <a:gridCol w="1905120"/>
                <a:gridCol w="457200"/>
                <a:gridCol w="990720"/>
                <a:gridCol w="685800"/>
                <a:gridCol w="799920"/>
                <a:gridCol w="723960"/>
                <a:gridCol w="762120"/>
                <a:gridCol w="685800"/>
                <a:gridCol w="1218960"/>
              </a:tblGrid>
              <a:tr h="137088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трансплант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операций (трансплантаций) -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я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пераций,  при которых наблюдались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ложнен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де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иро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нн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7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алов 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фологическо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следование (из гр. 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лантации всего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гк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57960" rIns="57960" tIns="0" bIns="0" anchor="b">
                      <a:noAutofit/>
                    </a:bodyPr>
                    <a:p>
                      <a:pPr marL="88920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дц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е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желудочной желез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57960" rIns="57960" tIns="0" bIns="0" anchor="b">
                      <a:noAutofit/>
                    </a:bodyPr>
                    <a:p>
                      <a:pPr marL="88920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нкой киш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57960" rIns="57960" tIns="0" bIns="0" anchor="b">
                      <a:noAutofit/>
                    </a:bodyPr>
                    <a:p>
                      <a:pPr marL="88920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стного мозг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х орган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лантации 2-х и более орган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F5A5E-1554-45E1-9036-AFA90D9799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8075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42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В таблицу вносится информация о пересадке органов, а из тканей – только о костном мозг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Данные о пересадке тканей (роговицы, свободного кожного лоскута и т.д.) не вносятся в таблиц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В таблице не показываются реконструктивно-пластические операции с использованием аутотрансплантатов органов или тканей человека, а также с использованием медицинских изделий, полученных из органов или тканей челове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В строку «прочие органы» вносится информация о пересадке трахеи, верхней конечности и ее фрагментов, нижней конечности и ее конечност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В графе 9 необходимо указывать число направленных материалов на морфологическое исследование по числу трансплантаций  (Приказ МЗ РФ от 24 марта 2016 г. № 179Н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Необходимо проведение сверки данных таблицы с отраслевой формой №63 – должно быть строгое соответств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16507-5BB6-4F7F-8E8A-361793B386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57200" y="16002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Ошибки, связанные с некорректным кодированием по МКБ-10 основного заболевания и первоначальной причины смерти пациен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80E7D-58AB-40C5-AC1D-25343A7A8D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Кодирование ишемических болезней сердц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Стенокардия не может быть  первоначальной причиной смерти пациента!!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c0472"/>
                </a:solidFill>
                <a:latin typeface="Calibri"/>
              </a:rPr>
              <a:t>Пациент поступает с диагнозом: Стенокардия (Нестабильная стенокардия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Выписывается </a:t>
            </a:r>
            <a:r>
              <a:rPr b="0" lang="ru-RU" sz="2000" spc="-1" strike="noStrike">
                <a:solidFill>
                  <a:srgbClr val="0c0472"/>
                </a:solidFill>
                <a:latin typeface="Calibri"/>
              </a:rPr>
              <a:t>с диагнозом: Стенокардия (Нестабильная стенокардия) строка 10.4.1 или 10.4.1.1 графа 4 (13, 2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c0472"/>
                </a:solidFill>
                <a:latin typeface="Calibri"/>
              </a:rPr>
              <a:t>В случае </a:t>
            </a: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смерти</a:t>
            </a:r>
            <a:r>
              <a:rPr b="0" lang="ru-RU" sz="2000" spc="-1" strike="noStrike">
                <a:solidFill>
                  <a:srgbClr val="0c0472"/>
                </a:solidFill>
                <a:latin typeface="Calibri"/>
              </a:rPr>
              <a:t> больного, поступившего с диагнозом Стенокардия (Нестабильная стенокардия) используется </a:t>
            </a: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код </a:t>
            </a:r>
            <a:r>
              <a:rPr b="1" lang="en-US" sz="2000" spc="-1" strike="noStrike">
                <a:solidFill>
                  <a:srgbClr val="0c0472"/>
                </a:solidFill>
                <a:latin typeface="Calibri"/>
              </a:rPr>
              <a:t>I25</a:t>
            </a: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c0472"/>
                </a:solidFill>
                <a:latin typeface="Calibri"/>
              </a:rPr>
              <a:t>–Хроническая ишемическая болезнь сердца - строка 10.4.5, графа 8 (17, 2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D9250-2581-4783-8C5B-FC5DBEDC3F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Прямоугольник 2"/>
          <p:cNvSpPr/>
          <p:nvPr/>
        </p:nvSpPr>
        <p:spPr>
          <a:xfrm>
            <a:off x="684360" y="404640"/>
            <a:ext cx="8028000" cy="21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одирование ишемических болезней сердц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d2f39"/>
                </a:solidFill>
                <a:latin typeface="Arial"/>
              </a:rPr>
              <a:t>(Из Рекомендаций  по кодированию некоторых заболеваний из класса IX  «Болезни системы кровообращения» МКБ-10, утвержд. письмом МЗ РФ № 14-9/10/2-415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d2f39"/>
                </a:solidFill>
                <a:latin typeface="Arial"/>
              </a:rPr>
              <a:t>от 26 апреля 2011 г.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4"/>
          <p:cNvSpPr/>
          <p:nvPr/>
        </p:nvSpPr>
        <p:spPr>
          <a:xfrm>
            <a:off x="1116000" y="1484280"/>
            <a:ext cx="7559640" cy="50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случае смерти от острого или повторного инфаркта миокарда следует помнить, что не все случаи инфарктов миокарда кодируются  I21-I22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при сочетании острого или повторного инфаркта миокарда со злокачественным новообразованием, сахарным диабетом или бронхиальной астмой первоначальной причиной смерти считают эти заболевания, а инфаркты миокарда – их осложнениями (МКБ-10, т. 2, стр. 75), данные сочетания должны быть правильно отражены в заключительном посмертном диагнозе, промежуток времени сохраняется – не позднее 28 дней от начала возникновения инфаркта или в пределах эпизода оказания медицинской помощ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в остальных случаях первоначальной причиной смерти следует считать острый или повторный инфаркт миокарда (коды I21-I22) в промежуток времени до 28 дней или в пределах эпизода оказания медицинской помощи (даже, если эпизод закончился позже 28 дней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если диагноз инфаркта миокарда был установлен после 28 дней от  его возникновения, первоначальной причиной смерти следует считать постинфарктный кардиосклероз, код I25.8 (МКБ-10, т. 1, ч. 1, стр. 492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0643F-2B47-47AA-A1E3-4453D241D6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2"/>
          <p:cNvSpPr/>
          <p:nvPr/>
        </p:nvSpPr>
        <p:spPr>
          <a:xfrm>
            <a:off x="684360" y="404640"/>
            <a:ext cx="8028000" cy="21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одирование ишемических болезней сердца (продолж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d2f39"/>
                </a:solidFill>
                <a:latin typeface="Arial"/>
              </a:rPr>
              <a:t>(Из Рекомендаций  по кодированию некоторых заболеваний из класса IX  «Болезни системы кровообращения» МКБ-10, утвержд. письмом МЗ РФ № 14-9/10/2-415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d2f39"/>
                </a:solidFill>
                <a:latin typeface="Arial"/>
              </a:rPr>
              <a:t>от 26 апреля 2011 г.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4"/>
          <p:cNvSpPr/>
          <p:nvPr/>
        </p:nvSpPr>
        <p:spPr>
          <a:xfrm>
            <a:off x="1116000" y="1484280"/>
            <a:ext cx="7559640" cy="38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код I25.2 в качестве первоначальной причины смерти не применяется, данное состояние обозначает инфаркт миокарда, перенесенный в прошлом и диагностированный по ЭКГ, в текущий период – бессимптомный. При наличии в первичной медицинской документации записи о перенесенном в прошлом инфаркте миокарда как единичном состоянии и отсутствии диагнозов других заболеваний, первоначальной причиной смерти следует считать постинфарктный кардиосклероз, код I25.8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коды I23 и I24.0 в качестве первоначальной причины смерти также не применяются, необходимо использовать коды I21-I22 (МКБ-10, т. 2, стр. 61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- при сочетании инфаркта миокарда (острого или повторного) с болезнями, характеризующимися повышенным кровяным давлением, приоритет при выборе первоначальной причины смерти всегда отдается инфаркту миокарда (МКБ-10, т. 2, стр. 59-61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8F116-1D6F-4684-ADB8-C525210251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Схема 1" descr=""/>
          <p:cNvPicPr/>
          <p:nvPr/>
        </p:nvPicPr>
        <p:blipFill>
          <a:blip r:embed="rId1"/>
          <a:stretch/>
        </p:blipFill>
        <p:spPr>
          <a:xfrm>
            <a:off x="785880" y="390600"/>
            <a:ext cx="7572240" cy="5645160"/>
          </a:xfrm>
          <a:prstGeom prst="rect">
            <a:avLst/>
          </a:prstGeom>
          <a:ln w="0">
            <a:noFill/>
          </a:ln>
        </p:spPr>
      </p:pic>
      <p:sp>
        <p:nvSpPr>
          <p:cNvPr id="216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B07EE-999B-4DEE-AA65-8BA86E615D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0033"/>
                </a:solidFill>
                <a:latin typeface="Arial"/>
                <a:ea typeface="Arial"/>
              </a:rPr>
              <a:t>Источники информации </a:t>
            </a:r>
            <a:br>
              <a:rPr sz="2500"/>
            </a:br>
            <a:r>
              <a:rPr b="1" lang="ru-RU" sz="2500" spc="-1" strike="noStrike">
                <a:solidFill>
                  <a:srgbClr val="660033"/>
                </a:solidFill>
                <a:latin typeface="Arial"/>
                <a:ea typeface="Arial"/>
              </a:rPr>
              <a:t>при составлении формы №14: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42920" y="1341360"/>
            <a:ext cx="777240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форма №066/у-02 «Статистическая карта выбывшего из стационара круглосуточного пребывания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форма №016/у-02 «Ведомость учета движения пациентов и коечного фонда стационар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форма №001 «Журнал учета приема больных и отказов в госпитализаци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форма 003/у «Медицинская карта стационарного больного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Форма №106/у-08 «Медицинское свидетельство о смерти и форма №106-2/у-08 «Медицинское свидетельство о перинатальной смертност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160D-88F9-41BF-8BF9-DE8B55E883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50920" y="380880"/>
            <a:ext cx="8664480" cy="556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Calibri"/>
              </a:rPr>
              <a:t>Сепсис</a:t>
            </a:r>
            <a:r>
              <a:rPr b="0" lang="ru-RU" sz="32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Calibri"/>
              </a:rPr>
              <a:t>является </a:t>
            </a: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осложнением</a:t>
            </a:r>
            <a:r>
              <a:rPr b="0" lang="ru-RU" sz="2800" spc="-1" strike="noStrike">
                <a:solidFill>
                  <a:srgbClr val="000099"/>
                </a:solidFill>
                <a:latin typeface="Calibri"/>
              </a:rPr>
              <a:t> обширных гнойных процессов (одонтогенных, остеогенных, отогенных, тонзиллогенных, риногенных, генитальных, урогенных, раневых и т.д.).</a:t>
            </a:r>
            <a:br>
              <a:rPr sz="2800"/>
            </a:b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 редких случаях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 когда причину сепсиса установить не удается, он носит название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риптогенног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и кодируется как самостоятельная нозологическая форм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90000"/>
                </a:solidFill>
                <a:latin typeface="Calibri"/>
                <a:ea typeface="Times New Roman"/>
              </a:rPr>
              <a:t>Необходимо обратить внимание на такое нарушение, когда в акушерско-гинекологической практике сепсис регистрируется не как осложнение аборта, беременности, родов и послеродового периода, а как криптогенное заболевани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366C3-3CC2-4CE7-9D38-D6D7C85DBC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07552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ДИНАМИКА ЛЕТАЛЬНОСТИ ОТ СЕПСИСА В СТАЦИОНАРАХ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оссийская Федерац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468360" y="1413000"/>
          <a:ext cx="8229600" cy="43495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сходы сепсиса в стационар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было больных (взрослые+дет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ерло больных (взрослые+дет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атель летальности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9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2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DBA8D-E9A9-49B1-BAE6-0999A23D04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446040" y="1270080"/>
            <a:ext cx="8253360" cy="49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760" bIns="1587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ПРИЧИНЫ ХРОНИЧЕСКОЙ ПОЧЕЧНОЙ НЕДОСТАТО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 Хронический гломерулонефрит (поражение клубочкового аппарата почек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 Вторичные поражения почек, вызванные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сахарным диабетом 1 и 2 типа;</a:t>
            </a:r>
            <a:br>
              <a:rPr sz="1800"/>
            </a:b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- артериальной гипертензией;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истемными заболеваниями соединительной ткани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ирусным гепатитом «В» и/или «С»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истемными васкулитами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одагрой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маляри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злокачественными новообразованиям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 Хронический пиелонефри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 Мочекаменная болезнь, обструкция мочевыводящих путе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 Аномалии развития мочевыделительной систем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 Поликистоз почек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 Действие токсических веществ и лекар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8229600" cy="81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Calibri"/>
              </a:rPr>
              <a:t>ПОЧЕЧНАЯ НЕДОСТАТОЧН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736A2-444E-4DB0-A7E7-342F02F235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  <a:ea typeface="Arial"/>
              </a:rPr>
              <a:t>ДИНАМИКА ЛЕТАЛЬНОСТИ ОТ ПОЧЕЧНОЙ НЕДОСТАТОЧНОСТИ В СТАЦИОНАРАХ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оссийской Федер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826920" y="1628640"/>
          <a:ext cx="7129800" cy="4489560"/>
        </p:xfrm>
        <a:graphic>
          <a:graphicData uri="http://schemas.openxmlformats.org/drawingml/2006/table">
            <a:tbl>
              <a:tblPr/>
              <a:tblGrid>
                <a:gridCol w="828720"/>
                <a:gridCol w="1835280"/>
                <a:gridCol w="1873080"/>
                <a:gridCol w="2592720"/>
              </a:tblGrid>
              <a:tr h="542880">
                <a:tc rowSpan="2"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ходы лечения почечной недостаточности в стационар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было боль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взрослые + дет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ло боль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взрослые + дет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ь летальности в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632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2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812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2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812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5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668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6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776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9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668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1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812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9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8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5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48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53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,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2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AAC7B-CCB1-4B42-AAC0-6EF27C25C6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7" descr=""/>
          <p:cNvPicPr/>
          <p:nvPr/>
        </p:nvPicPr>
        <p:blipFill>
          <a:blip r:embed="rId1"/>
          <a:stretch/>
        </p:blipFill>
        <p:spPr>
          <a:xfrm>
            <a:off x="612720" y="246240"/>
            <a:ext cx="719280" cy="66168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48"/>
          <p:cNvSpPr/>
          <p:nvPr/>
        </p:nvSpPr>
        <p:spPr>
          <a:xfrm>
            <a:off x="1547640" y="260280"/>
            <a:ext cx="6983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ятельность стационаров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ИМПТО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826920" y="1197000"/>
          <a:ext cx="7797960" cy="4236840"/>
        </p:xfrm>
        <a:graphic>
          <a:graphicData uri="http://schemas.openxmlformats.org/drawingml/2006/table">
            <a:tbl>
              <a:tblPr/>
              <a:tblGrid>
                <a:gridCol w="1559160"/>
                <a:gridCol w="1560600"/>
                <a:gridCol w="1558800"/>
                <a:gridCol w="1560600"/>
                <a:gridCol w="1558800"/>
              </a:tblGrid>
              <a:tr h="304920">
                <a:tc rowSpan="3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зросл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иса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иса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2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0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5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2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5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1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6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3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2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8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3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9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8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3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8142C-8DA0-42CB-BF0A-757BDDA541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еятельность стационаров Российской Федерации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СИМПТОМ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Прямоугольник 2"/>
          <p:cNvSpPr/>
          <p:nvPr/>
        </p:nvSpPr>
        <p:spPr>
          <a:xfrm>
            <a:off x="900000" y="1557360"/>
            <a:ext cx="763272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Пациенты с симптомами заболевания госпитализируются для уточнения диагноза. </a:t>
            </a:r>
            <a:br>
              <a:rPr sz="1800"/>
            </a:b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Если диагноз заболевания не уточнен, эти случаи госпитализации следует рассматривать как обследование и должны регистрироваться в строке 21.0 «Факторы, влияющие на состояние здоровья и обращения в учреждения здравоохране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ждый случай летального исхода по классу 18 МКБ-10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(симптомы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должен быть подтвержден письменной копией посмертного заключительного диагноза при сдаче годового отчета с указанием кода первоначальной причины смер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Все случаи выписки пациентов с диагнозом по классу 18 МКБ-10 (симптомы) должны бы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дтверждены письменно с указанием кода и пояснением причины использования данного к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FBC80-CF80-4978-80CA-6916E83465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тарость – первоначальная причина смерт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Прямоугольник 2"/>
          <p:cNvSpPr/>
          <p:nvPr/>
        </p:nvSpPr>
        <p:spPr>
          <a:xfrm>
            <a:off x="684360" y="1125360"/>
            <a:ext cx="8135640" cy="61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Термин «старость» относится к неточно обозначенным состояниям (в соответствии с правилом А модификации выбранной причины смерти). </a:t>
            </a:r>
            <a:br>
              <a:rPr sz="1800"/>
            </a:b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Старость не может быть выбрана в качестве первоначальной причины смерти при наличии любого состояния, классифицированного в других рубриках (МКБ-10, том 2, стр. 46-47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ритериями использовани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д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4 «Старость» в качестве первоначальной причины смерти являю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зраст старше 80 л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сутствие в медицинской документации указаний на хронические заболевания, травмы и их последствия, способные вызвать смер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сутствие подозрений на насильственную смер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ри проведении патологоанатомического или судебно-медицинского вскрытия  умершего в возрасте старше 80 лет отсутствие патологических изменений в органах и тканях невозможно. После проведения вскрытия с учетом гистологических данных, должны быть определены конкретные причины, приведшие к смерти, что исключает использования термина «Старость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0c047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48FB8-BD0E-4F42-A871-3C5AC827B7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Форма 14 </a:t>
            </a:r>
            <a:br>
              <a:rPr sz="2400"/>
            </a:b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Состояния, которые не могут быть первоначальной причиной летального исхода в стационаре</a:t>
            </a:r>
            <a:r>
              <a:rPr b="1" lang="ru-RU" sz="2400" spc="-1" strike="noStrike">
                <a:solidFill>
                  <a:srgbClr val="cc3300"/>
                </a:solidFill>
                <a:latin typeface="Calibri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c0472"/>
                </a:solidFill>
                <a:latin typeface="Calibri"/>
              </a:rPr>
              <a:t>Сепси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c0472"/>
                </a:solidFill>
                <a:latin typeface="Calibri"/>
              </a:rPr>
              <a:t>Почечная недостаточ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c0472"/>
                </a:solidFill>
                <a:latin typeface="Calibri"/>
              </a:rPr>
              <a:t>Ожир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c0472"/>
                </a:solidFill>
                <a:latin typeface="Calibri"/>
              </a:rPr>
              <a:t>Расстройства вегетативной нервной систе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539640" y="3866400"/>
            <a:ext cx="8229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аждый случай летального исхода при использовании этих осложнений в качестве причины смерти должен быть подтвержден письменной копией посмертного заключительного диагноза при сдаче годового отчета с указанием кода МКБ о первоначальной причине смер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7B603-6616-4620-A2AB-5563E129C5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967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Необходимо представить подтверждения на следующие случаи смерт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96720" y="1268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Сепсис (А40-41, строка 2.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Анемии (</a:t>
            </a:r>
            <a:r>
              <a:rPr b="1" lang="en-US" sz="1800" spc="-1" strike="noStrike">
                <a:solidFill>
                  <a:srgbClr val="0c0472"/>
                </a:solidFill>
                <a:latin typeface="Calibri"/>
              </a:rPr>
              <a:t>D50-D64</a:t>
            </a: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, строка 4.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Ожирение (Е66, строка 5.1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Психические расстройства и расстройства поведения (</a:t>
            </a:r>
            <a:r>
              <a:rPr b="1" lang="en-US" sz="1800" spc="-1" strike="noStrike">
                <a:solidFill>
                  <a:srgbClr val="0c0472"/>
                </a:solidFill>
                <a:latin typeface="Calibri"/>
              </a:rPr>
              <a:t>F0</a:t>
            </a: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0c0472"/>
                </a:solidFill>
                <a:latin typeface="Calibri"/>
              </a:rPr>
              <a:t>-F</a:t>
            </a: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0</a:t>
            </a:r>
            <a:r>
              <a:rPr b="1" lang="en-US" sz="1800" spc="-1" strike="noStrike">
                <a:solidFill>
                  <a:srgbClr val="0c0472"/>
                </a:solidFill>
                <a:latin typeface="Calibri"/>
              </a:rPr>
              <a:t>9</a:t>
            </a: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, строка 6.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Грипп (</a:t>
            </a:r>
            <a:r>
              <a:rPr b="1" lang="en-US" sz="1800" spc="-1" strike="noStrike">
                <a:solidFill>
                  <a:srgbClr val="0c0472"/>
                </a:solidFill>
                <a:latin typeface="Calibri"/>
              </a:rPr>
              <a:t>J09-J11</a:t>
            </a: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, строка 11.2 )– для детей 0-17 л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c0472"/>
              </a:buClr>
              <a:buSzPct val="13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Острые респираторные  инфекции верхних дыхательных путей (</a:t>
            </a:r>
            <a:r>
              <a:rPr b="1" lang="en-US" sz="1800" spc="-1" strike="noStrike">
                <a:solidFill>
                  <a:srgbClr val="0c0472"/>
                </a:solidFill>
                <a:latin typeface="Calibri"/>
              </a:rPr>
              <a:t>J00-J06</a:t>
            </a: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, строка 11.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Язва желудка и двенадцатиперстной кишки (К25-К26, строка 12.1) – для детей 0-17 л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Гастрит и дуоденит (К29, строка 12.2) – для взрослых 18 лет и старш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Все случаи смерти женщин (от внематочной беременности, аборта, беременных, рожениц и родильниц) (О00-О99, строка 16.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Расстройства вегетативной нервной системы (</a:t>
            </a:r>
            <a:r>
              <a:rPr b="1" lang="en-US" sz="1800" spc="-1" strike="noStrike">
                <a:solidFill>
                  <a:srgbClr val="0c0472"/>
                </a:solidFill>
                <a:latin typeface="Calibri"/>
              </a:rPr>
              <a:t>G90</a:t>
            </a: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, строка 7.1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Геморрой</a:t>
            </a:r>
            <a:r>
              <a:rPr b="1" lang="en-US" sz="1800" spc="-1" strike="noStrike">
                <a:solidFill>
                  <a:srgbClr val="0c0472"/>
                </a:solidFill>
                <a:latin typeface="Calibri"/>
              </a:rPr>
              <a:t> (K64</a:t>
            </a: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, строка 12.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c0472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EDF29-7F57-4459-A1A8-06F82FCF4A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07552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ДИНАМИКА ЛЕТАЛЬНОСТИ ОТ ОЖИРЕНИЯ В СТАЦИОНАРАХ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оссийская Федерац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468360" y="1413000"/>
          <a:ext cx="8229600" cy="4714920"/>
        </p:xfrm>
        <a:graphic>
          <a:graphicData uri="http://schemas.openxmlformats.org/drawingml/2006/table">
            <a:tbl>
              <a:tblPr/>
              <a:tblGrid>
                <a:gridCol w="2057400"/>
                <a:gridCol w="1254240"/>
                <a:gridCol w="803160"/>
                <a:gridCol w="1212840"/>
                <a:gridCol w="844560"/>
                <a:gridCol w="1171440"/>
                <a:gridCol w="885960"/>
              </a:tblGrid>
              <a:tr h="371520"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6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сходы  ожирения в стационар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исано боль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ерло боль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атель летальности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зросл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зросл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зросл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52477-A1E6-4E69-B3AE-B317472A0B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Форма 14 </a:t>
            </a:r>
            <a:br>
              <a:rPr sz="2400"/>
            </a:b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Основные принципы формир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4173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c0472"/>
                </a:solidFill>
                <a:latin typeface="Calibri"/>
              </a:rPr>
              <a:t>Использование МКБ -10 пересмот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c0472"/>
                </a:solidFill>
                <a:latin typeface="Calibri"/>
              </a:rPr>
              <a:t>Заключительный клинический диагно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c0472"/>
                </a:solidFill>
                <a:latin typeface="Calibri"/>
              </a:rPr>
              <a:t>Только основное заболевани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c0472"/>
                </a:solidFill>
                <a:latin typeface="Calibri"/>
              </a:rPr>
              <a:t>Только первоначальная причина смер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Calibri"/>
              </a:rPr>
              <a:t>При составлении Формы для отнесения заболеваний к той или иной нозологической форме или классу заболеваний, следует руководствоваться заключительным клиническим диагнозом, а в случае смерти – первоначальной причиной смерти. </a:t>
            </a: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В Форму включаются только те заболевания, которые выставлены в качестве «основного заболевания». Если состояния, указанные в строках 10.6.6,10.6.7, 10.6.8 и 10.6.9 </a:t>
            </a:r>
            <a:r>
              <a:rPr b="1" lang="en-US" sz="1800" spc="-1" strike="noStrike">
                <a:solidFill>
                  <a:srgbClr val="800000"/>
                </a:solidFill>
                <a:latin typeface="Calibri"/>
              </a:rPr>
              <a:t>[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едсердно-желудочковая (атриовентрикулярная) блокад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желудочковая тахикардия, фибрилляция и трепетание предсердий, синдром слабости синусового узла</a:t>
            </a:r>
            <a:r>
              <a:rPr b="1" lang="en-US" sz="1800" spc="-1" strike="noStrike">
                <a:solidFill>
                  <a:srgbClr val="800000"/>
                </a:solidFill>
                <a:latin typeface="Calibri"/>
              </a:rPr>
              <a:t>]</a:t>
            </a: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 являются осложнением «основного заболевания», они в Форму не включаютс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090FA-4ABC-4F3D-A1FE-0FC68C22E1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рямоугольник 1"/>
          <p:cNvSpPr/>
          <p:nvPr/>
        </p:nvSpPr>
        <p:spPr>
          <a:xfrm>
            <a:off x="684360" y="1341360"/>
            <a:ext cx="79912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Последствия инфекционных и паразитарных болезней (рубрики охватывают все инфекционные и паразитарные болезни) В90-В9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Последствия недостаточности питания и недостатка других питательных веществ Е6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Последствия избыточности питания Е6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Последствия воспалительных болезней центральной нервной системы G0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Последствия цереброваскулярных болезней I6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Смерть матери от последствий прямых акушерских причин O97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Последствия воздействия внешних причин заболеваемости и смертности Y85-Y8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2"/>
          <p:cNvSpPr/>
          <p:nvPr/>
        </p:nvSpPr>
        <p:spPr>
          <a:xfrm>
            <a:off x="576360" y="34596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РУБРИКИ ПОСЛЕДСТВИЙ МКБ-10, ПРЕДНАЗНАЧЕННЫЕ ДЛЯ КОДИРОВАНИЯ ТОЛЬКО ПЕРВОНАЧАЛЬНОЙ ПРИЧИНЫ СМЕР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18C80-BF79-47FB-9076-B0539BCDE6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Прямоугольник 2"/>
          <p:cNvSpPr/>
          <p:nvPr/>
        </p:nvSpPr>
        <p:spPr>
          <a:xfrm>
            <a:off x="684360" y="404640"/>
            <a:ext cx="8028000" cy="21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одирование цереброваскулярных болез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d2f39"/>
                </a:solidFill>
                <a:latin typeface="Arial"/>
              </a:rPr>
              <a:t>(Из Рекомендаций  по кодированию некоторых заболеваний из класса IX  «Болезни системы кровообращения» МКБ-10, утвержд. письмом МЗ РФ № 14-9/10/2-415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d2f39"/>
                </a:solidFill>
                <a:latin typeface="Arial"/>
              </a:rPr>
              <a:t>от 26 апреля 2011 г.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4"/>
          <p:cNvSpPr/>
          <p:nvPr/>
        </p:nvSpPr>
        <p:spPr>
          <a:xfrm>
            <a:off x="1116000" y="1484280"/>
            <a:ext cx="7559640" cy="45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личают острые формы цереброваскулярных болезней продолжительностью до 30 дней (приказ  Минздравсоцразвития России от 01.08.2007 № 513) – рубрики I60-I66; хронические формы, классифицированы в рубрике I67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ледствия цереброваскулярных болезней (рубрика I69) используются только для регистрации летальных исход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ледствия цереброваскулярных болезней существуют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в течение года и более с момента возникновения острой формы заболевания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ключают в себя различные состояния, классифицированные в других рубриках (МКБ-10, т. 1, ч. 1, стр. 512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статистике заболеваемости не следует использовать рубрику последствий (I69), а необходимо указывать конкретные состояния, которые явились следствием острых форм цереброваскулярных болезней, например, энцефалопатия, паралич и т.д. (МКБ-10, т. 2, стр.115-116). При этом минимальный промежуток времени не установле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D0324-CD2C-4547-9005-E1B2C37ECA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Прямоугольник 2"/>
          <p:cNvSpPr/>
          <p:nvPr/>
        </p:nvSpPr>
        <p:spPr>
          <a:xfrm>
            <a:off x="684360" y="404640"/>
            <a:ext cx="8028000" cy="21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одирование цереброваскулярных болез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d2f39"/>
                </a:solidFill>
                <a:latin typeface="Arial"/>
              </a:rPr>
              <a:t>(Из Рекомендаций  по кодированию некоторых заболеваний из класса IX  «Болезни системы кровообращения» МКБ-10, утвержд. письмом МЗ РФ № 14-9/10/2-415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d2f39"/>
                </a:solidFill>
                <a:latin typeface="Arial"/>
              </a:rPr>
              <a:t>от 26 апреля 2011 г.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4"/>
          <p:cNvSpPr/>
          <p:nvPr/>
        </p:nvSpPr>
        <p:spPr>
          <a:xfrm>
            <a:off x="1116000" y="1484280"/>
            <a:ext cx="75596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пределах эпизода оказания медицинской помощи, если диагноз эпизода или госпитализации; установлен до 30 дней от начала заболевания, то  регистрируют острые формы цереброваскулярных болезней, независимо от продолжительности эпизода или госпитализа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сли, в пределах 30 дней закончилась первая госпитализация и началась вторая, то при второй госпитализации регистрируют  хроническую форму, классифицированную в рубрике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I67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ли одно из состояний в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рубриках конкретных неврологических расстройств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сли эпизод оказания медицинской помощи начался позже 30 дней, то регистрируют  хронические формы, классифицированные в рубрике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I67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ли состояния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в рубриках конкретных неврологических расстройств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но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не последстви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ереброваскулярных болезней (рубрика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I69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ED411-04FE-47DC-AEAD-E717E87AD4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Прямоугольник 2"/>
          <p:cNvSpPr/>
          <p:nvPr/>
        </p:nvSpPr>
        <p:spPr>
          <a:xfrm>
            <a:off x="1187280" y="345960"/>
            <a:ext cx="73803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одирование цереброваскулярных болез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(Продолж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4"/>
          <p:cNvSpPr/>
          <p:nvPr/>
        </p:nvSpPr>
        <p:spPr>
          <a:xfrm>
            <a:off x="1116000" y="1484280"/>
            <a:ext cx="755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5"/>
          <p:cNvSpPr/>
          <p:nvPr/>
        </p:nvSpPr>
        <p:spPr>
          <a:xfrm>
            <a:off x="684360" y="1125360"/>
            <a:ext cx="81356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случае смерти от острых форм цереброваскулярных болезней следует помнить, что не все эти случаи кодируются  I60-I64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при сочетании острых форм цереброваскулярных болезней со злокачественным новообразованием, сахарным диабетом или бронхиальной астмой первоначальной причиной смерти считают эти заболевания, а острые формы цереброваскулярных болезней – их осложнениями (МКБ-10, т. 2, стр. 75), данные сочетания должны быть правильно отражены в заключительном посмертном диагнозе, промежуток времени сохраняется – не позднее 30 дней от начала возникновения заболевания или в пределах эпизода оказания медицинской помощ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в остальных случаях первоначальной причиной смерти следует считать острые формы цереброваскулярных болезней (коды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I60-I64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 в промежуток времени до 30 дней или в пределах эпизода оказания медицинской помощи (даже, если он закончился позже)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если диагноз установлен после 30 дней от возникновения заболевания, первоначальной причиной смерти следует считать хронические формы, классифицированные в рубрике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I67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ли последствия цереброваскулярных болезней (рубрика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I69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коды I65 и I66 в качестве первоначальной причины смерти не применяются, необходимо использовать коды I63 (МКБ-10, т. 2, стр. 62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2F9DA-F5E9-43DF-BE55-0CA6E115B9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Схема 1" descr=""/>
          <p:cNvPicPr/>
          <p:nvPr/>
        </p:nvPicPr>
        <p:blipFill>
          <a:blip r:embed="rId1"/>
          <a:stretch/>
        </p:blipFill>
        <p:spPr>
          <a:xfrm>
            <a:off x="957240" y="182520"/>
            <a:ext cx="7589880" cy="5627880"/>
          </a:xfrm>
          <a:prstGeom prst="rect">
            <a:avLst/>
          </a:prstGeom>
          <a:ln w="0">
            <a:noFill/>
          </a:ln>
        </p:spPr>
      </p:pic>
      <p:sp>
        <p:nvSpPr>
          <p:cNvPr id="262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93EF8-771D-4395-86CA-DAB63A5961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628640"/>
            <a:ext cx="8062920" cy="28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c0472"/>
                </a:solidFill>
                <a:latin typeface="Calibri"/>
              </a:rPr>
              <a:t>В последние годы в связи с реализацией  Федеральных нацпроектов и проведением мониторинга мероприятий по снижению смертности от 7 нозологий в Российской Федерации наблюдается тенденция к росту смертности по классам болезней и нозологиям, по которым наблюдение не осуществляется</a:t>
            </a:r>
            <a:br>
              <a:rPr sz="2500"/>
            </a:br>
            <a:br>
              <a:rPr sz="2500"/>
            </a:br>
            <a:r>
              <a:rPr b="1" lang="ru-RU" sz="2500" spc="-1" strike="noStrike">
                <a:solidFill>
                  <a:srgbClr val="0c0472"/>
                </a:solidFill>
                <a:latin typeface="Calibri"/>
              </a:rPr>
              <a:t>При наличии достаточно высокого числа летальных исходов по данным классам болезней и нозологиям следует предоставить </a:t>
            </a:r>
            <a:r>
              <a:rPr b="1" lang="ru-RU" sz="2500" spc="-1" strike="noStrike">
                <a:solidFill>
                  <a:srgbClr val="ff0000"/>
                </a:solidFill>
                <a:latin typeface="Calibri"/>
              </a:rPr>
              <a:t>список первоначальных причин смерти с кодами по МКБ-10 и пояснениями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FF860-4ABB-45E3-9AE9-4D038E19BA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4360" y="35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Zdravmanager.r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Прямоугольник 2"/>
          <p:cNvSpPr/>
          <p:nvPr/>
        </p:nvSpPr>
        <p:spPr>
          <a:xfrm>
            <a:off x="1116000" y="836640"/>
            <a:ext cx="6840720" cy="29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МАНОШКИ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Елена Михайл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Ведущий научный сотрудник</a:t>
            </a:r>
            <a:br>
              <a:rPr sz="1800"/>
            </a:b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кандидат медицинских на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ктронная почта: </a:t>
            </a:r>
            <a:r>
              <a:rPr b="1" lang="en-US" sz="1800" spc="-1" strike="noStrike">
                <a:solidFill>
                  <a:srgbClr val="0c0472"/>
                </a:solidFill>
                <a:latin typeface="Arial"/>
              </a:rPr>
              <a:t>manoshkina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@mednet.ru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л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-925-299-78-01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5B4CE-60C0-4E45-97E6-0792E1323D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1266840" y="2708280"/>
            <a:ext cx="661032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Calibri"/>
              </a:rPr>
              <a:t>БЛАГОДАРЮ ЗА ВНИМА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2D010-43EE-4C17-95D9-80F0CD64F3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"/>
          <p:cNvSpPr/>
          <p:nvPr/>
        </p:nvSpPr>
        <p:spPr>
          <a:xfrm>
            <a:off x="611280" y="1844640"/>
            <a:ext cx="7848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В таблицу включаются свед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c047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о всех выписанных пациентах изо всех стационар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c047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о доставленных по экстренным показаниям, в том числе СМП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c047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о проведенных койко-дня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c047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об умерших во всех стационара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c047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о числе вскрытий (патологоанатомических и судебно-медицинских) и числе расхождений диагноз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2"/>
          <p:cNvSpPr/>
          <p:nvPr/>
        </p:nvSpPr>
        <p:spPr>
          <a:xfrm>
            <a:off x="900000" y="620640"/>
            <a:ext cx="76327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0033"/>
                </a:solidFill>
                <a:latin typeface="Arial"/>
              </a:rPr>
              <a:t>Форма №14 </a:t>
            </a: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Таблица 2000</a:t>
            </a:r>
            <a:br>
              <a:rPr sz="2800"/>
            </a:b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1.</a:t>
            </a:r>
            <a:r>
              <a:rPr b="1" lang="ru-RU" sz="1800" spc="-1" strike="noStrike">
                <a:solidFill>
                  <a:srgbClr val="75213f"/>
                </a:solidFill>
                <a:latin typeface="Arial"/>
              </a:rPr>
              <a:t>Состав пациентов в стационаре, сроки и исходы ле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3"/>
          <p:cNvSpPr/>
          <p:nvPr/>
        </p:nvSpPr>
        <p:spPr>
          <a:xfrm>
            <a:off x="712800" y="4152960"/>
            <a:ext cx="770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В таблицу не включаются сведения о пациентах, переведенных в другие организации (стационар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Сведения о переведенных госпитализированных показываются в  таблице 21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F115C-6C2F-4C3F-A78F-FB29DADB93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1"/>
          <p:cNvSpPr/>
          <p:nvPr/>
        </p:nvSpPr>
        <p:spPr>
          <a:xfrm>
            <a:off x="611280" y="1844640"/>
            <a:ext cx="7848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Сведения о числе умерших беременных, а также женщин, умерших в течение 42 дней после окончания беременности независимо от ее продолжительности и локализации от какой-либо причины, связанной с беременностью, отягощенной ею или ее ведением, но не от несчастного случая или случайно возникшей причины, в соответствии с критериями ВОЗ, включаются в строку 16.0 «Беременность, роды и послеродовый период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Сведения о  случаях смерти женщин по истечении 42 дней после беременности показываются в форме на общих основания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2"/>
          <p:cNvSpPr/>
          <p:nvPr/>
        </p:nvSpPr>
        <p:spPr>
          <a:xfrm>
            <a:off x="971640" y="311040"/>
            <a:ext cx="7632720" cy="11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0033"/>
                </a:solidFill>
                <a:latin typeface="Arial"/>
              </a:rPr>
              <a:t>Форма №14</a:t>
            </a:r>
            <a:br>
              <a:rPr sz="2500"/>
            </a:br>
            <a:r>
              <a:rPr b="1" lang="ru-RU" sz="2500" spc="-1" strike="noStrike">
                <a:solidFill>
                  <a:srgbClr val="660033"/>
                </a:solidFill>
                <a:latin typeface="Arial"/>
              </a:rPr>
              <a:t>Таблица 2000</a:t>
            </a: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1.</a:t>
            </a:r>
            <a:r>
              <a:rPr b="1" lang="ru-RU" sz="1800" spc="-1" strike="noStrike">
                <a:solidFill>
                  <a:srgbClr val="75213f"/>
                </a:solidFill>
                <a:latin typeface="Arial"/>
              </a:rPr>
              <a:t>Состав пациентов в стационаре, сроки и исходы ле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82AA0-B6BA-45FB-84FF-04A3B19329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2000  </a:t>
            </a:r>
            <a:br>
              <a:rPr sz="2000"/>
            </a:b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Некоторые условия контро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417680"/>
          <a:ext cx="8229600" cy="1782720"/>
        </p:xfrm>
        <a:graphic>
          <a:graphicData uri="http://schemas.openxmlformats.org/drawingml/2006/table">
            <a:tbl>
              <a:tblPr/>
              <a:tblGrid>
                <a:gridCol w="2495520"/>
                <a:gridCol w="466920"/>
                <a:gridCol w="647640"/>
                <a:gridCol w="531720"/>
                <a:gridCol w="598320"/>
                <a:gridCol w="600120"/>
                <a:gridCol w="522360"/>
                <a:gridCol w="522360"/>
                <a:gridCol w="460440"/>
                <a:gridCol w="461880"/>
                <a:gridCol w="460440"/>
                <a:gridCol w="461880"/>
              </a:tblGrid>
              <a:tr h="137520">
                <a:tc row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КБ-10 пересмотр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Взрослые (18 лет и более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 выписан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йко-дн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о- ставлен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х п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тренны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ния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доставлен-н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 помощью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3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-мических вскрыт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-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-дений диагноз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 судебно-медицин-ских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крыт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-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-дений диагноз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457200" y="3330720"/>
          <a:ext cx="8234280" cy="1536480"/>
        </p:xfrm>
        <a:graphic>
          <a:graphicData uri="http://schemas.openxmlformats.org/drawingml/2006/table">
            <a:tbl>
              <a:tblPr/>
              <a:tblGrid>
                <a:gridCol w="2543040"/>
                <a:gridCol w="454320"/>
                <a:gridCol w="610920"/>
                <a:gridCol w="478080"/>
                <a:gridCol w="609480"/>
                <a:gridCol w="611280"/>
                <a:gridCol w="609480"/>
                <a:gridCol w="455760"/>
                <a:gridCol w="465120"/>
                <a:gridCol w="465120"/>
                <a:gridCol w="466560"/>
                <a:gridCol w="465120"/>
              </a:tblGrid>
              <a:tr h="20772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болезни, характеризующиеся повышенным    кровяным давление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0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0-</a:t>
                      </a:r>
                      <a:r>
                        <a:rPr b="1" lang="en-US" sz="1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3040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ссенциальная гипертенз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3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пертензивная болезнь сердца (гипертоническая болезнь с преимущественным поражением сердца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3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пертензивная болезнь почек (гипертоническая болезнь с преимущественным поражением  почек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3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пертензивная болезнь сердца и  почек (гипертоническая болезнь с преимущественным поражением сердца и почек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3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Прямоугольник 7"/>
          <p:cNvSpPr/>
          <p:nvPr/>
        </p:nvSpPr>
        <p:spPr>
          <a:xfrm>
            <a:off x="646200" y="4869000"/>
            <a:ext cx="799128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Строка 10.3 равна сумме строк (10.3.1+10.3.2+10.3.3+ 0.3.4) по всем граф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14,2000,103,04:33=14,2000,313╧316,04:33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7D47-56E5-4D30-A038-E2DED7FFF5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2000</a:t>
            </a:r>
            <a:br>
              <a:rPr sz="2000"/>
            </a:b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Некоторые условия контро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1417680"/>
          <a:ext cx="8229600" cy="1782720"/>
        </p:xfrm>
        <a:graphic>
          <a:graphicData uri="http://schemas.openxmlformats.org/drawingml/2006/table">
            <a:tbl>
              <a:tblPr/>
              <a:tblGrid>
                <a:gridCol w="2495520"/>
                <a:gridCol w="466920"/>
                <a:gridCol w="647640"/>
                <a:gridCol w="531720"/>
                <a:gridCol w="598320"/>
                <a:gridCol w="600120"/>
                <a:gridCol w="522360"/>
                <a:gridCol w="522360"/>
                <a:gridCol w="460440"/>
                <a:gridCol w="461880"/>
                <a:gridCol w="460440"/>
                <a:gridCol w="461880"/>
              </a:tblGrid>
              <a:tr h="137520">
                <a:tc row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КБ-10 пересмотр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Взрослые (18 лет и более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 выписан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йко-дн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о- ставлен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х п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тренны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ния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доставлен-н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 помощью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3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-мических вскрыт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-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-дений диагноз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 судебно-медицин-ских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крыт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-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-дений диагноз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Прямоугольник 7"/>
          <p:cNvSpPr/>
          <p:nvPr/>
        </p:nvSpPr>
        <p:spPr>
          <a:xfrm>
            <a:off x="646200" y="4869000"/>
            <a:ext cx="799128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Строка 10.4 равна сумме строк (10.4.1+10.4.2+10.4.3+ 10.4.4+ 10.4.5) по всем граф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14,2000,104,04:33=14,2000,317+319+320+372+373,04:33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3314880"/>
          <a:ext cx="8229600" cy="1600200"/>
        </p:xfrm>
        <a:graphic>
          <a:graphicData uri="http://schemas.openxmlformats.org/drawingml/2006/table">
            <a:tbl>
              <a:tblPr/>
              <a:tblGrid>
                <a:gridCol w="2538360"/>
                <a:gridCol w="453960"/>
                <a:gridCol w="611280"/>
                <a:gridCol w="582480"/>
                <a:gridCol w="576360"/>
                <a:gridCol w="576360"/>
                <a:gridCol w="504720"/>
                <a:gridCol w="523800"/>
                <a:gridCol w="465120"/>
                <a:gridCol w="465120"/>
                <a:gridCol w="466920"/>
                <a:gridCol w="465120"/>
              </a:tblGrid>
              <a:tr h="137520">
                <a:tc>
                  <a:txBody>
                    <a:bodyPr lIns="57960" rIns="579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ишемические болезни сердц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0.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0- </a:t>
                      </a:r>
                      <a:r>
                        <a:rPr b="1" lang="en-US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37520">
                <a:tc>
                  <a:txBody>
                    <a:bodyPr lIns="57960" rIns="57960" tIns="0" bIns="0" anchor="ctr">
                      <a:noAutofit/>
                    </a:bodyPr>
                    <a:p>
                      <a:pPr marL="270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тенокард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4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ее: нестабильная стенокард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4.1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20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57960" rIns="57960" tIns="0" bIns="0" anchor="ctr">
                      <a:noAutofit/>
                    </a:bodyPr>
                    <a:p>
                      <a:pPr marL="270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рый инфаркт миокар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4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57960" rIns="57960" tIns="0" bIns="0" anchor="ctr">
                      <a:noAutofit/>
                    </a:bodyPr>
                    <a:p>
                      <a:pPr marL="270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торный инфаркт миокар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4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7960" rIns="57960" tIns="0" bIns="0" anchor="ctr">
                      <a:noAutofit/>
                    </a:bodyPr>
                    <a:p>
                      <a:pPr marL="270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формы острых ишемических болезней сердц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4.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7960" rIns="57960" tIns="0" bIns="0" anchor="ctr">
                      <a:noAutofit/>
                    </a:bodyPr>
                    <a:p>
                      <a:pPr marL="270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роническая ишемическая болезнь сердц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4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ее: постинфарктный кардиосклеро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4.5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25.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44984-0C62-45AB-9FDB-8C08FDBEE0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17T11:05:35Z</dcterms:created>
  <dc:creator>Арсений А. Кучерявый</dc:creator>
  <dc:description/>
  <dc:language>en-US</dc:language>
  <cp:lastModifiedBy>emano</cp:lastModifiedBy>
  <cp:lastPrinted>2018-11-24T15:54:01Z</cp:lastPrinted>
  <dcterms:modified xsi:type="dcterms:W3CDTF">2019-12-01T21:41:00Z</dcterms:modified>
  <cp:revision>659</cp:revision>
  <dc:subject/>
  <dc:title>Видеотрансляция по вопросам мониторинга донорских органов и тканей человека, доноров органов и тканей, пациентов (реципиентов)</dc:title>
</cp:coreProperties>
</file>