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6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367-9D65-4325-A506-02B9104B39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F1F9-03F0-43B6-9D9A-63235C911F0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63E-970F-4EE5-8038-9E268FB0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5AA-6E52-4D5A-9726-8C4DE06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CE9-0576-4414-A88C-269CE767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6D1-172F-4C22-9433-F5C55F12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EE15-1FF7-47CD-BFF8-967F47DEA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277C-7488-491C-B644-1F436B2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2AC1-0341-4478-A5F5-532939F6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B49E-ED30-4BA9-8AB8-F8FEBB28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1F9-F5BF-4960-83B8-5C6D0FDA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406B-7A6C-416A-9FAA-C1C2F8B7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86E5-24AD-42C9-B4D1-EC55D6C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4F-5548-433A-933E-2ACF37F4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B14C8-BC2F-4BA3-BA72-55D3740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787C-B17A-4532-80B4-5FA1BA8E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AF76-F1E1-4DEE-B727-223FD1F6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E107-1D58-4637-B519-42287426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3269-9ABF-49E2-A981-77DD8327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CB51-3557-4A9F-9D8F-DCDEE28D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BE885-C809-4E15-B191-36EBA73C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FDB3-3C36-4C2A-91B3-A0E638F2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5414-49D4-42AA-A241-2261953A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AD482-77E7-4BD5-AF8E-10598417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D4D0-C4AD-4DAB-92B4-163A0ADC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470D8-15B9-4E49-89E5-31B36380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9372-DED1-4C3A-A415-74246EE9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5291-DBF8-4C4A-BE8B-4C7137C3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CED1-8D71-4C74-9026-FA26F450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CEA89-8528-4EE2-868C-934AC8AD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437B6-1724-47D9-BA1D-E5750227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EB652-B515-4D6C-AE3C-070E89FD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6C07-B754-4F4F-B9FB-F07BDF1B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9911-BEF6-4457-9067-56CC14D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6E3A-1D5D-4AAC-8288-E4EECAE6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F51B-A0E9-43A0-8011-FADA9A96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EA781-5BFA-48D5-8CFA-2FC8202D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44ED6-4EB0-493D-9F17-300B90C4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D04A8-94D6-4929-A6AD-C4E82E8F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0ECC3-C8F1-49BD-ABDF-75F9D2BF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1C23-7041-4934-8780-0771BE0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7947-6833-403C-AAFB-D1145348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B945F-D6FB-46F9-ADF0-FE0A1C4A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D21DF-5CA5-431D-B3AD-C33E7A3F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AEDA7-C3D9-4374-AF85-3160D880A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52F-9568-4A78-A603-A57ACCC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5B2-DE1A-4D69-8C59-F2A10AB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94A-BCB8-422F-AC28-FD9E875A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38C-B4AF-4A58-A3DB-775F5FE6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3A3-D4EA-4FF7-8DC5-1A2D03FC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58E-19B3-413A-A1AC-BEA6A68067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9C98-F765-4BBB-B1FC-FDC1CEE3BA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40DF-4EF2-4F50-B710-BE37A6E1160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BD09-4EA6-46D1-A383-5025D294A0D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5" descr=""/>
          <p:cNvPicPr/>
          <p:nvPr/>
        </p:nvPicPr>
        <p:blipFill>
          <a:blip r:embed="rId1"/>
          <a:stretch/>
        </p:blipFill>
        <p:spPr>
          <a:xfrm>
            <a:off x="596880" y="762120"/>
            <a:ext cx="8150400" cy="167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arcdm"/>
          <p:cNvPicPr/>
          <p:nvPr/>
        </p:nvPicPr>
        <p:blipFill>
          <a:blip r:embed="rId2"/>
          <a:stretch/>
        </p:blipFill>
        <p:spPr>
          <a:xfrm>
            <a:off x="539640" y="5276880"/>
            <a:ext cx="897120" cy="1066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5"/>
          <p:cNvSpPr/>
          <p:nvPr/>
        </p:nvSpPr>
        <p:spPr>
          <a:xfrm>
            <a:off x="2057400" y="5029200"/>
            <a:ext cx="6678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газейщикова Наталья Геннадье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альник отдела статистик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я сбора и обработки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тивной информац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  СМК  ФМБА  Росси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Rectangle 5" descr=""/>
          <p:cNvPicPr/>
          <p:nvPr/>
        </p:nvPicPr>
        <p:blipFill>
          <a:blip r:embed="rId3"/>
          <a:stretch/>
        </p:blipFill>
        <p:spPr>
          <a:xfrm>
            <a:off x="566640" y="2560680"/>
            <a:ext cx="8285400" cy="2200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8160" y="4633920"/>
            <a:ext cx="9040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до начала эвакуации </a:t>
            </a: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0/31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Прямоугольник 2"/>
          <p:cNvSpPr/>
          <p:nvPr/>
        </p:nvSpPr>
        <p:spPr>
          <a:xfrm>
            <a:off x="6210360" y="22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 продолжение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4" name="Таблица 6" descr=""/>
          <p:cNvPicPr/>
          <p:nvPr/>
        </p:nvPicPr>
        <p:blipFill>
          <a:blip r:embed="rId1"/>
          <a:stretch/>
        </p:blipFill>
        <p:spPr>
          <a:xfrm>
            <a:off x="371520" y="695160"/>
            <a:ext cx="5522760" cy="39373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3"/>
          <p:cNvSpPr/>
          <p:nvPr/>
        </p:nvSpPr>
        <p:spPr>
          <a:xfrm>
            <a:off x="914400" y="4952880"/>
            <a:ext cx="1752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Прямоугольник 12"/>
          <p:cNvSpPr/>
          <p:nvPr/>
        </p:nvSpPr>
        <p:spPr>
          <a:xfrm>
            <a:off x="5867280" y="13590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6/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Прямоугольник 13"/>
          <p:cNvSpPr/>
          <p:nvPr/>
        </p:nvSpPr>
        <p:spPr>
          <a:xfrm>
            <a:off x="5857920" y="192420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28/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5886360" y="250524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6/7  ≥  графа 30/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81000" y="5546880"/>
            <a:ext cx="9040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ваку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ходе эвакуации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Прямоугольник 3"/>
          <p:cNvSpPr/>
          <p:nvPr/>
        </p:nvSpPr>
        <p:spPr>
          <a:xfrm>
            <a:off x="1066680" y="57531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6/27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Прямоугольник 3"/>
          <p:cNvSpPr/>
          <p:nvPr/>
        </p:nvSpPr>
        <p:spPr>
          <a:xfrm>
            <a:off x="5170320" y="5757840"/>
            <a:ext cx="1893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2/33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Прямоугольник 18"/>
          <p:cNvSpPr/>
          <p:nvPr/>
        </p:nvSpPr>
        <p:spPr>
          <a:xfrm>
            <a:off x="5888160" y="3141720"/>
            <a:ext cx="32652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6/27  ≥  графа 32/3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92160" y="6110280"/>
            <a:ext cx="8823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итализированных показываем →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ибших в мед.организациях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Прямоугольник 3"/>
          <p:cNvSpPr/>
          <p:nvPr/>
        </p:nvSpPr>
        <p:spPr>
          <a:xfrm>
            <a:off x="990720" y="640080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 000  графа 28/29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5886360" y="6400800"/>
            <a:ext cx="1649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графа 34/35) </a:t>
            </a:r>
            <a:endParaRPr b="0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Прямоугольник 22"/>
          <p:cNvSpPr/>
          <p:nvPr/>
        </p:nvSpPr>
        <p:spPr>
          <a:xfrm>
            <a:off x="5856120" y="3649680"/>
            <a:ext cx="327672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28/29  ≥  графа 34/3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28600" y="13824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коечного фонда медицинских организаций в чрезвычайных ситуациях (ЧС)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232200" y="4748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9" name="Таблица 4" descr=""/>
          <p:cNvPicPr/>
          <p:nvPr/>
        </p:nvPicPr>
        <p:blipFill>
          <a:blip r:embed="rId1"/>
          <a:stretch/>
        </p:blipFill>
        <p:spPr>
          <a:xfrm>
            <a:off x="219240" y="781200"/>
            <a:ext cx="8699400" cy="45291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5"/>
          <p:cNvSpPr/>
          <p:nvPr/>
        </p:nvSpPr>
        <p:spPr>
          <a:xfrm>
            <a:off x="228600" y="5257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ивших пораже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стр.  1  графа  4 / 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о госпитализированны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28 / 2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Прямоугольник 6"/>
          <p:cNvSpPr/>
          <p:nvPr/>
        </p:nvSpPr>
        <p:spPr>
          <a:xfrm>
            <a:off x="290520" y="6019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5000  стр.  1  графа  8 / 9 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число погибших (умерших) в медицинской организации 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таблица 4000  стр.  1  графа  34 / 35 )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2514600" y="2416320"/>
            <a:ext cx="6400800" cy="1770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5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≤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7 (графа с 4 по 9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4/5 = графа 6/7 + 8/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1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4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4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5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3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857160" y="86040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чет среднегодовых кое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55 форма, табл. 5 000 гр. 3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00" y="3505320"/>
          <a:ext cx="8637480" cy="669960"/>
        </p:xfrm>
        <a:graphic>
          <a:graphicData uri="http://schemas.openxmlformats.org/drawingml/2006/table">
            <a:tbl>
              <a:tblPr/>
              <a:tblGrid>
                <a:gridCol w="4464000"/>
                <a:gridCol w="360360"/>
                <a:gridCol w="647640"/>
                <a:gridCol w="505080"/>
                <a:gridCol w="1008000"/>
                <a:gridCol w="287280"/>
                <a:gridCol w="1365120"/>
              </a:tblGrid>
              <a:tr h="335520">
                <a:tc>
                  <a:txBody>
                    <a:bodyPr lIns="43920" rIns="439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 коек х 3 дня  + 10 коек х 2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3920" rIns="439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2 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3920" marR="43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 ден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3920" marR="43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5280" y="5334120"/>
          <a:ext cx="7993080" cy="1008000"/>
        </p:xfrm>
        <a:graphic>
          <a:graphicData uri="http://schemas.openxmlformats.org/drawingml/2006/table">
            <a:tbl>
              <a:tblPr/>
              <a:tblGrid>
                <a:gridCol w="2851200"/>
                <a:gridCol w="460440"/>
                <a:gridCol w="593640"/>
                <a:gridCol w="388800"/>
                <a:gridCol w="1825920"/>
                <a:gridCol w="255240"/>
                <a:gridCol w="1617840"/>
              </a:tblGrid>
              <a:tr h="505080">
                <a:tc>
                  <a:txBody>
                    <a:bodyPr lIns="53280" rIns="53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,4  + 1,5  + 0,5 + 2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3280" rIns="53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48 койки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3280" rIns="53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5 койк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3280" marR="53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3280" marR="53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6" name="Rectangle 1"/>
          <p:cNvSpPr/>
          <p:nvPr/>
        </p:nvSpPr>
        <p:spPr>
          <a:xfrm>
            <a:off x="395280" y="182736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месячных коек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было развернуто: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января – 8 коек             8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января – 8 коек             9 января – 10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января – 8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395280" y="426708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Расчет среднегодовых коек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– 1,4 койки, в марте – 1,5 койки, в сентябре - 0,5 койки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– 2,4 койк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"/>
          <p:cNvSpPr/>
          <p:nvPr/>
        </p:nvSpPr>
        <p:spPr>
          <a:xfrm>
            <a:off x="1160640" y="1295280"/>
            <a:ext cx="699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работе учебного центр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460800" y="2133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19040" y="2743200"/>
          <a:ext cx="8553600" cy="1279440"/>
        </p:xfrm>
        <a:graphic>
          <a:graphicData uri="http://schemas.openxmlformats.org/drawingml/2006/table">
            <a:tbl>
              <a:tblPr/>
              <a:tblGrid>
                <a:gridCol w="735120"/>
                <a:gridCol w="1031760"/>
                <a:gridCol w="735120"/>
                <a:gridCol w="641160"/>
                <a:gridCol w="685800"/>
                <a:gridCol w="685800"/>
                <a:gridCol w="762120"/>
                <a:gridCol w="1027080"/>
                <a:gridCol w="752400"/>
                <a:gridCol w="1497240"/>
              </a:tblGrid>
              <a:tr h="213480">
                <a:tc gridSpan="2" row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о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ых цик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учено приемам оказания перв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задействованных преподав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трудни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выез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В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Прямоугольник 4"/>
          <p:cNvSpPr/>
          <p:nvPr/>
        </p:nvSpPr>
        <p:spPr>
          <a:xfrm>
            <a:off x="476280" y="495288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4 + 5 + 6 + 7 + 8  + 9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1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30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36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290880" y="8161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52280" y="2286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роведенных учениях, тренировках и занятиях в ТЦМК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2600" y="1335240"/>
          <a:ext cx="8686800" cy="4449600"/>
        </p:xfrm>
        <a:graphic>
          <a:graphicData uri="http://schemas.openxmlformats.org/drawingml/2006/table">
            <a:tbl>
              <a:tblPr/>
              <a:tblGrid>
                <a:gridCol w="3733920"/>
                <a:gridCol w="685800"/>
                <a:gridCol w="685800"/>
                <a:gridCol w="1066680"/>
                <a:gridCol w="1219320"/>
                <a:gridCol w="1295280"/>
              </a:tblGrid>
              <a:tr h="243720">
                <a:tc row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чрезвычайной ситуац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Ч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чений (тренировок, занят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-штаб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бные трениров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тико-специальные 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генные ЧС - 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пассажирских поездов и поездов метрополит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иационные катастро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на автодорог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водного трансп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жары и взры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АХ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аварии с выбросом О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чие техноген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ные Ч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оугольник 4"/>
          <p:cNvSpPr/>
          <p:nvPr/>
        </p:nvSpPr>
        <p:spPr>
          <a:xfrm>
            <a:off x="228600" y="579132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чений (тренировок, занятий) всего  =  число командно-штабных учений +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штабных тренировок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тактико-специальных учений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4724280" y="2666880"/>
            <a:ext cx="4267440" cy="131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6 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4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 + 11 + 12 + 1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4724280" y="3990960"/>
            <a:ext cx="4267440" cy="551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3 = графа 4 + 5 + 6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1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5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62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69" nodeType="afterEffect" fill="hold" presetClass="entr" presetID="4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475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1"/>
          <p:cNvSpPr/>
          <p:nvPr/>
        </p:nvSpPr>
        <p:spPr>
          <a:xfrm>
            <a:off x="304920" y="380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трассовых пунктов экстрен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Прямоугольник 2"/>
          <p:cNvSpPr/>
          <p:nvPr/>
        </p:nvSpPr>
        <p:spPr>
          <a:xfrm>
            <a:off x="384480" y="11444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752480"/>
          <a:ext cx="8229600" cy="4389480"/>
        </p:xfrm>
        <a:graphic>
          <a:graphicData uri="http://schemas.openxmlformats.org/drawingml/2006/table">
            <a:tbl>
              <a:tblPr/>
              <a:tblGrid>
                <a:gridCol w="6705720"/>
                <a:gridCol w="762120"/>
                <a:gridCol w="761760"/>
              </a:tblGrid>
              <a:tr h="4870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ссовые пункты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трассовые пункты территориальных центров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ов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была медицинская помощь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ваку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итализировано всего, ч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е, которым оказана помощь авиамедицинской бригадой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шие во время медицинск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умерших во время санитарно-авиационной эвакуации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етей 0-17 лет включ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1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9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9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5"/>
          <p:cNvSpPr/>
          <p:nvPr/>
        </p:nvSpPr>
        <p:spPr>
          <a:xfrm>
            <a:off x="2468520" y="762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6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TextBox 5"/>
          <p:cNvSpPr/>
          <p:nvPr/>
        </p:nvSpPr>
        <p:spPr>
          <a:xfrm>
            <a:off x="247680" y="167652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ОТДЕЛЕНИЯ  ЭКСТРЕННОЙ КОНСУЛЬТАТИВНОЙ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 ПОМОЩИ И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МЕДИЦИНСКОЙ ЭВАКУАЦИИ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0" dur="2000" fill="hold"/>
                                        <p:tgtEl>
                                          <p:spTgt spid="2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1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51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1"/>
          <p:cNvSpPr/>
          <p:nvPr/>
        </p:nvSpPr>
        <p:spPr>
          <a:xfrm>
            <a:off x="609480" y="763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тделении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44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374040" y="758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80880" y="1114560"/>
          <a:ext cx="8001000" cy="4543200"/>
        </p:xfrm>
        <a:graphic>
          <a:graphicData uri="http://schemas.openxmlformats.org/drawingml/2006/table">
            <a:tbl>
              <a:tblPr/>
              <a:tblGrid>
                <a:gridCol w="6416640"/>
                <a:gridCol w="677880"/>
                <a:gridCol w="906480"/>
              </a:tblGrid>
              <a:tr h="639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- 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на базе областной, краевой, республиканской, окружной боль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ов отделений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 муниципальных образова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х медицинских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й, оказывающие медицинскую помощь детям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на баз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медицины катастро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 детской больницы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о-консультативны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бригады перинатального цен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ик 4"/>
          <p:cNvSpPr/>
          <p:nvPr/>
        </p:nvSpPr>
        <p:spPr>
          <a:xfrm>
            <a:off x="338040" y="5715000"/>
            <a:ext cx="370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1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5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6 + 7 + 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457200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9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9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0 +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1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0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1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2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3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1"/>
          <p:cNvSpPr/>
          <p:nvPr/>
        </p:nvSpPr>
        <p:spPr>
          <a:xfrm>
            <a:off x="76320" y="189000"/>
            <a:ext cx="906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отделения экстренной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нсультативной медицинской помощ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Прямоугольник 2"/>
          <p:cNvSpPr/>
          <p:nvPr/>
        </p:nvSpPr>
        <p:spPr>
          <a:xfrm>
            <a:off x="384480" y="838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80880" y="1219320"/>
          <a:ext cx="8534520" cy="5165640"/>
        </p:xfrm>
        <a:graphic>
          <a:graphicData uri="http://schemas.openxmlformats.org/drawingml/2006/table">
            <a:tbl>
              <a:tblPr/>
              <a:tblGrid>
                <a:gridCol w="2590920"/>
                <a:gridCol w="762120"/>
                <a:gridCol w="685800"/>
                <a:gridCol w="761760"/>
                <a:gridCol w="1295640"/>
                <a:gridCol w="761760"/>
                <a:gridCol w="609840"/>
                <a:gridCol w="533160"/>
                <a:gridCol w="533520"/>
              </a:tblGrid>
              <a:tr h="73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                                         статус спас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лификационн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 marL="34920" indent="3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атологи-ортоп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-реаним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ы-гине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ди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хирур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429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персонал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0" rIns="0" tIns="0" bIns="0" anchor="t">
                      <a:noAutofit/>
                    </a:bodyPr>
                    <a:p>
                      <a:pPr marL="155520" indent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сест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Прямоугольник 4"/>
          <p:cNvSpPr/>
          <p:nvPr/>
        </p:nvSpPr>
        <p:spPr>
          <a:xfrm>
            <a:off x="4419720" y="3036960"/>
            <a:ext cx="4495680" cy="2379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6 + 1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9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≥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125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268560" y="660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Прямоугольник 2"/>
          <p:cNvSpPr/>
          <p:nvPr/>
        </p:nvSpPr>
        <p:spPr>
          <a:xfrm>
            <a:off x="0" y="76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отделения экстренной 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тивной медицинской помощи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04920" y="1146240"/>
          <a:ext cx="8686800" cy="1903320"/>
        </p:xfrm>
        <a:graphic>
          <a:graphicData uri="http://schemas.openxmlformats.org/drawingml/2006/table">
            <a:tbl>
              <a:tblPr/>
              <a:tblGrid>
                <a:gridCol w="609480"/>
                <a:gridCol w="533520"/>
                <a:gridCol w="533160"/>
                <a:gridCol w="533520"/>
                <a:gridCol w="609480"/>
                <a:gridCol w="914400"/>
                <a:gridCol w="533520"/>
                <a:gridCol w="533520"/>
                <a:gridCol w="533160"/>
                <a:gridCol w="533520"/>
                <a:gridCol w="533520"/>
                <a:gridCol w="609480"/>
                <a:gridCol w="533520"/>
                <a:gridCol w="533160"/>
                <a:gridCol w="609840"/>
              </a:tblGrid>
              <a:tr h="182880"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 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8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ми работни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госпитальном этап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7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8600" y="3352680"/>
          <a:ext cx="8686800" cy="1684440"/>
        </p:xfrm>
        <a:graphic>
          <a:graphicData uri="http://schemas.openxmlformats.org/drawingml/2006/table">
            <a:tbl>
              <a:tblPr/>
              <a:tblGrid>
                <a:gridCol w="826920"/>
                <a:gridCol w="773280"/>
                <a:gridCol w="685800"/>
                <a:gridCol w="762120"/>
                <a:gridCol w="1066680"/>
                <a:gridCol w="1219320"/>
                <a:gridCol w="1143000"/>
                <a:gridCol w="1143000"/>
                <a:gridCol w="1066680"/>
              </a:tblGrid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а медицинская помощь,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9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rowSpan="6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Ч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адавшим в ДТ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360" rIns="63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дет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д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2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Прямоугольник 6"/>
          <p:cNvSpPr/>
          <p:nvPr/>
        </p:nvSpPr>
        <p:spPr>
          <a:xfrm>
            <a:off x="7010280" y="30481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Прямоугольник 7"/>
          <p:cNvSpPr/>
          <p:nvPr/>
        </p:nvSpPr>
        <p:spPr>
          <a:xfrm>
            <a:off x="206280" y="51814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а медицинская помощь, человек  ВСЕГО  =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оказанной  медицинской помощи на догоспитальном  этапе (всего) +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в стационарных  условиях  (всего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Прямоугольник 10"/>
          <p:cNvSpPr/>
          <p:nvPr/>
        </p:nvSpPr>
        <p:spPr>
          <a:xfrm>
            <a:off x="163440" y="608796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3 /(4/5)</a:t>
            </a:r>
            <a:r>
              <a:rPr b="1" lang="ru-RU" sz="22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таблица 3000  графа   7  (8/9) +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Garamond"/>
              </a:rPr>
              <a:t>+ 16 (17/18)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1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8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0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1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5"/>
          <p:cNvSpPr/>
          <p:nvPr/>
        </p:nvSpPr>
        <p:spPr>
          <a:xfrm>
            <a:off x="2438280" y="1066680"/>
            <a:ext cx="436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А № 55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62120" y="2057400"/>
            <a:ext cx="7619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ВЕДЕНИЯ  О ДЕЯТЕЛЬНОСТИ   СЛУЖБЫ МЕДИЦИНЫ  КАТАСТРОФ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УБЪЕКТА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за  2020  год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2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4,6,21)"/>
                                      </p:to>
                                    </p:set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52280" y="762120"/>
          <a:ext cx="6096240" cy="5776920"/>
        </p:xfrm>
        <a:graphic>
          <a:graphicData uri="http://schemas.openxmlformats.org/drawingml/2006/table">
            <a:tbl>
              <a:tblPr/>
              <a:tblGrid>
                <a:gridCol w="5486400"/>
                <a:gridCol w="609840"/>
              </a:tblGrid>
              <a:tr h="3963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marL="20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 экстренную консультативную медицинскую помощь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получивших санитарно-авиационную помощь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нсультаций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заочные консультации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телефону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электронной почт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рименение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технологий, все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елемедицинские 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консуль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ные консультации, всего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с проведением:                          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ческих операц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нимационных мероприят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эвакуированных лиц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авиационным транспортом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авто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для оказания медицинской помощи 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при медицинской эвак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упивших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заявок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ционны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м транспорт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м транспортом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Прямоугольник 5"/>
          <p:cNvSpPr/>
          <p:nvPr/>
        </p:nvSpPr>
        <p:spPr>
          <a:xfrm>
            <a:off x="76320" y="228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продолжени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6248520" y="1600200"/>
            <a:ext cx="2819160" cy="4208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3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4 + 1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4  = стр.5 + 6 + 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7  = стр.8+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0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≥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тр.11+1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13=стр.14+15+1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20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21+22+2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5"/>
          <p:cNvSpPr/>
          <p:nvPr/>
        </p:nvSpPr>
        <p:spPr>
          <a:xfrm>
            <a:off x="533520" y="1828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1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Прямоугольник 1"/>
          <p:cNvSpPr/>
          <p:nvPr/>
        </p:nvSpPr>
        <p:spPr>
          <a:xfrm>
            <a:off x="1600200" y="31240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авлено: 1 – препаратов крови (л.) __________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 – медицинских грузов (тн.) __________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0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2"/>
          <p:cNvSpPr/>
          <p:nvPr/>
        </p:nvSpPr>
        <p:spPr>
          <a:xfrm>
            <a:off x="274680" y="144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ыездной работ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я экстренной и консультативной медицинской помощи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Прямоугольник 1"/>
          <p:cNvSpPr/>
          <p:nvPr/>
        </p:nvSpPr>
        <p:spPr>
          <a:xfrm>
            <a:off x="115200" y="5364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19080" y="798480"/>
            <a:ext cx="9037440" cy="54100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7"/>
          <p:cNvSpPr/>
          <p:nvPr/>
        </p:nvSpPr>
        <p:spPr>
          <a:xfrm>
            <a:off x="2389320" y="3048120"/>
            <a:ext cx="61722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4000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1=стр.2+3+4+5+6+7+8+9+10+11+12+13+14+15+16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Прямоугольник 8"/>
          <p:cNvSpPr/>
          <p:nvPr/>
        </p:nvSpPr>
        <p:spPr>
          <a:xfrm>
            <a:off x="2389320" y="3710160"/>
            <a:ext cx="6172200" cy="192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 9   =   графа  15 + 21 + 27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0  =   графа  16 + 22 + 2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1  =   графа  17 + 23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2  =   графа  18 + 24 + 3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3  =   графа  19 + 25 + 3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графа  14  =   графа  20 + 26 + 3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Прямоугольник 4"/>
          <p:cNvSpPr/>
          <p:nvPr/>
        </p:nvSpPr>
        <p:spPr>
          <a:xfrm>
            <a:off x="1523880" y="5668920"/>
            <a:ext cx="74678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всего =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числу эвакуированных в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ональ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районны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ые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рганизации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669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7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68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Прямоугольник 2"/>
          <p:cNvSpPr/>
          <p:nvPr/>
        </p:nvSpPr>
        <p:spPr>
          <a:xfrm>
            <a:off x="1676520" y="8380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ТАБЛИЧНЫЙ    КОНТРОЛ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Прямоугольник 4"/>
          <p:cNvSpPr/>
          <p:nvPr/>
        </p:nvSpPr>
        <p:spPr>
          <a:xfrm>
            <a:off x="233280" y="1752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получивших экстренную консультативную медицинскую помощь, пострадавшим в ЧС=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числу оказанной экстренной консультативной медицинской помощи,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адавшим в ЧС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Прямоугольник 1"/>
          <p:cNvSpPr/>
          <p:nvPr/>
        </p:nvSpPr>
        <p:spPr>
          <a:xfrm>
            <a:off x="271440" y="30481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 гр. 10 (11/12) + стр. 1 гр. 19(20/21) =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= таблица 4 000  стр. 1 гр. 6 (7/8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Прямоугольник 4"/>
          <p:cNvSpPr/>
          <p:nvPr/>
        </p:nvSpPr>
        <p:spPr>
          <a:xfrm>
            <a:off x="195120" y="4173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эвакуированных отделениями экстренной и консультативной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Прямоугольник 1"/>
          <p:cNvSpPr/>
          <p:nvPr/>
        </p:nvSpPr>
        <p:spPr>
          <a:xfrm>
            <a:off x="233280" y="49528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3 000  стр. 13 гр.3 (4/5) = таблица 4 000  стр. 1 гр. 9 (10/11)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0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4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5440" y="4680"/>
            <a:ext cx="367848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ЕЦ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TextBox 5"/>
          <p:cNvSpPr/>
          <p:nvPr/>
        </p:nvSpPr>
        <p:spPr>
          <a:xfrm>
            <a:off x="366840" y="990720"/>
            <a:ext cx="8381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шифровка ФОРМА №55, таблица 2000 (стр. 29, 40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685800" y="1752480"/>
          <a:ext cx="7948440" cy="2951280"/>
        </p:xfrm>
        <a:graphic>
          <a:graphicData uri="http://schemas.openxmlformats.org/drawingml/2006/table">
            <a:tbl>
              <a:tblPr/>
              <a:tblGrid>
                <a:gridCol w="2004840"/>
                <a:gridCol w="609840"/>
                <a:gridCol w="761760"/>
                <a:gridCol w="685800"/>
                <a:gridCol w="914400"/>
                <a:gridCol w="838440"/>
                <a:gridCol w="761760"/>
                <a:gridCol w="685800"/>
                <a:gridCol w="685800"/>
              </a:tblGrid>
              <a:tr h="6300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 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рач-метод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b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испетч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 marL="128520" indent="2541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Calibri"/>
                        </a:rPr>
                        <a:t>бухгал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952880"/>
          <a:ext cx="8015400" cy="1252800"/>
        </p:xfrm>
        <a:graphic>
          <a:graphicData uri="http://schemas.openxmlformats.org/drawingml/2006/table">
            <a:tbl>
              <a:tblPr/>
              <a:tblGrid>
                <a:gridCol w="2340000"/>
                <a:gridCol w="274680"/>
                <a:gridCol w="2616120"/>
                <a:gridCol w="276480"/>
                <a:gridCol w="2508120"/>
              </a:tblGrid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лжно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.И.О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дпис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____» _________20__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омер контактного телефон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ата со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Прямоугольник 6"/>
          <p:cNvSpPr/>
          <p:nvPr/>
        </p:nvSpPr>
        <p:spPr>
          <a:xfrm rot="19653000">
            <a:off x="3484080" y="5149800"/>
            <a:ext cx="2362320" cy="609480"/>
          </a:xfrm>
          <a:prstGeom prst="rect">
            <a:avLst/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nstantia"/>
              </a:rPr>
              <a:t>П Е Ч А Т Ь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8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9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30" dur="3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1" dur="3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2" dur="3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1258920" y="1413000"/>
            <a:ext cx="5977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Благодарю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за </a:t>
            </a:r>
            <a:br>
              <a:rPr sz="6000"/>
            </a:br>
            <a:r>
              <a:rPr b="1" i="1" lang="ru-RU" sz="6000" spc="-1" strike="noStrike">
                <a:solidFill>
                  <a:srgbClr val="f33711"/>
                </a:solidFill>
                <a:latin typeface="Arial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1" name="Прямоугольник 2"/>
          <p:cNvSpPr/>
          <p:nvPr/>
        </p:nvSpPr>
        <p:spPr>
          <a:xfrm>
            <a:off x="125280" y="4724280"/>
            <a:ext cx="8599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ГБУ ВЦМК «ЗАЩИТА»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 статистик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сбора и обработки оперативной информации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У  СМК  ФМБА Росси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л. 8 (499) 190-46-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676520" y="4665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центре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47760" y="1206360"/>
          <a:ext cx="8262720" cy="4524480"/>
        </p:xfrm>
        <a:graphic>
          <a:graphicData uri="http://schemas.openxmlformats.org/drawingml/2006/table">
            <a:tbl>
              <a:tblPr/>
              <a:tblGrid>
                <a:gridCol w="5638680"/>
                <a:gridCol w="838080"/>
                <a:gridCol w="1785960"/>
              </a:tblGrid>
              <a:tr h="61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ет – 0, да -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: самостоятельный цент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иал центра медицины катастро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на базе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ластной, краевой, республиканской, окруж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ции скорой медицинск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ей медицинской орган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чиненно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айо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регион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ско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Прямоугольник 3"/>
          <p:cNvSpPr/>
          <p:nvPr/>
        </p:nvSpPr>
        <p:spPr>
          <a:xfrm>
            <a:off x="471960" y="836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369720" y="57150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таблица 1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3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4 + 5 + 6 + 7 + 8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9</a:t>
            </a:r>
            <a:r>
              <a:rPr b="1" lang="ru-RU" sz="2000" spc="-1" strike="noStrike">
                <a:solidFill>
                  <a:srgbClr val="ff0000"/>
                </a:solidFill>
                <a:latin typeface="Garamond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Garamond"/>
              </a:rPr>
              <a:t>стр.  10 + 11 + 12 + 13 + 1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25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1143000" y="511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кадрах центров медицины катастроф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Прямоугольник 2"/>
          <p:cNvSpPr/>
          <p:nvPr/>
        </p:nvSpPr>
        <p:spPr>
          <a:xfrm>
            <a:off x="349560" y="99072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04920" y="1371600"/>
          <a:ext cx="8458200" cy="4738680"/>
        </p:xfrm>
        <a:graphic>
          <a:graphicData uri="http://schemas.openxmlformats.org/drawingml/2006/table">
            <a:tbl>
              <a:tblPr/>
              <a:tblGrid>
                <a:gridCol w="2438280"/>
                <a:gridCol w="609480"/>
                <a:gridCol w="533520"/>
                <a:gridCol w="514440"/>
                <a:gridCol w="1085760"/>
                <a:gridCol w="914400"/>
                <a:gridCol w="838080"/>
                <a:gridCol w="762120"/>
                <a:gridCol w="762120"/>
              </a:tblGrid>
              <a:tr h="6397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физических лиц основны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статус спас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ют квалификационную категор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всего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 том числе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с высш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едицинск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из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 -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 персонал–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лжнос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Прямоугольник 4"/>
          <p:cNvSpPr/>
          <p:nvPr/>
        </p:nvSpPr>
        <p:spPr>
          <a:xfrm>
            <a:off x="3429000" y="3048120"/>
            <a:ext cx="5334120" cy="1313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2000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2 + 3 + 4 … + 2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43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=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.  1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8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9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1" i="1" lang="ru-RU" sz="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5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≥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афа 7 + 8 + 9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1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71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685800" y="685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(СМК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Прямоугольник 2"/>
          <p:cNvSpPr/>
          <p:nvPr/>
        </p:nvSpPr>
        <p:spPr>
          <a:xfrm>
            <a:off x="197280" y="13287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219240" y="1689120"/>
            <a:ext cx="8712000" cy="1785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4"/>
          <p:cNvSpPr/>
          <p:nvPr/>
        </p:nvSpPr>
        <p:spPr>
          <a:xfrm>
            <a:off x="222120" y="3633840"/>
            <a:ext cx="884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3 указываем число всех формирований С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графе 4 указываем число формирований, состоящих в штате ЦМК</a:t>
            </a:r>
            <a:endParaRPr b="0" lang="en-US" sz="21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0" name="Прямоугольник 4"/>
          <p:cNvSpPr/>
          <p:nvPr/>
        </p:nvSpPr>
        <p:spPr>
          <a:xfrm>
            <a:off x="184320" y="4572000"/>
            <a:ext cx="8721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3 и 4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ываем число формирований задействованных в СМК (на конец отчетного года)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184320" y="5486400"/>
            <a:ext cx="866448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графах 5 и 6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указываем количество выездов формирований СМК  на ликвидацию медико-санитарных последствий ЧС.</a:t>
            </a:r>
            <a:endParaRPr b="0" lang="en-US" sz="23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1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9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11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3520" y="112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службы медицины катастро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К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Прямоугольник 2"/>
          <p:cNvSpPr/>
          <p:nvPr/>
        </p:nvSpPr>
        <p:spPr>
          <a:xfrm>
            <a:off x="6324480" y="59040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4" name="Таблица 3" descr=""/>
          <p:cNvPicPr/>
          <p:nvPr/>
        </p:nvPicPr>
        <p:blipFill>
          <a:blip r:embed="rId1"/>
          <a:stretch/>
        </p:blipFill>
        <p:spPr>
          <a:xfrm>
            <a:off x="274680" y="2073240"/>
            <a:ext cx="8710560" cy="178596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304920" y="1074600"/>
            <a:ext cx="864540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таблица 3000 стр.1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=</a:t>
            </a:r>
            <a:r>
              <a:rPr b="1" i="1" lang="ru-RU" sz="2400" spc="-1" strike="noStrike">
                <a:solidFill>
                  <a:srgbClr val="ff0000"/>
                </a:solidFill>
                <a:latin typeface="Garamond"/>
              </a:rPr>
              <a:t> стр. 2+3+4+5+30+31+32+33+50+51+52+56+57+58+59+60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1558800" y="1905120"/>
            <a:ext cx="7391520" cy="5031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ирования службы медицины катастроф, всего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1)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ходят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вой многопрофильный госпитал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го реаг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специализирован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чебно-сестрин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ы экстренной доврачебн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3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противоэпидем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отря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но-эпидемиологические бригады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радиационн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санитарно-эпидемиологической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7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химической (токсикологической) разведки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ая  группа ТЦМК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5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е формирования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тр.60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4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4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41436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Прямоугольник 2"/>
          <p:cNvSpPr/>
          <p:nvPr/>
        </p:nvSpPr>
        <p:spPr>
          <a:xfrm>
            <a:off x="604800" y="4495680"/>
            <a:ext cx="815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ЧС с медико-санитарными последствиями должны соответствовать, представленным донесениям в ВСЕРОССИЙСКУЮ СИСТЕМУ ОПЕРАТИВНЫХ ДОНЕСЕНИЙ О ЧРЕЗВЫЧАЙНЫХ СИТУАЦИЯХ в ВЦМК «ЗАЩИТА»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308320" y="1495440"/>
            <a:ext cx="42577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125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61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7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8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69" dur="1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1"/>
          <p:cNvSpPr/>
          <p:nvPr/>
        </p:nvSpPr>
        <p:spPr>
          <a:xfrm>
            <a:off x="423720" y="6094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чрезвычайных ситуациях (ЧС), числе пострадавших, видам оказанной помощи и степени тяжести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Прямоугольник 2"/>
          <p:cNvSpPr/>
          <p:nvPr/>
        </p:nvSpPr>
        <p:spPr>
          <a:xfrm>
            <a:off x="408240" y="13716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2" name="Таблица 8" descr=""/>
          <p:cNvPicPr/>
          <p:nvPr/>
        </p:nvPicPr>
        <p:blipFill>
          <a:blip r:embed="rId1"/>
          <a:stretch/>
        </p:blipFill>
        <p:spPr>
          <a:xfrm>
            <a:off x="401760" y="1633680"/>
            <a:ext cx="8218440" cy="32004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542880" y="4863960"/>
            <a:ext cx="80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страдавших = число пораженных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погибш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Прямоугольник 5"/>
          <p:cNvSpPr/>
          <p:nvPr/>
        </p:nvSpPr>
        <p:spPr>
          <a:xfrm>
            <a:off x="228600" y="5334120"/>
            <a:ext cx="87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гибшими (графа 8 и 9)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ются люди, которые умерли на месте ЧС,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о прибытия бригад СМП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Прямоугольник 6"/>
          <p:cNvSpPr/>
          <p:nvPr/>
        </p:nvSpPr>
        <p:spPr>
          <a:xfrm>
            <a:off x="652320" y="6041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= числу крайне тяжелых + тяжелых +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+ средней тяжести + легких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125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7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84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9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97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20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2"/>
          <p:cNvSpPr/>
          <p:nvPr/>
        </p:nvSpPr>
        <p:spPr>
          <a:xfrm>
            <a:off x="6315120" y="679320"/>
            <a:ext cx="26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 (продолжение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82760" y="1049400"/>
          <a:ext cx="8458200" cy="2333520"/>
        </p:xfrm>
        <a:graphic>
          <a:graphicData uri="http://schemas.openxmlformats.org/drawingml/2006/table">
            <a:tbl>
              <a:tblPr/>
              <a:tblGrid>
                <a:gridCol w="1447560"/>
                <a:gridCol w="457200"/>
                <a:gridCol w="914400"/>
                <a:gridCol w="762120"/>
                <a:gridCol w="609480"/>
                <a:gridCol w="609840"/>
                <a:gridCol w="990360"/>
                <a:gridCol w="838440"/>
                <a:gridCol w="1041120"/>
                <a:gridCol w="787680"/>
              </a:tblGrid>
              <a:tr h="411120"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чрезвычайных ситу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исло пораженных, которым оказана первая помощ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ы оказанн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в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дик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нит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иализированна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, высоко-технолог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рая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т.ч. скорая  специализирова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57600" rIns="5760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0" rIns="5760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Прямоугольник 3"/>
          <p:cNvSpPr/>
          <p:nvPr/>
        </p:nvSpPr>
        <p:spPr>
          <a:xfrm>
            <a:off x="423720" y="3429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6/7)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Прямоугольник 3"/>
          <p:cNvSpPr/>
          <p:nvPr/>
        </p:nvSpPr>
        <p:spPr>
          <a:xfrm>
            <a:off x="1473120" y="37987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ораженных, которым оказана первая 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18/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первичная медико-санитарная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0/2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пециализированная, в т.ч. высокотехнологичная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2/2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скорая, в т.ч. скорая специализированная мед.помощь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графа 24/2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Прямоугольник 4"/>
          <p:cNvSpPr/>
          <p:nvPr/>
        </p:nvSpPr>
        <p:spPr>
          <a:xfrm>
            <a:off x="1158840" y="5003640"/>
            <a:ext cx="66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е. одному пострадавшему в ЧС может быть оказано несколько видов медицинской помощи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Прямоугольник 6"/>
          <p:cNvSpPr/>
          <p:nvPr/>
        </p:nvSpPr>
        <p:spPr>
          <a:xfrm>
            <a:off x="457200" y="5780160"/>
            <a:ext cx="8686800" cy="106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закон № 323 от 21.11.2011г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сновах охраны здоровья граждан в Российской Федерации»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 с 31 по 35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push dir="u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пов</dc:creator>
  <dc:description/>
  <dc:language>en-US</dc:language>
  <cp:lastModifiedBy>Администратор</cp:lastModifiedBy>
  <cp:lastPrinted>2016-12-07T09:58:05Z</cp:lastPrinted>
  <dcterms:modified xsi:type="dcterms:W3CDTF">2020-12-02T06:47:34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