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DC10-E66A-4FD0-845B-A04BA0B4F0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86BF-44B1-429F-88CA-A3791AF87BC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5D8-3FD8-49BE-9B71-E9F787E0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A224-A08A-47CE-AF2A-B290B25B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5BD-B96E-4CA5-AEE4-D3B78E84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4644-FA29-43D8-8B64-3D2E4451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34B4-A9E3-415D-B1F3-46BC2816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C1E3-349E-4BBD-A16D-5BB03E33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485A-C48A-4628-A1ED-9C9ABE88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FAEB-9021-4F95-8893-78E188A5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98E8-EC5B-4F50-9FA0-4496E065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C808-6A83-4A8D-99D1-1C4F7CE1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DE3C-4E44-4ADA-AE87-C6079A91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71D1-4497-4080-B16E-5DF435DB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DF9B-775B-4421-88B9-42D4781E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2FC5-99B0-4416-9B51-0879558C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29E5-4DFA-47C3-A1A9-591BFAA6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A298-C3E0-4203-92DA-92097E39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797C-5070-43F1-9659-2BA98B31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2995E-655C-4113-A4FF-36AA32FC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4CFF2-B4F4-458D-87E6-83FDE156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567B8-E36A-443B-8E26-B2DBA098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0196B-467D-40D0-BCB2-C9643C74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AF39C-6949-4802-8D1C-60781C08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9AA-37D2-4EF1-82AF-38D58902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A96B6-B088-4260-99AA-C020081C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F6E3D-501D-41A8-B40D-0DAB44DC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A817C-FFA3-4E89-B855-9469522E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CAE56-633F-4390-BD86-D2E21BF4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1210F-E47D-40E9-8ED1-358BA325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BC764-B41D-4598-8920-BB177B21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65522-8A43-422B-9E58-78AAE9E8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CDE79-A591-4238-AC9A-B0CF1FAE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B420D-B830-4440-A69C-A4890352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09A48-4662-4101-9ED9-603B19F5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DB8-59B2-460B-8BDC-093708C5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19387-6591-46D3-8330-33500BAF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72F94-064D-48F6-8751-6D80F44F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6310E-9FEA-4F18-B5C0-2FF7221C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56CCA-CB5A-4B0A-A269-E4501925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C4D2F-4CC7-48BE-BBF2-3EF5C57F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72BF3-05A7-44D5-ACFE-DDBF17FC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875C5-54E0-4E70-8F85-717056DB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D53FE-AC9A-4DFA-8D20-273BE8AE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AC063-C309-4351-B194-AE25451C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D52-DC49-4666-B4C1-48D2B870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9D08-E6D9-42D2-9F58-FB85E3A4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AB9-0462-41E2-81D5-60C51A42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F899-DA47-426A-BBEA-D99C03C8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FA9-E0F9-4C22-9953-C5B8ECB5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4D6B-7F20-4111-A4D4-6D0550EDDCB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2B06-A266-4F9E-AD6E-6389BE96C06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8ACD-7340-4560-9D76-A5F44463697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1047-F3D2-475E-ACD7-1C37C19E67B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676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ик отдела статистик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я сбора и обработк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тивной информаци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  СМК  ФМБА  Росси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28540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4" name="Таблица 6" descr=""/>
          <p:cNvPicPr/>
          <p:nvPr/>
        </p:nvPicPr>
        <p:blipFill>
          <a:blip r:embed="rId1"/>
          <a:stretch/>
        </p:blipFill>
        <p:spPr>
          <a:xfrm>
            <a:off x="371520" y="695160"/>
            <a:ext cx="5522760" cy="393732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9" name="Таблица 4" descr=""/>
          <p:cNvPicPr/>
          <p:nvPr/>
        </p:nvPicPr>
        <p:blipFill>
          <a:blip r:embed="rId1"/>
          <a:stretch/>
        </p:blipFill>
        <p:spPr>
          <a:xfrm>
            <a:off x="219240" y="781200"/>
            <a:ext cx="8699400" cy="45291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1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4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5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6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1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3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4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1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6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9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75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1" dur="1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9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9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К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2" dur="12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2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3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3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12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9" dur="1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8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8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1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0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1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6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6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7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8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0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3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5440" y="4680"/>
            <a:ext cx="36784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ЕЦ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366840" y="9907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ка ФОРМА №55, таблица 2000 (стр. 29, 40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685800" y="1752480"/>
          <a:ext cx="7948440" cy="2951280"/>
        </p:xfrm>
        <a:graphic>
          <a:graphicData uri="http://schemas.openxmlformats.org/drawingml/2006/table">
            <a:tbl>
              <a:tblPr/>
              <a:tblGrid>
                <a:gridCol w="2004840"/>
                <a:gridCol w="609840"/>
                <a:gridCol w="761760"/>
                <a:gridCol w="685800"/>
                <a:gridCol w="914400"/>
                <a:gridCol w="838440"/>
                <a:gridCol w="761760"/>
                <a:gridCol w="685800"/>
                <a:gridCol w="685800"/>
              </a:tblGrid>
              <a:tr h="630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рач-метод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спетч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609480" y="4952880"/>
          <a:ext cx="8015400" cy="1252800"/>
        </p:xfrm>
        <a:graphic>
          <a:graphicData uri="http://schemas.openxmlformats.org/drawingml/2006/table">
            <a:tbl>
              <a:tblPr/>
              <a:tblGrid>
                <a:gridCol w="2340000"/>
                <a:gridCol w="274680"/>
                <a:gridCol w="2616120"/>
                <a:gridCol w="276480"/>
                <a:gridCol w="25081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лжно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.И.О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дпис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 _________20__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мер контактного телефо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ата со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Прямоугольник 6"/>
          <p:cNvSpPr/>
          <p:nvPr/>
        </p:nvSpPr>
        <p:spPr>
          <a:xfrm rot="19653000">
            <a:off x="3484080" y="5149800"/>
            <a:ext cx="2362320" cy="60948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 Е Ч А Т 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28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9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0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1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2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125280" y="4724280"/>
            <a:ext cx="8599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я сбора и обработки оперативной информации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У  СМК  ФМБА Росси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19240" y="1689120"/>
            <a:ext cx="8712000" cy="17859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1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4" name="Таблица 3" descr=""/>
          <p:cNvPicPr/>
          <p:nvPr/>
        </p:nvPicPr>
        <p:blipFill>
          <a:blip r:embed="rId1"/>
          <a:stretch/>
        </p:blipFill>
        <p:spPr>
          <a:xfrm>
            <a:off x="274680" y="2073240"/>
            <a:ext cx="8710560" cy="178596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2" name="Таблица 8" descr=""/>
          <p:cNvPicPr/>
          <p:nvPr/>
        </p:nvPicPr>
        <p:blipFill>
          <a:blip r:embed="rId1"/>
          <a:stretch/>
        </p:blipFill>
        <p:spPr>
          <a:xfrm>
            <a:off x="401760" y="1633680"/>
            <a:ext cx="8218440" cy="32004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9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6315120" y="67932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82760" y="1049400"/>
          <a:ext cx="8458200" cy="233352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914400"/>
                <a:gridCol w="762120"/>
                <a:gridCol w="609480"/>
                <a:gridCol w="609840"/>
                <a:gridCol w="990360"/>
                <a:gridCol w="838440"/>
                <a:gridCol w="1041120"/>
                <a:gridCol w="787680"/>
              </a:tblGrid>
              <a:tr h="41112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Прямоугольник 3"/>
          <p:cNvSpPr/>
          <p:nvPr/>
        </p:nvSpPr>
        <p:spPr>
          <a:xfrm>
            <a:off x="423720" y="3429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473120" y="3798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1158840" y="500364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Прямоугольник 6"/>
          <p:cNvSpPr/>
          <p:nvPr/>
        </p:nvSpPr>
        <p:spPr>
          <a:xfrm>
            <a:off x="457200" y="5780160"/>
            <a:ext cx="868680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закон № 323 от 21.11.2011г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сновах охраны здоровья граждан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с 31 по 3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Администратор</cp:lastModifiedBy>
  <cp:lastPrinted>2016-12-07T09:58:05Z</cp:lastPrinted>
  <dcterms:modified xsi:type="dcterms:W3CDTF">2020-12-02T06:47:34Z</dcterms:modified>
  <cp:revision>5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