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7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ftr" idx="7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 type="sldNum" idx="7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54D1-8439-46DC-91CB-2ACC727BB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C7C9-C913-43BD-9FEF-2882AD9A7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0E1-2104-495E-9771-6D7A12C7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C0E-6CC4-4C90-B540-B24140BC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B9759-1F55-40B1-A2D3-A69B7B71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6EBDD-1D7D-4CE9-9364-E91CCA7D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948AF-CA68-44A0-8877-61087BDF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7EBB0-DBCB-4721-86A1-D77C216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0F16C-C15C-4006-8E1F-EF47F7C3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5CB38-118B-4810-BA30-E5E8579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DB904-5460-403B-8860-C3ED92AF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CB290-17CD-4E96-80EC-7C60FD0D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ED830-3E2E-485C-9C7E-37AF8721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15D23-2347-4934-AA4C-57E7628B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C50-6083-46EF-837F-83D45FCB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CD495-C049-40CE-8208-86C3661D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3EE18-3747-414A-BE04-B0F32CFE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A0A77-E069-4600-B6FE-E31CD778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9040F-9A6A-42A4-A35F-EA572427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E4E21-1CB8-49C2-BA59-488150AA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09483-7EAF-48F8-BABC-D64370E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55BD3-9FFF-4E61-9506-1A78AEA1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FEDC3-D33A-434D-A24C-D9A0B051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280A0-F3EA-407A-8FEC-1D999CDF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44699-A1A0-4FAF-9163-D0331168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BEA-E782-4E29-9169-915296A8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CF716-2E19-47F2-BD30-EDF7CDDC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D1F3F-DB40-439E-9487-A565211B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5A5C2-BA2B-47A8-8E5C-B7DE8AC3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CD33C-F71F-4996-9748-30D3DC03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9CAC2-A844-444D-996C-8614E74F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6267C-059B-423F-923C-36F3ABA3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FD0C0-EB5D-4A33-B2D2-98C07E2C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E7A10-1B0E-4FE2-8A04-7CD487B5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58C9F-CA75-4EB3-AD12-B6506FEC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23260-0344-4B10-87F4-70E442CB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8120-ED43-4FF5-A2B6-93C7A8A8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EB93B-67DA-4E42-88E7-E3EDEDA9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56BF0-4B32-4D0A-8645-DA4713B1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8E9CE-53C2-4235-98F3-273C0DED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5B836-C840-43E1-B1A3-111C8B68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51A98-0097-4E8F-8794-1A54595E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8042A-9EA5-455A-9386-505E5970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A6407-381F-4E0F-8FF6-B4693216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690F0-C347-4552-917B-DD9F6707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D357D-4E91-40A2-876E-20B03080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B7C1C-21A7-4B10-98F7-4B0F357D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478B-4621-43CE-BFA4-41D154B6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7ADA8-E515-4546-A560-2845F464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73586-82A0-4E1B-A77A-578F4BF3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3CE6A-EFB5-4327-926B-30680DA5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009AF-7303-4D10-8EC3-87554FD7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BF82B-42C0-475D-B3F3-DA080AB8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E63BE-A688-4A33-81A7-96B65AC7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A889B-5FB0-46A0-AA6A-8B33CB1F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C6613-99DC-474F-B2A4-D5846953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69A9E-2FF7-4464-986A-6208C08B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382B7-E35C-4668-9F9B-D832EDCF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CCB1-E511-479A-9296-9F350C5B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533AA-DD68-4730-A0DC-E2DC7F4C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648FB-7C58-4273-B698-54B20034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B6141-8D6A-4E4A-9B60-36BE5E83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44542-7A4C-4D54-A279-A6F8A6C4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0E852-675E-421D-A8B6-D183ACDD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2516F-CFD9-4D7A-BD7F-7491128E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8A3FF-2A15-42E6-A724-2B459874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02D9C-0497-4888-ADE6-C24DF9A5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6CE25-18F1-42B2-964C-3E3BA0C0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593F2-70C3-438D-B534-05C7840A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FBDC-48C3-420B-AF74-BED8FE0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51A3E-1CB6-4405-9E9C-5CB92F0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5A0E4-BE85-4EB0-899B-6A658936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A6D83-8FA0-46C2-9E78-51C11BB0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F93BA-5CEE-4850-BBD8-DFC0EB17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5EA8B-262F-40BC-A95C-87295FB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B2B59-956C-4E03-B00D-736A381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1639D-D71B-46BD-B080-669F36E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4F13C-6BD9-40C1-B057-FA8CB3F2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57A07-94A2-4D63-A569-4E2BB9F1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26015-42AD-4AC0-A61D-58F39899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FC95-D68D-4712-B314-AAEC0B9C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76810-0905-463A-AA75-4BC2501E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81D41-2888-4476-827B-CC840628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48A65-DD34-457D-A883-14BFC890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55FC7-ABE6-4827-A70B-369D2279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20B77-2A98-483C-BC9C-046DFF5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BA192-FF46-4729-93A3-0523DF2B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5ADDC-F201-4930-BA3F-1509F61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D1CE4-66C6-4456-8166-401F4F71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2AAD5-BBAB-4586-8AC7-1E7EC6D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FA89E-B165-4171-9CFB-24952AAA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B50B-F3EF-4C35-9B0A-442E136B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FDE21-B756-47E1-9499-59FCC0B1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07079-CFFF-4ED8-BA6F-F9EC26AC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A2C4E1-4312-4D3D-8D0A-CE2359F3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98E45-FB65-4A29-80F0-5C5D0111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BB3B3-F555-4C8C-8129-C42F4C5B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385E7-D28C-4CA1-A6B4-83C791E1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A0B079-85EC-406B-9A39-F98F6D24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E536C-7E77-4DF2-B78A-2E1033D0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75C10-4E1E-4CA4-9D1A-E118EF0C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99713-0135-43D8-A1E5-29D9A0A9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1F04-9604-4A54-AE09-BA415FD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0B40A-4D5D-4BC2-91B8-B4FD1A37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395B6-10B3-4A08-A9EC-6B5842CB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F8533-66DF-4859-A7B0-60531140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7D39A-EBC1-4B70-BA52-A2CB3F9A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4E5E9-0188-4F17-8892-562ED05A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1DEC5D-2AB2-4059-9F50-9F62310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68F523-1271-416A-8C41-1576108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258FB-8422-4438-999D-D46C53A8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E8202-8CA7-4B3A-9D1E-6D9FA8E0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10B62-68E7-43E8-A5BF-EC558074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823-D0B5-4E62-80F9-1C76E2FF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6FFB-47E2-4E2A-929E-9A9CBBD3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1312C-8039-4189-9E8C-E109D473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FEAD30-5BE3-49CA-B93D-5C024E07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05BB2-B466-496F-BA0A-E67D2C4A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D4022-C36E-4DB5-BAC8-FF1FAF43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4C0C7-9F0E-4F7F-9E99-460EFA5E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01B5C5-76C1-4DFA-9D10-53619611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530F0-855E-4135-9D49-21FE2C60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C0276-DC04-4913-9853-33857ED9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1A662-25B2-46A2-9422-6D9E1F2D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97F5A-20E5-4861-88C0-45A6D7F5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1B19-5B75-47D5-8046-C6BE2483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6D485-10D4-488F-ABDB-BB95BF91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39425-FFB6-49EA-BD4B-B6B95DA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DA08E3-0AB1-4FAE-9DC1-9E85E7BE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F8D03-FCB8-4BED-8FEB-6799939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84EA7-C176-492E-BC74-8E2DBAF4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9E4D2-5FAA-4444-9E3C-AA304075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9A319-FA88-446F-AC19-4786659B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CFA1EB-7EDF-4A38-8F02-E6BACF19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FCE3D5-4584-4ECC-84B2-82676502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1B68A-26F3-4C06-A916-0F4E7977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F1E2-77B3-4BE0-A2BA-C2AFADFB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B8D73-E864-4BB8-9685-F51B1EB1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B32DD-D46E-4B8C-B1F6-B5419586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44E4E-0A51-45AA-849E-C42E7B0C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50C64A-D6E3-4FB7-8AD0-B1E449AA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AAC47-6E94-403E-94BF-364ECCAA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33AFD-1C47-4A7E-98AC-A4476A20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F3514-AE55-4F77-B1AF-CDD76DCE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64DB3-512E-4143-B8CA-3668B688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978F9-89F2-4456-A871-0C771C49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3363B-5CE6-4650-A012-09B8D9E3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0614-C4AB-4657-B9A8-9BB28C02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9A160-CCA8-464A-85DB-4FFB1C21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35BD2-9E22-4C92-9EDD-42771B9A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7A7EF-6B7E-485C-890D-652C6329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E5440-0815-44AF-BBD6-418C37A4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AABA4-4718-4F27-8E8D-5D57A8ED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A06B8-DFA0-4FC9-880A-8385149D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6A4245-6011-4D87-846F-DF10EF2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6CF3F-134A-477E-A247-978B5F3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34CBE-ACAF-4030-A0F8-AFA0A96E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06114-5389-4F97-A2DE-E32DA7FD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3196-1E02-41EB-80B7-8E522C8E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34A770-4AAB-4C5B-983A-86686C4B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94C4F5-5E65-43C9-B9D9-11623422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E58B2-19A2-4678-8081-39CCE599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5318F-8714-43CA-B227-64D8E672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BDBB7-6900-43F6-91C7-8780FEBD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F1372-D0DC-4931-92AC-A66CC5C2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6A19D6-02D3-412B-8427-73AD9FFB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5C96A-7B3E-4747-AAC3-CD6E7D9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41119E-2E1E-4F86-AA44-E4627384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0A1FC-5074-486B-B815-F3658C04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98D6-CE8B-485F-981C-F2E357AF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A0CB83-1610-4666-A6FF-8B38F0A0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D25F9F-BEE7-4013-9CFE-BAEAB9C8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51755F-9BC5-443F-8DE2-E3CE66A9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5725D6-528C-4E8A-B333-DE13142D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9A6200-6728-4DE9-A1B5-55ECAB2C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42A23D-3370-45C3-84FD-D1332867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4B1396-5E00-4E72-8B72-8838DDDB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2C8BC-485E-4FDD-AD18-02DCDC6E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CDE94C-FC09-4B55-BC2E-AE7D74A2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671358-4C29-41BF-A35B-7E24F0F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3F6B-67DC-48FA-B6DC-151C9A2E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0C8959-879D-40D4-9174-5389444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9D0664-CD43-4FC3-B067-2C289FD5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B2FE14-8537-4036-B767-B55D9E43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A70407-AE4A-4FBB-B237-D55CDEFD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C43215-0055-4CE3-ACBF-8DADFB8C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7A44FA-6BCD-4111-876A-0969BB00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7BC94A-8F49-4ABE-BC71-A3672E53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9F9D25-1D08-4CEF-897E-566CADE6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90849-6D37-4921-B8E4-7C6DD811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F0FBC4-4268-4087-9E4D-A0E5F574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6E2A-93F5-4A64-A8F0-588E0D18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F0FAC1-F667-4116-929B-64632BB1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D26114-010B-4D1C-849E-61A2631D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E25D3E-452B-40C1-97BF-1A89D5B7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EAAB11-6076-405D-A1E8-1734654F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5C355A-2853-42B4-8A3D-BE88C75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914D6B-54D7-4127-BA5B-B89C97ED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FBA237-B362-4E49-B888-9F868E6B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684B83-F7CE-4CCC-AFFE-C8F120CE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026ECD-9D19-4F20-AA34-CA0313C9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7A7698-06D6-4EA6-A2F1-1547DE63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B6D0-193C-4737-AF9D-80CC3810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84DCD9-3CB0-40D6-917C-4FEF23D2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A63DCD-D567-4D1C-A23C-45AB558D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AD1AD7-D7F7-45F9-885A-9BD7DEBA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AB2D46-FA19-4D9C-988C-F1428FA6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00D800-54B9-4FFC-97B3-8E52B15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41989D-E1A2-4E2D-8571-21C9D3F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D1A7D2-E030-44A8-9CEE-4E407778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0D8FDA-F073-4F10-B82B-DF0F4F2C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14FBAA-5C23-4CD1-B919-7F09758C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FA9C-BA86-417A-A6D3-EF15C3C9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508-0FA3-47D7-BF1C-11AB7773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2A8C-2F83-4BAD-AE86-25BDEACF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4E96-3C93-4735-AA50-3FA7963E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AF70-FD95-4B24-BEA1-525EA56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40FB-D0E1-4313-9763-D6058566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B72F-E0CC-491F-993C-59F45E55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E084-C2ED-4DDA-BBC0-6B7D5F61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874B-0B0F-4B8A-873A-CE7BFC2F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552E1-D4CB-4E0B-8573-E8B822D9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DA476-7C0E-437D-8A01-34925B78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7A79-DAC4-4448-A1CE-263213D5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DBF-F9D6-46E1-8DCA-81D39CED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4BDD-046D-47F6-9802-4DB6D934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AA58-EDA2-4664-AC20-2E4E179E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50839-28B5-4995-9044-C11919D0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9C3F-3EB4-408D-9344-2C211AF1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6CC46-E505-4D63-B2C5-A5DCA730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B84F-0E8C-48CB-841A-0EC70E11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56999-708E-46E0-B005-7435B974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26CBA-AC71-4410-8F0B-49328B1C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22FF-B0E1-42B0-B2F5-F68D18AC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52F36-D493-4576-B774-EB31CB51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02B-9D59-40EE-A6B7-1FC59B0B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B24F-A65F-4467-A335-6B1D0D9E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E87D8-7188-43BB-8558-6E9D60CA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D4F43-2FB8-4701-81AB-3AB5A6D9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1CEE0-8903-4CFD-A068-2E967BED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25A0E-E6ED-4A55-8150-38D3CABC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346D9-4338-4084-8EAD-B81F4E08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94C96-22A8-4922-8668-B7146004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EF85-ED02-4ABB-BC78-2263E1AC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76FB2-8839-430A-8253-4C6A758D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96B75-EFA7-4D33-9869-629397C9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F7B-22D5-4910-B670-1BAC018E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DA7A2-DE78-4ABF-A63E-350E1E1D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6C455-3BC4-46DA-B76A-8E716CBE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DC4F-E73C-4525-A57D-9C65D729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5B692-AF96-4CD5-AF26-66F657C0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60867-9869-4B2C-9A5A-C955081E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CE5A5-F32B-45A0-9109-61D78B8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FA501-5AE8-47DB-AB8F-33CB5F9C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C9768-E232-40BD-BB0B-6890059D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DF3B-63A8-4E8C-B068-EB828ED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578A0-3FB6-4A0D-9919-4210A27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118-2613-43CF-960C-754337CE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6BE4-38D1-46FF-9B63-0A4E7681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DFC14-177B-4E1C-90EC-9890BC36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1D2FE-943D-4AFC-B0CA-6B6CD85B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B96D-7037-4E3E-9D36-D1905D9B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EBCD9-A1D9-45CE-B295-FE330DD7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759C-0AED-4493-894E-3EAEC124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01FE8-0AD6-49C7-A212-EE34F3E6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14F53-9B53-4F3D-AAAE-E7035F40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8F8DF-853D-4274-AC9B-9BDBDA45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048C0-8813-48E1-A587-B8DA01E3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36E-9DA1-4747-B188-49934BE1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0306D-F9C8-4FE1-88A5-5787F1B4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974D4-AA62-494B-A33C-B6BF7B81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62E75-FEB9-4F24-8E7C-D2F1A97F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1DB6D-21D1-4F4C-B1BA-18FD4407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330EB-7E84-4A8C-86EE-D7C37522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67268-8B98-493D-BE62-1EAFD3F6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53D30-94D3-41AA-B3A8-406DD6B1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360F1-AA95-48E6-BE02-E6F593F9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3A59B-0770-4106-A18C-074E0D96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E058-998E-4F30-98F8-10337855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799-1438-4343-822A-8B087264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5ECC1-1F7F-440C-A7BF-9F3C2F58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CB7D2-C12B-4F20-AB3A-7C4DA15A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1D1E9-BB51-49D8-B2FC-68DAEA59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A7273-6A77-411D-B45D-ACD3E709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F79D0-66EF-4C7A-8068-9F37BBB3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17EFC-502B-4946-8DB5-FE3ECD9B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803B8-4593-4353-80BC-06577BC4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28EDE-86C6-4C12-BD5B-5CFC3BA0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00D30-FA38-4795-9F4C-48555A11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825CA-8577-4FD9-B9CD-AF3E7555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5A1F-6DB4-4B3D-996E-CA8556534A41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36BA-9D65-4FEE-AEB9-1E0D5305475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4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2ABB-031D-4227-9015-666601D16C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91B1-FAA0-4AAE-938F-8F39791922D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9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F90D-8694-4778-96E0-5C51A939094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6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CF6B-EE60-45D9-8013-D0AF40AB0AF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4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D4D8-070D-4760-AE56-7E544286DEC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4968-53BB-4F85-B0EB-39CC50BA76D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B4D5-6206-4F14-BEDB-31EFAD445E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3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4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16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28B6-DD7E-49FF-87A4-51AD6C9B4E4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3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0618-CF95-4064-9230-228DD28E88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2B9F-E17E-40B4-AF1A-0E8086CCE65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3AE9-0293-4B3A-8A31-C3313CB386B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8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6696-1788-49F8-94F0-D2611D8A3C1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2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3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BDC2-F261-4CD2-8165-84F1CB88D04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ECBA-05FB-4752-AF96-8792E3B0ECF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4FD0-03CD-45CE-8A68-7515A94212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B0A8-F64A-4F56-85A7-6EDDDDE04027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9B97-D954-4C60-9740-02F547214AAE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9E65-102A-40D3-9EFD-45324DFD0D4A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6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9FCD-5DD7-49FA-8DAD-6BDB4D4BF03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3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3B5-C613-44FF-A9FC-F7628968C46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4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F583-3ADF-4E51-9C9F-FB508DAAD30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A10D-55A3-4E83-8701-03A7A6C7B75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9281BDD39C87F3218B3AC503DFA8BEE3F12588B15DA6DF4A48D4F33551DF220D1F6398B8705A1704777545928C10681BB1A4257893729504hAm4H" TargetMode="External"/><Relationship Id="rId2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3B3CEBC88A1CC4C56F4AEF0A7CB4BB9016FAC6FF5594FF85EB6967FA2709A6E8BEB69EA3ACA394AF1F229E78DEBF360B738DFBA5E4272B87DX9E" TargetMode="External"/><Relationship Id="rId2" Type="http://schemas.openxmlformats.org/officeDocument/2006/relationships/hyperlink" Target="consultantplus://offline/ref=E3B3CEBC88A1CC4C56F4AEF0A7CB4BB90066A26BF1574FF85EB6967FA2709A6E8BEB69EE319E680CA6F47FB5D7BFFF7CB626DF7BX2E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.zdravohrana.ru/npd-doc.aspx?npmid=99&amp;npid=901807664&amp;anchor=XA00MCC2NT#XA00MCC2NT" TargetMode="External"/><Relationship Id="rId2" Type="http://schemas.openxmlformats.org/officeDocument/2006/relationships/slideLayout" Target="../slideLayouts/slideLayout25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324000" y="1327320"/>
          <a:ext cx="8450280" cy="453060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2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766f54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</a:tr>
            </a:tbl>
          </a:graphicData>
        </a:graphic>
      </p:graphicFrame>
      <p:sp>
        <p:nvSpPr>
          <p:cNvPr id="1675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3"/>
          <p:cNvGrpSpPr/>
          <p:nvPr/>
        </p:nvGrpSpPr>
        <p:grpSpPr>
          <a:xfrm>
            <a:off x="257040" y="4149720"/>
            <a:ext cx="8429400" cy="2512440"/>
            <a:chOff x="257040" y="4149720"/>
            <a:chExt cx="8429400" cy="2512440"/>
          </a:xfrm>
        </p:grpSpPr>
        <p:grpSp>
          <p:nvGrpSpPr>
            <p:cNvPr id="1679" name="Group 4"/>
            <p:cNvGrpSpPr/>
            <p:nvPr/>
          </p:nvGrpSpPr>
          <p:grpSpPr>
            <a:xfrm>
              <a:off x="257040" y="4149720"/>
              <a:ext cx="8429400" cy="2512440"/>
              <a:chOff x="257040" y="4149720"/>
              <a:chExt cx="8429400" cy="2512440"/>
            </a:xfrm>
          </p:grpSpPr>
          <p:grpSp>
            <p:nvGrpSpPr>
              <p:cNvPr id="1680" name="Group 5"/>
              <p:cNvGrpSpPr/>
              <p:nvPr/>
            </p:nvGrpSpPr>
            <p:grpSpPr>
              <a:xfrm>
                <a:off x="257040" y="4149720"/>
                <a:ext cx="8392320" cy="2512440"/>
                <a:chOff x="257040" y="4149720"/>
                <a:chExt cx="8392320" cy="2512440"/>
              </a:xfrm>
            </p:grpSpPr>
            <p:sp>
              <p:nvSpPr>
                <p:cNvPr id="1681" name="AutoShape 7"/>
                <p:cNvSpPr/>
                <p:nvPr/>
              </p:nvSpPr>
              <p:spPr>
                <a:xfrm>
                  <a:off x="622800" y="4149720"/>
                  <a:ext cx="7974720" cy="1055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"/>
                <p:cNvSpPr/>
                <p:nvPr/>
              </p:nvSpPr>
              <p:spPr>
                <a:xfrm>
                  <a:off x="257040" y="4149720"/>
                  <a:ext cx="8392320" cy="2512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Line 9"/>
              <p:cNvSpPr/>
              <p:nvPr/>
            </p:nvSpPr>
            <p:spPr>
              <a:xfrm>
                <a:off x="572040" y="4736520"/>
                <a:ext cx="6764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10"/>
              <p:cNvSpPr/>
              <p:nvPr/>
            </p:nvSpPr>
            <p:spPr>
              <a:xfrm>
                <a:off x="8010360" y="4736520"/>
                <a:ext cx="6760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Rectangle 11"/>
            <p:cNvSpPr/>
            <p:nvPr/>
          </p:nvSpPr>
          <p:spPr>
            <a:xfrm>
              <a:off x="1277280" y="4181040"/>
              <a:ext cx="667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случае если графа 15+16 не равна графе 9 </a:t>
              </a:r>
              <a:r>
                <a:rPr b="1" lang="ru-RU" sz="2000" spc="-1" strike="noStrike" u="sng">
                  <a:solidFill>
                    <a:srgbClr val="cc3300"/>
                  </a:solidFill>
                  <a:uFillTx/>
                  <a:latin typeface="Arial"/>
                </a:rPr>
                <a:t>представить пояснительную записку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При отсутствии/окончании срока действия сертификата – специалист не имеет права заниматься медицинской деятельностью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523800" y="1227240"/>
            <a:ext cx="839952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ИНИСТЕРСТВО ЗДРАВООХРАНЕНИЯ РОССИЙСКОЙ ФЕДЕРАЦИИ ПРИКАЗ от 22 декабря 2017 г. N 1043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ОБ УТВЕРЖДЕНИИ СРОКОВ И ЭТАПОВ АККРЕДИТАЦИИ СПЕЦИАЛИСТОВ, А ТАКЖЕ КАТЕГОРИЙ ЛИЦ, ИМЕЮЩ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МЕДИЦИНСКОЕ, ФАРМАЦЕВТИЧЕСКОЕ ИЛИ ИНОЕ ОБРАЗОВАНИЕ И ПОДЛЕЖАЩИХ АККРЕДИТАЦИИ СПЕЦИАЛИСТ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7" name=""/>
          <p:cNvGraphicFramePr/>
          <p:nvPr/>
        </p:nvGraphicFramePr>
        <p:xfrm>
          <a:off x="357120" y="1125360"/>
          <a:ext cx="8339040" cy="5151600"/>
        </p:xfrm>
        <a:graphic>
          <a:graphicData uri="http://schemas.openxmlformats.org/drawingml/2006/table">
            <a:tbl>
              <a:tblPr/>
              <a:tblGrid>
                <a:gridCol w="938160"/>
                <a:gridCol w="7400880"/>
              </a:tblGrid>
              <a:tr h="25254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января 2019 год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высшее образование по основным образовательным программам в соответствии с федеральными государственными образовательными стандартами в области образования "Здравоохранение и медицинские науки"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,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ебования к результатам освоения основных образовательных программ профессионального образования в части профессиональной компетенции которых сформированы на основе соответствующих профессиональных стандартов (при наличии) &lt;2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дополнительное профессиональное образование по программам профессиональной переподготовки, разработанным на основании установленных квалификационных требований, профессиональных стандартов и требований соответствующих федеральных государственных образовательных стандартов высшего образования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результатам освоения образовательных программ &lt;3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ред. </a:t>
                      </a:r>
                      <a:r>
                        <a:rPr b="1" i="1" lang="ru-RU" sz="1600" spc="-1" strike="noStrike" u="sng">
                          <a:solidFill>
                            <a:srgbClr val="fb4a18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риказ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здрава России от 21.12.2018 N 898н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 txBox="1"/>
          <p:nvPr/>
        </p:nvSpPr>
        <p:spPr>
          <a:xfrm>
            <a:off x="396360" y="355680"/>
            <a:ext cx="8450280" cy="62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Минздрав пересмотрел категории выпускников-медиков, подлежащих аккредитации с 2019 и 2020 год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Медорганизации не должны принимать на работу без свидетельства об аккредитации тех, кто в 2019 году или позже завершит обучение в ординатуре в рамках высшего или дополнительного образования по следующим специальностям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невр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карди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бщая врачебная практика (семейная медицина)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нк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педиатр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терапия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По ранее действовавшим правилам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аккредитации с 2019 года подлежали и те, кто получит допобразование по программам профпереподготовки, основанным на квалификационных требованиях, профстандартах и ФГОС среднего профессионального и (или) высшего образования. Теперь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2"/>
              </a:rPr>
              <a:t>эта группа выпускников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должна получать свидетельства об аккредитации только с 2020 го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С 2020 года аккредитацию предстоит пройти и тем, кто после 1 января 2020 года получит высшее образование по основным образовательным программам "Здравоохранение и медицинские науки" (уровень бакалавриата, магистратуры, ординатуры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404040"/>
                </a:solidFill>
                <a:latin typeface="Times New Roman"/>
              </a:rPr>
              <a:t>Документ: Приказ Минздрава России от 21.12.2018 N 898н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29880" y="38412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МИНИСТЕРСТВО ЗДРАВООХРАНЕНИЯ РОССИЙСКОЙ ФЕДЕРАЦИИ ПИСЬМО от 8 августа 2019 г. N 16-7/И/2-7280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92120" y="140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месте с тем Положением наряду с выдачей свидетельства об аккредитации специалиста также предусмотрен еще один механизм подтверждения факта успешного прохождения процедуры аккредитации специалиста - выдача в течение трех дней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выписки из итогового протокола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, содержащей соответствующее решение (пункт 52 Положения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 связи с изложенным в настоящее время в медицинских и фармацевтических организациях, независимо от их формы собственности и ведомственной принадлежности, могут осуществлять медицинскую или фармацевтическую деятельность лица, успешно прошедшие в 2019 году процедуру первичной и первичной специализированной аккредитации специалистов,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имеющие выписку из итогового протокола и не имеющие до настоящего времени на руках свидетельства об аккредитации специалиста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Одновременно с этим, учитывая, что в соответствии с пунктом 53 Положения сведения о лицах, признанных прошедшими аккредитацию специалиста, вносятся в Федеральный регистр медицинских работников (далее - ФРМР), ведение которого предусмотрено приказом Минздрава России от 31.12.2013 N 1159н, осуществление проверки факта успешного прохождения процедуры аккредитации специалистом может осуществляться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путем получения соответствующей информации из ФРМР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 в процессе формирования личного дела при трудоустройстве указанного лица в медицинскую организацию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Дополнительно сообщаем, что факт успешного прохождения лицом аккредитации специалиста также может быть проверен на официальном сайте образовательной и (или) научной организаций в информационно-телекоммуникационной сети "Интернет", на базе которой проводилась аккредитация специалиста, путем сверки данных в выписке с данными в итоговом протокол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280" y="290520"/>
            <a:ext cx="75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писка сотрудников, имеющих удостоверение об аккредитации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92" name="Объект 3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8352000" cy="50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3" name="Прямоугольная выноска 2"/>
          <p:cNvSpPr/>
          <p:nvPr/>
        </p:nvSpPr>
        <p:spPr>
          <a:xfrm>
            <a:off x="684360" y="5516640"/>
            <a:ext cx="1800000" cy="576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ccc7b7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Диапазон дат -  с 2016 года по  настоящее врем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ая соединительная линия 5"/>
          <p:cNvSpPr/>
          <p:nvPr/>
        </p:nvSpPr>
        <p:spPr>
          <a:xfrm>
            <a:off x="755640" y="6381720"/>
            <a:ext cx="1368360" cy="0"/>
          </a:xfrm>
          <a:prstGeom prst="line">
            <a:avLst/>
          </a:prstGeom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7"/>
          <p:cNvSpPr/>
          <p:nvPr/>
        </p:nvSpPr>
        <p:spPr>
          <a:xfrm>
            <a:off x="5940360" y="1665360"/>
            <a:ext cx="2808360" cy="1585800"/>
          </a:xfrm>
          <a:prstGeom prst="rect">
            <a:avLst/>
          </a:prstGeom>
          <a:solidFill>
            <a:srgbClr val="ee6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ату проведения аккредитации в диапазон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атус работника –работающ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п занятия должности – основная должн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8"/>
          <p:cNvSpPr/>
          <p:nvPr/>
        </p:nvSpPr>
        <p:spPr>
          <a:xfrm>
            <a:off x="2916360" y="615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Стрелка вправо 9"/>
          <p:cNvSpPr/>
          <p:nvPr/>
        </p:nvSpPr>
        <p:spPr>
          <a:xfrm>
            <a:off x="6164280" y="4105440"/>
            <a:ext cx="360360" cy="7272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Стрелка вправо 10"/>
          <p:cNvSpPr/>
          <p:nvPr/>
        </p:nvSpPr>
        <p:spPr>
          <a:xfrm>
            <a:off x="6164280" y="430200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Прямая соединительная линия 12"/>
          <p:cNvSpPr/>
          <p:nvPr/>
        </p:nvSpPr>
        <p:spPr>
          <a:xfrm>
            <a:off x="4788000" y="4302000"/>
            <a:ext cx="792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Рисунок 13" descr=""/>
          <p:cNvPicPr/>
          <p:nvPr/>
        </p:nvPicPr>
        <p:blipFill>
          <a:blip r:embed="rId2"/>
          <a:stretch/>
        </p:blipFill>
        <p:spPr>
          <a:xfrm>
            <a:off x="4788000" y="4437000"/>
            <a:ext cx="811080" cy="30240"/>
          </a:xfrm>
          <a:prstGeom prst="rect">
            <a:avLst/>
          </a:prstGeom>
          <a:ln w="0">
            <a:noFill/>
          </a:ln>
        </p:spPr>
      </p:pic>
      <p:sp>
        <p:nvSpPr>
          <p:cNvPr id="1701" name="TextBox 14"/>
          <p:cNvSpPr/>
          <p:nvPr/>
        </p:nvSpPr>
        <p:spPr>
          <a:xfrm>
            <a:off x="5884920" y="39434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15"/>
          <p:cNvSpPr/>
          <p:nvPr/>
        </p:nvSpPr>
        <p:spPr>
          <a:xfrm>
            <a:off x="5877000" y="418932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3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6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7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.о. должность «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9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Text Box 3"/>
          <p:cNvSpPr/>
          <p:nvPr/>
        </p:nvSpPr>
        <p:spPr>
          <a:xfrm>
            <a:off x="328680" y="131616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писа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2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Врачи «скорой медицинской помощи», работающие в кабинетах неотложной помощ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или в больницах скорой медицинской помощи указываются по графам «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амбулаторных условиях» или «в стационарных условиях» соответственно, при услов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наличия должности «врач скорой медицинской помощи» в штатном расписан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1" name=""/>
          <p:cNvGraphicFramePr/>
          <p:nvPr/>
        </p:nvGraphicFramePr>
        <p:xfrm>
          <a:off x="260280" y="1424160"/>
          <a:ext cx="8532720" cy="344304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2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5" name="Rectangle 628"/>
          <p:cNvSpPr/>
          <p:nvPr/>
        </p:nvSpPr>
        <p:spPr>
          <a:xfrm>
            <a:off x="2259000" y="4270320"/>
            <a:ext cx="6591240" cy="13492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деральные учреждения, подчинение субъекта РФ) медицинск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распределяются по состоянию на конец отчетного года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629"/>
          <p:cNvSpPr/>
          <p:nvPr/>
        </p:nvSpPr>
        <p:spPr>
          <a:xfrm>
            <a:off x="2279520" y="2921040"/>
            <a:ext cx="6607440" cy="736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90360" indent="-90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токсиколог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8" name="Rectangle 629"/>
          <p:cNvSpPr/>
          <p:nvPr/>
        </p:nvSpPr>
        <p:spPr>
          <a:xfrm>
            <a:off x="1463760" y="6051600"/>
            <a:ext cx="6607080" cy="57780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 целью единого подхода использовать всем субъектам РФ данный перечень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347760" y="2122560"/>
          <a:ext cx="8450280" cy="29210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401d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1" name="Rectangle 2"/>
          <p:cNvSpPr/>
          <p:nvPr/>
        </p:nvSpPr>
        <p:spPr>
          <a:xfrm>
            <a:off x="1376280" y="746280"/>
            <a:ext cx="65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17"/>
          <p:cNvSpPr/>
          <p:nvPr/>
        </p:nvSpPr>
        <p:spPr>
          <a:xfrm>
            <a:off x="6802560" y="4413240"/>
            <a:ext cx="19270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41"/>
          <p:cNvSpPr/>
          <p:nvPr/>
        </p:nvSpPr>
        <p:spPr>
          <a:xfrm>
            <a:off x="5086440" y="4997520"/>
            <a:ext cx="3757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Строка 126 по графе 16 по логике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афа 17 –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4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5" name="Rectangle 915"/>
          <p:cNvSpPr/>
          <p:nvPr/>
        </p:nvSpPr>
        <p:spPr>
          <a:xfrm>
            <a:off x="3040200" y="2647800"/>
            <a:ext cx="5744880" cy="83844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917"/>
          <p:cNvSpPr/>
          <p:nvPr/>
        </p:nvSpPr>
        <p:spPr>
          <a:xfrm>
            <a:off x="3040200" y="3586320"/>
            <a:ext cx="5703840" cy="3999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915"/>
          <p:cNvSpPr/>
          <p:nvPr/>
        </p:nvSpPr>
        <p:spPr>
          <a:xfrm>
            <a:off x="3040200" y="4087800"/>
            <a:ext cx="5703840" cy="153504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Обратите вним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полнени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 15 «Имеют сертификат» Сертификат указывается при наличи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документа установленного образц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16 «Имеют свидетельство об аккредитации»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8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7e18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9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медицинском 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3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4" name="Rectangle 719"/>
          <p:cNvSpPr/>
          <p:nvPr/>
        </p:nvSpPr>
        <p:spPr>
          <a:xfrm>
            <a:off x="2527200" y="2859120"/>
            <a:ext cx="6189840" cy="18288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 строке 150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6" name=""/>
          <p:cNvGraphicFramePr/>
          <p:nvPr/>
        </p:nvGraphicFramePr>
        <p:xfrm>
          <a:off x="455760" y="468360"/>
          <a:ext cx="8442000" cy="575316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400" spc="-1" strike="noStrike">
                          <a:solidFill>
                            <a:srgbClr val="de7e18"/>
                          </a:solidFill>
                          <a:latin typeface="Times New Roman"/>
                          <a:ea typeface="Times New Roman"/>
                        </a:rPr>
                        <a:t>Разница (ошибка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7" name="AutoShape 17"/>
          <p:cNvSpPr/>
          <p:nvPr/>
        </p:nvSpPr>
        <p:spPr>
          <a:xfrm>
            <a:off x="2482920" y="4819680"/>
            <a:ext cx="13762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455760" y="468360"/>
          <a:ext cx="8442000" cy="539424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между гр.9 и гр. 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45-47,67-68,69-70, 71-72, 73-74, 96-100, 109-110, 127-138, 139-142, 150-151, 152-153, 163-166, 198-201, 202-206, 208-21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9" name="AutoShape 17"/>
          <p:cNvSpPr/>
          <p:nvPr/>
        </p:nvSpPr>
        <p:spPr>
          <a:xfrm>
            <a:off x="7155000" y="3195720"/>
            <a:ext cx="556920" cy="812880"/>
          </a:xfrm>
          <a:custGeom>
            <a:avLst/>
            <a:gdLst>
              <a:gd name="textAreaLeft" fmla="*/ 27000 w 556920"/>
              <a:gd name="textAreaRight" fmla="*/ 529920 w 556920"/>
              <a:gd name="textAreaTop" fmla="*/ 27000 h 812880"/>
              <a:gd name="textAreaBottom" fmla="*/ 785880 h 812880"/>
            </a:gdLst>
            <a:ahLst/>
            <a:rect l="textAreaLeft" t="textAreaTop" r="textAreaRight" b="textAreaBottom"/>
            <a:pathLst>
              <a:path w="21600" h="31521">
                <a:moveTo>
                  <a:pt x="3600" y="0"/>
                </a:moveTo>
                <a:arcTo wR="3600" hR="3600" stAng="16200000" swAng="-5400000"/>
                <a:lnTo>
                  <a:pt x="0" y="27921"/>
                </a:lnTo>
                <a:arcTo wR="3600" hR="3600" stAng="10800000" swAng="-5400000"/>
                <a:lnTo>
                  <a:pt x="18000" y="31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Стрелка влево 1"/>
          <p:cNvSpPr/>
          <p:nvPr/>
        </p:nvSpPr>
        <p:spPr>
          <a:xfrm>
            <a:off x="7711920" y="3017880"/>
            <a:ext cx="1390680" cy="159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30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а!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160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= стр.15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271440" y="1855800"/>
            <a:ext cx="8664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менования должностей указывается согласно квалификационным справочникам или профессиональным стандарт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обходимо, если сотрудники получают компенсации и льготы, например, досрочную пенсию или дополнительный отпуск. Или для должностей, по которым закон устанавливает ограничения, например, есть необходимость проходить предрейсовый медосмотр. Медработники, водители и педагоги подпадают под действие этой нормы (</a:t>
            </a:r>
            <a:r>
              <a:rPr b="0" lang="ru-RU" sz="18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ч. 2 ст. 57 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1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2" name="Rectangle 862"/>
          <p:cNvSpPr/>
          <p:nvPr/>
        </p:nvSpPr>
        <p:spPr>
          <a:xfrm>
            <a:off x="2522520" y="2884320"/>
            <a:ext cx="6369120" cy="20098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880"/>
          <p:cNvSpPr/>
          <p:nvPr/>
        </p:nvSpPr>
        <p:spPr>
          <a:xfrm>
            <a:off x="2522520" y="5056200"/>
            <a:ext cx="6348600" cy="6094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67 может быть больше или равна сумме строк с 168 по 17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8" name="Rectangle 859"/>
          <p:cNvSpPr/>
          <p:nvPr/>
        </p:nvSpPr>
        <p:spPr>
          <a:xfrm>
            <a:off x="2490840" y="2610000"/>
            <a:ext cx="6345360" cy="1147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863"/>
          <p:cNvSpPr/>
          <p:nvPr/>
        </p:nvSpPr>
        <p:spPr>
          <a:xfrm>
            <a:off x="2482920" y="4214880"/>
            <a:ext cx="6337080" cy="1171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3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4" name="Rectangle 862"/>
          <p:cNvSpPr/>
          <p:nvPr/>
        </p:nvSpPr>
        <p:spPr>
          <a:xfrm>
            <a:off x="2558880" y="1198440"/>
            <a:ext cx="6370920" cy="155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имер: К профессиональной деятельности в качестве медицинской сестры врача общей практики допускаются лица, получившие высшее медицинское образование по специальности "Сестринское дело" и сертификат по специальности "Общая практика"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863"/>
          <p:cNvSpPr/>
          <p:nvPr/>
        </p:nvSpPr>
        <p:spPr>
          <a:xfrm>
            <a:off x="2584440" y="4221000"/>
            <a:ext cx="6337440" cy="2400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« и подготовка в интернатур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пециальности "Управление сестринской деятельностью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меститель руководителя МО; главная медицинская сестра (главная акушерка, главный фельдшер); директор больницы (дома) сестринского ухода, хосписа; заведующий (начальник) структурного подразделения (отдела, отделения, лаборатории, кабинета, отряда и другое) медицинской организации - врач-статистик; заведующий (начальник) структурного подразделения (отдела, отделения, лаборатории, кабинета, отряда и другое) медицинской организации - врач-методист; врач-статистик; врач-методист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880"/>
          <p:cNvSpPr/>
          <p:nvPr/>
        </p:nvSpPr>
        <p:spPr>
          <a:xfrm>
            <a:off x="2575080" y="2901960"/>
            <a:ext cx="6251400" cy="1244520"/>
          </a:xfrm>
          <a:prstGeom prst="rect">
            <a:avLst/>
          </a:prstGeom>
          <a:solidFill>
            <a:srgbClr val="ede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бакалавриа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 направлению подготовки "Сестринское дел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Медицинская сестра общей практики, медицинская сестра по паллиативной помощи, медицинская сестра по профилактике, медицинская сестра по реабилит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20"/>
          <p:cNvSpPr/>
          <p:nvPr/>
        </p:nvSpPr>
        <p:spPr>
          <a:xfrm flipV="1">
            <a:off x="2216160" y="2362320"/>
            <a:ext cx="560520" cy="8776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720"/>
          <p:cNvSpPr/>
          <p:nvPr/>
        </p:nvSpPr>
        <p:spPr>
          <a:xfrm>
            <a:off x="2376360" y="3908520"/>
            <a:ext cx="425520" cy="32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720"/>
          <p:cNvSpPr/>
          <p:nvPr/>
        </p:nvSpPr>
        <p:spPr>
          <a:xfrm>
            <a:off x="2131920" y="4390920"/>
            <a:ext cx="654120" cy="3333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0" name=""/>
          <p:cNvGraphicFramePr/>
          <p:nvPr/>
        </p:nvGraphicFramePr>
        <p:xfrm>
          <a:off x="291960" y="193680"/>
          <a:ext cx="8629920" cy="646740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1" name="Rectangle 885"/>
          <p:cNvSpPr/>
          <p:nvPr/>
        </p:nvSpPr>
        <p:spPr>
          <a:xfrm>
            <a:off x="2516040" y="3301920"/>
            <a:ext cx="6321600" cy="38124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885"/>
          <p:cNvSpPr/>
          <p:nvPr/>
        </p:nvSpPr>
        <p:spPr>
          <a:xfrm>
            <a:off x="2573280" y="4135320"/>
            <a:ext cx="6264360" cy="3970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3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571680"/>
                <a:gridCol w="70452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4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7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удентов медицинских Вузов, имеющ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99800" y="47628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Несколько слов о трудоустройстве студентов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иказом Минздрава РФ от 27.06.2016 N 419н утвержден Порядок допуска лиц к осуществлению медицинской (фармацевтической) деятельности на должностях среднего медицинского (фармацевтического) персонала, в соответствии с которым лиц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 завершившие освоение образовательных программ высшего медицинского (фармацевтического) образования, могут быть приняты на работу на указанные должности при налич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справки об обучении или о периоде обучения, подтверждающей освоение образовательной программы в необходимом объеме и по специальност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положительного результата сдачи экзамена по допуску к осуществлению медицинской (фармацевтической) деятельности (проводится в образовательном учреждении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пример, лица с незаконченным высшим образованием, освоившие образовательную программу высшего медицинского образования по специальностям "Лечебное дело", "Педиатрия", "Медико-профилактическое дело", "Стоматология" в объеме трех курсов и более или по направлению подготовки "Сестринское дело" в объеме двух курсов и более либо имеющие диплом специалиста (диплом бакалавра) по специальности "Лечебное дело", "Педиатрия", "Медико-профилактическое дело", "Сестринское дело" или "Стоматология"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могут быть приняты на работу в качестве медицинской сестры (медбрата), в том числе палатной, перевязочной, процедурной, по приему вызовов скорой медицинской помощи, приемного отделения, участков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33240" y="628560"/>
            <a:ext cx="7909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Сверка т.1100 с данными федерального регистра медицинских работников (ФРМР)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160200" y="2641680"/>
          <a:ext cx="8856720" cy="2141280"/>
        </p:xfrm>
        <a:graphic>
          <a:graphicData uri="http://schemas.openxmlformats.org/drawingml/2006/table">
            <a:tbl>
              <a:tblPr/>
              <a:tblGrid>
                <a:gridCol w="608040"/>
                <a:gridCol w="696960"/>
                <a:gridCol w="754200"/>
                <a:gridCol w="941400"/>
                <a:gridCol w="834840"/>
                <a:gridCol w="922320"/>
                <a:gridCol w="1190880"/>
                <a:gridCol w="1285560"/>
                <a:gridCol w="852840"/>
                <a:gridCol w="769680"/>
              </a:tblGrid>
              <a:tr h="300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/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бъект Российской Федер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медицинской организ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 сотрудник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и и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едн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адш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визо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армацев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785" name="Прямоугольник 3"/>
          <p:cNvSpPr/>
          <p:nvPr/>
        </p:nvSpPr>
        <p:spPr>
          <a:xfrm>
            <a:off x="160200" y="1943280"/>
            <a:ext cx="86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об эксплуатации ФРМР на 31.12.2019 г. по сведениям о трудоустройстве по перечню организаций, заведенных в регист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рямоугольник 4"/>
          <p:cNvSpPr/>
          <p:nvPr/>
        </p:nvSpPr>
        <p:spPr>
          <a:xfrm>
            <a:off x="160200" y="4896000"/>
            <a:ext cx="301788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, всего в отчете ФРМР на 31.12.2019 г. должно соответствовать сумме строк (1+143+217+139+213) по графе 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Прямоугольник 5"/>
          <p:cNvSpPr/>
          <p:nvPr/>
        </p:nvSpPr>
        <p:spPr>
          <a:xfrm>
            <a:off x="3249720" y="4896000"/>
            <a:ext cx="559260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 врачей, СМП, МПП, провизоров, фармацевтов в отчете ФРМР должно соответствовать стр. 1,143, 217, 139, 213 гр.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8" name="Прямая со стрелкой 6"/>
          <p:cNvCxnSpPr/>
          <p:nvPr/>
        </p:nvCxnSpPr>
        <p:spPr>
          <a:xfrm>
            <a:off x="357804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89" name="Прямая со стрелкой 14"/>
          <p:cNvCxnSpPr/>
          <p:nvPr/>
        </p:nvCxnSpPr>
        <p:spPr>
          <a:xfrm>
            <a:off x="86482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0" name="Прямая со стрелкой 15"/>
          <p:cNvCxnSpPr/>
          <p:nvPr/>
        </p:nvCxnSpPr>
        <p:spPr>
          <a:xfrm>
            <a:off x="78148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1" name="Прямая со стрелкой 16"/>
          <p:cNvCxnSpPr/>
          <p:nvPr/>
        </p:nvCxnSpPr>
        <p:spPr>
          <a:xfrm>
            <a:off x="674172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2" name="Прямая со стрелкой 17"/>
          <p:cNvCxnSpPr/>
          <p:nvPr/>
        </p:nvCxnSpPr>
        <p:spPr>
          <a:xfrm>
            <a:off x="550980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3" name="Прямая со стрелкой 18"/>
          <p:cNvCxnSpPr/>
          <p:nvPr/>
        </p:nvCxnSpPr>
        <p:spPr>
          <a:xfrm>
            <a:off x="266976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4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*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5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1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* </a:t>
            </a:r>
            <a:r>
              <a:rPr b="1" lang="ru-RU" sz="1600" spc="-1" strike="noStrike">
                <a:solidFill>
                  <a:srgbClr val="de7e18"/>
                </a:solidFill>
                <a:latin typeface="Times New Roman"/>
                <a:ea typeface="Arial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0" y="235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спехов в работе, колле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Должность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465120" y="3151080"/>
          <a:ext cx="8305920" cy="280512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0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1" name=""/>
          <p:cNvGraphicFramePr/>
          <p:nvPr/>
        </p:nvGraphicFramePr>
        <p:xfrm>
          <a:off x="490680" y="1371600"/>
          <a:ext cx="8196120" cy="4460760"/>
        </p:xfrm>
        <a:graphic>
          <a:graphicData uri="http://schemas.openxmlformats.org/drawingml/2006/table">
            <a:tbl>
              <a:tblPr/>
              <a:tblGrid>
                <a:gridCol w="3068640"/>
                <a:gridCol w="5127480"/>
              </a:tblGrid>
              <a:tr h="44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рганизаторы сестринского дела (стр.147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иректор больницы (дома) сестринского ухода, хосписа, заведующий молочной кухней, главная медицинская сестра, главный фельдшер, главная акушерка, старшая медицинская сестр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2" name="TextBox 1"/>
          <p:cNvSpPr/>
          <p:nvPr/>
        </p:nvSpPr>
        <p:spPr>
          <a:xfrm>
            <a:off x="2524320" y="423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!!!!!!!!!!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5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ого типа (центры, бюро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1): руководители организаций и их заместители (организаторы здравоохран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8" name="Прямоугольник 3"/>
          <p:cNvSpPr/>
          <p:nvPr/>
        </p:nvSpPr>
        <p:spPr>
          <a:xfrm>
            <a:off x="2197080" y="3621240"/>
            <a:ext cx="6616800" cy="10659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classuser</cp:lastModifiedBy>
  <cp:lastPrinted>2018-11-27T04:13:37Z</cp:lastPrinted>
  <dcterms:modified xsi:type="dcterms:W3CDTF">2019-12-08T11:12:14Z</dcterms:modified>
  <cp:revision>115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