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3E72-D9DC-498F-9804-4CAFDA409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37FA-0620-43F2-8943-E3AFB38CE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91E3AC-3DD8-4CB6-BE57-089DAACCB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BF81A7-9735-4020-8819-D02FBEF9A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AB7966-5C6E-4C3E-ABFB-803B742AB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34CBEB-862E-45EA-B422-B442B2E9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A9FBCD-381C-4D7A-864A-E8EBA553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FE71AD-095B-4B09-A0C7-0F0B41E7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A5B47B-7FF0-4955-AC21-4F97FAA14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5B0373-BE8E-4022-B99A-7DD5612DA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2506EE-DC3B-4C2E-987E-72C935C48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B33B6C-B35C-4DDE-9AF7-AD76AB15D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6727-F3D8-4A33-81D5-4A40FCEDE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A245B5-65AE-44B4-A4E4-8CC2E9A51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8984D4-53BB-4900-975E-029FD7F57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06B0D9-FA07-4BBA-94A9-76E08AFC8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DEC66C-96C9-47A8-A0E8-973777002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38DAE8-B6E1-42AD-BFCC-35A844F23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653085-8599-460C-8300-E225DC63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AEEBD5-F0D4-42EF-B3BB-C8C5EBC8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F68C3A-562B-4611-9DBD-B4473D64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764D2A-E8C7-4CC6-8C1B-623BA894E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560150-D2E5-4683-85FD-B863E8FE9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C07A-E43D-45F7-92F4-DAAF69255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F3763B-2667-43C6-B9B4-C0B524557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982960-E0AE-4FAF-831A-03C62425E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949DCF-FFD9-4971-A699-1142A1590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6AE55E-2CEF-49B7-9B4E-698229DE1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63B9A5-87C5-4243-A368-03144A4AE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CEDEF7-5491-4C57-96E8-2977BF53E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1E5AE3-C7B7-48DF-AB72-8633ABF68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F0FA14-6508-4044-A853-5FFE0ED7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F96914-295A-462D-A829-D1B7D779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60AFA6-EC5F-4876-BDB7-C4622B5C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AD0E9-CEBE-4DB1-82A4-86E8135AA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9D2EC2-5487-4CB2-AD09-0F151365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764A26-CEA3-452B-91A1-AE1AB0F45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E4D94B-A28C-4DFF-87D7-5B7FD4B62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516F7B-1F0A-4AE1-ACF8-959E91247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E675DB-9484-4F12-8376-8102CD94B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782834-263A-47A4-B645-B8E57F82D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46DAA2-4200-461A-B56F-5EA12432E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90567C-67D7-4A5C-9AA8-8B44A2976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62DC86-5C26-42CE-87CB-6B4D3E6E9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EF31D3-581B-44AF-AA91-CEE7CFA5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40587-5C70-47AC-8D08-855EA3489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2D0C6C-EC89-4599-9AAD-CF4B4CC3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09A196-79FA-41B0-A194-6B30C0BD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021D01-A06C-43A5-95EB-843E90D0A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C8298E-717B-46B4-9CDB-5634C346A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48EFA0-C723-415D-970C-BFEA80619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57FF38-B0CC-4E46-920A-AE8F5A630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CA77F3-375B-4543-98B8-D4A0E7D64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EF5FE9-0BD4-463A-8136-6A0168C7D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96B40B-7D11-47E4-B76A-CF5F803DA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3E6CF8-401D-463B-BE6D-6D392D353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0C15B-4F30-46A7-9BD4-5D54EE3AF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A89AFD-0F3D-4EB1-BB85-C1DF887B4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A8679A-BDD4-44B8-B864-2F57E098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7D5D69-6EC7-4005-B9C5-7F3B5CAD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DD97C4-E0DD-4045-9AB4-6CFC9DD1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7E5003-8EA8-4C4A-9D76-D5EC180F1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AAA194-B698-41E5-BC22-18DEE5B01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99E5B1-D7C4-48E1-9240-0323F203B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257B64-AF91-4398-A189-70C5D313A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D9B060-E75C-4C23-BCF4-8E43FF40D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9DED14-B007-4BA1-B417-93506B914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B81AF-3204-4BF6-923A-DEF144BA1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365CEB-E5AB-4D5C-8AF0-8AB06F81E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56CF0B-6D64-4B31-BF61-415AE6B22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44EBBD-2A09-4599-9627-AB6E8CEDB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6DF35B-48D7-4342-A9B7-223B91C9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3566EB-0EAC-4861-B2FB-67C5E8E2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D8C17B-68CE-49EA-AD69-7A69F2A7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8DDAF7-94CE-4038-8EEF-E35DF0343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CF9FD4-DCC8-4AD2-9F82-D8380BC24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672E4A-0275-46F7-A25B-A74E3BE42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5F0ED4-2154-4059-B654-359C46937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0F035-1A0E-4C7A-962A-1929D5733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37F05F-1A89-4323-BA74-BA6491861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682B54-3439-4133-82CF-4563407A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EC5674-2038-4958-BF91-8FAF070D3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573DFF-F57F-495B-ADE5-75063613A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8E84C9-6A06-4CA9-B096-C1498A65B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FF85BE-8222-423D-9283-CE28839D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CF3050-F4C0-4369-9232-47E325E2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B6BDAC-65E9-4D92-B358-C0D74E3A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959356-F95F-4836-9D96-F1CE7912E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5F4AD1-1367-4322-BD7A-FC5572CC5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05ACF-001B-4417-9EEF-D6CF9607B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6725F4-7782-4799-82B7-C951B5340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CE0626-DC10-46CD-B680-C50BAA5C1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86E829-B312-488A-B9DF-9762AA767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718EF2-5B5C-4B64-8760-D276BA546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BF3EF9-D4C2-4F4D-ABD4-FEE5CAAD1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B3B858-4194-4487-A0E1-17170FA39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F8C162-EFEA-46CF-BE86-0A4C206AE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11C4D0-1D6C-4B86-A1BA-38652E22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AD0A3A-8EE6-4252-A3FC-D58B5E76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40CF7F-339D-4B36-8342-A487E453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F398B-B390-43BE-B2D4-21E9C485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24AC04-8541-4750-8937-15C62C2B2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54EF84-70C5-4F51-A82E-F1D8F889E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4628A7-44A7-4438-A8DF-5ACBD3549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1494FF-C71F-4F4C-AF78-D1BD67859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1D4D71-AF8F-45A1-998D-A3ED55EB2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C1CB4C-6853-408A-9983-80F304BD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50674A-DDBB-4DD6-98E9-7399F4AB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47660E-6A4E-4BB2-8132-0F7EC0945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E1A127-F448-4AA3-9C51-4145567C9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67DC41-1B53-4AE9-A5C0-37FE909A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13C6-31CA-4944-BB73-DA5356BA3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66D2C-6BD7-4F8C-8400-91FA07F8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B65826-759A-4B03-AEBA-CEC0A4CC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9A326A-4C06-4CA6-BD85-9306DB2B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8CC111-38F5-4758-8A26-D0722A36C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E273AC-264A-4535-92EC-EDC5F1205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F5BCDE-A0F2-4432-AFA2-5BF141186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FDD8970-584F-45E1-9664-B1121EF7A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F083B6F-E18A-4FD5-9B97-712DDC554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3F6EAD3-7F16-4DE8-A6F7-0B7A782CF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A1596D6-4F29-4E5C-B881-91D4F9AF8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A737591-7CFF-418B-9F09-526181EBB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5BAE7-F9D9-48F3-9402-91D8FBAE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B394A37-1F4A-4774-94FC-A1FA6B668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9128151-DF78-47C8-8920-DA7287C9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71C4402-CABC-41DA-B6ED-EEDFD3BD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8435A31-A814-44A1-9E43-5B7E6CDE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10E8916-58EC-4A2B-873F-326879D85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967A223-C970-4992-AF38-25913F22F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B65E71C-4942-45CD-BBE7-BF172256A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36A84-C0FE-4DE8-9887-3A44B7D35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394BB-6793-4D85-8DB5-B2A62771D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91AB0-404F-4DC9-91DD-5FFF3D6AA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3783F-5E9F-484B-B581-037962202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24A39-6D6C-4A50-B655-20449A8E7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C5D2B-9361-4693-BD13-F5C47D1FC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C4E3F-75F6-4264-850F-A9A7B58CB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BBD4D-30BF-487D-BFC1-CF277E329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435B-85F4-4AF4-8E44-3C66F1A24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FB4D2-848A-4D50-BE51-0420ADD43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34480-2E49-4001-9E4F-56AA0CB1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665C4-75C2-499B-8682-874DEFD6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60E38-A29B-4760-81B0-F5BA5B04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6528E-E8C7-413F-B048-E2F65B0A1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A8245-6132-4CDC-A012-022B2E0C5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8E797-E675-46DB-94C9-FE3AFE10F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BDFA1-921B-416A-84FE-D08C75115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DF2AE-7BCD-4F4D-AE3E-506FFBD1D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D1215-D33F-4952-92D9-B198AAA67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9B2C-FA76-4286-AB87-DC364E8E5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4598A-8D91-4BFD-AA21-6C193747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98D14-4E0E-45D6-A20E-0E5CB3CAA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1C7BA-EA9D-4CD3-9EB7-D36EBAA30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8EE95-5026-44A2-BD5D-3C6BA1E9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E6992-25CE-43E3-AC4F-ADD368EE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BE43B-6296-4A53-8F3E-AD7044F2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FE230-13AD-400F-86DE-098119D33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60B25-B2B1-440A-B138-1E24B3A0A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4975F-C43B-43CD-8556-B9C5ED0EE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ACF2F-0EF2-4903-B41B-622F947F5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8FE4-0FAF-40A2-8F9F-0BCC17D36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A7FB1-5025-47E4-8078-675DA8F61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19253-6B91-4829-968F-8A317DB87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B4600-C83C-4F16-9AC7-0AEDC54E3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14C46-BF9F-4788-97A3-27D09E3ED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A8297-9C20-4806-9B29-806069A05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FAFDE-6461-4013-BCB8-2E800B5A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D61B1-779D-46A8-B8A3-5905751A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905E0-A9FA-4BD6-8DCD-7257ED13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106DC-864B-46D6-92E9-E8FD2B720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EBADC-AEDD-4292-97B1-63959E9DB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1FCE-7C94-45D7-B469-1115243FF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7A844-877A-4C07-971E-F395E4A68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5EB98-5BE5-42B5-A84A-D2FEE220D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8227D-212E-4207-A447-A1B6C7721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8B138-9DC2-4435-9BB0-3C0395A5F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43646-4D43-44E4-AEF0-E1D7BEDB7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E6C5A-A91D-4305-8FF3-6CF2D9483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C57BD-16A4-4B39-AD72-8AD63CCA7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CDD52-11E6-41D8-9704-269DF77B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A6F0A-8A70-49A2-892A-29B8FB4B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9FDEB-F0BD-4B25-B1B0-BF146ECA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37A7-9159-4E9D-99EF-2BCB9888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202B9-FA9B-4B7E-9C4E-2C1C75FCB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82A7A-AD83-4119-92B4-3EC62FA02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63081-C74A-4581-B333-BBB3C00A6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676465-B3F8-494C-90AF-992ADD1F2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A1242-D0C8-4369-9065-C2608BB24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E3D71-041A-4C9F-B025-DD843BB97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B238F2-3CD1-47D1-9674-590526096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9A680-2F7D-4AC0-B5B5-EB782B6C9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1D915C-8959-4DE4-AC67-D7109D158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5421D-7AEB-4468-BBF1-566EFD99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AF5F-1BF1-4B67-B3B7-DF1E5BFD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7822E-37DC-4D3B-BABE-4C23DF3C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F06BC5-E062-46E2-AB67-FB47101C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B982C-D341-4961-9AAF-4DA319E1A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B68F0B-9937-4E75-BB14-39E972A2D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49137A-54D8-47DD-BB79-168797FD2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FCD13E-5279-4A71-B95C-B8458E4C7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39C576-4700-4876-9E5D-510553D33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9F86D5-4341-4F46-8A5E-D50F6BB6E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7865A-C7B1-4EE1-AD2B-E07621E1A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305080-3129-4877-80AF-F99400F0A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117B-DF2B-4B3B-A99F-3D531173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46CD0F-E22F-4F65-9431-521A8D157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1FE17A-5131-44CF-8EB0-C9ED96C4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22E0F9-507D-479F-8F32-4727E02A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0007C7-FCA6-4295-AC4E-03B9932D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6CA574-A872-4304-86DD-53F561944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19A85C-B791-435B-89D1-A9F672B03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BDBF1-F5DC-4D81-88BC-93EFE1B83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CA9401-3753-49AA-8464-492D5352D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4E6C27-1BC8-4D1F-8D8F-026183EC0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8548DF-8EC4-4035-8117-DD742F4CA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165DC-4F40-4CBC-9AEC-E1847D96A78A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BF3D6-3C0C-4F54-B277-CCBA39710CA1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BBE38-4396-4797-BC99-9CCB31966592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D0038-9139-4BE1-81ED-5EAA660A3B3A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E2DE5-6416-4FD6-B683-092B9E48D842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7096E-B24C-4EE8-A387-F882030E87D8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961E-E71B-4315-9CD6-CBE58E6247BF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C41A5-F3E7-4EBC-A1B0-7FACB2B6D6C5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86974-C53C-4E55-83BF-824CE1ACB3BB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7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9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 type="ftr" idx="5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 type="sldNum" idx="5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E38C0-6948-46EC-A8B9-0C0E812F9F74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 type="dt" idx="5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B90C1-D857-4DED-9673-D43C4D5326E9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8A996-2C79-4ECF-A443-BB188BAA4906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4C396-9D99-4F09-A159-83DDB7759613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0786D-F394-4005-84AF-BB2AFDBC9FDF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D87AB-5ED6-4424-9EDB-44C49A6A85D8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6A9E4-A37F-4842-8901-F41F004D7A61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473D4-24E0-4FB4-A0A4-62E0572BA897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C85CA-7053-44DE-8BCA-BA5CAD3530F3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2895120" y="1676160"/>
            <a:ext cx="624852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Форма №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0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«Сведения о медицинской организаци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5" name="Rectangle 5"/>
          <p:cNvSpPr/>
          <p:nvPr/>
        </p:nvSpPr>
        <p:spPr>
          <a:xfrm>
            <a:off x="609480" y="4419720"/>
            <a:ext cx="853452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РАЗДЕЛ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III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. ДЕЯТЕЛЬНОСТЬ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МЕДИЦИНСКО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ОРГАНИЗАЦИИ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ПО ОКАЗАНИ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МЕДИЦИНСКОЙ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ПОМОЩИ 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АМБУЛАТОРНЫХ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УСЛОВИ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1676520" y="456840"/>
            <a:ext cx="579096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</a:rPr>
              <a:t>Таблица 2105</a:t>
            </a:r>
            <a:r>
              <a:rPr b="0" lang="ru-RU" sz="2200" spc="-1" strike="noStrike">
                <a:solidFill>
                  <a:srgbClr val="262626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95" name=""/>
          <p:cNvGraphicFramePr/>
          <p:nvPr/>
        </p:nvGraphicFramePr>
        <p:xfrm>
          <a:off x="152280" y="838080"/>
          <a:ext cx="8763120" cy="5615280"/>
        </p:xfrm>
        <a:graphic>
          <a:graphicData uri="http://schemas.openxmlformats.org/drawingml/2006/table">
            <a:tbl>
              <a:tblPr/>
              <a:tblGrid>
                <a:gridCol w="3733920"/>
                <a:gridCol w="533520"/>
                <a:gridCol w="1201680"/>
                <a:gridCol w="1008000"/>
                <a:gridCol w="762120"/>
                <a:gridCol w="1523880"/>
              </a:tblGrid>
              <a:tr h="27432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табл. 2100, стр. 1)  сделано посещений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-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ими жителями 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заболеваниям: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 неотложной фор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диспансерному наблюде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рофилактической и иными целями: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медицинский осмо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пансериз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ный медицинский осмо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центрах здоровь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лиативная помощ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ронаж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вижным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амбулатория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бными брига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бильными медицинскими брига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бильными медицинскими комплекс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6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697"/>
          <p:cNvSpPr/>
          <p:nvPr/>
        </p:nvSpPr>
        <p:spPr>
          <a:xfrm>
            <a:off x="4419720" y="2057400"/>
            <a:ext cx="4495680" cy="168912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Графа 3 – графа 4 = городские жители всег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Графа 5 – графа 6 = городские жители де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!!!Всего не должно быть больше чем дети по всем строкам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Text Box 626"/>
          <p:cNvSpPr/>
          <p:nvPr/>
        </p:nvSpPr>
        <p:spPr>
          <a:xfrm>
            <a:off x="7139520" y="40320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Внимание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"/>
          <p:cNvSpPr txBox="1"/>
          <p:nvPr/>
        </p:nvSpPr>
        <p:spPr>
          <a:xfrm>
            <a:off x="152280" y="533160"/>
            <a:ext cx="883944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</a:rPr>
              <a:t>При заполнении таблицы 2105 следует иметь в виду, что источником информации для таблицы 2105 служит Талон (форма №025-1/у)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 u="sng">
                <a:solidFill>
                  <a:srgbClr val="404040"/>
                </a:solidFill>
                <a:uFillTx/>
                <a:latin typeface="Times New Roman"/>
              </a:rPr>
              <a:t>строка 2 «в неотложной форме»: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посещение по неотложной помощи – оказание неотложной медицинской помощи лицам, обратившимся с признаками неотложных состояний (при внезапных острых заболеваниях, состояниях, обострении хронических заболеваний, не опасных для жизни и не требующих экстренной медицинской помощи) в отделение (кабинет) неотложной медицинской помощи, являющегося структурным подразделением поликлиники (врачебной амбулатории, центра общей врачебной практики (семейной медицины), а также на дому при вызове врача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 u="sng">
                <a:solidFill>
                  <a:srgbClr val="404040"/>
                </a:solidFill>
                <a:uFillTx/>
                <a:latin typeface="Times New Roman"/>
              </a:rPr>
              <a:t>строка 3 «активных»: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Посещение на дому считается активным, если оно проводится по инициативе врача. Как правило, активно наблюдаются пациенты больные со злокачественными новообразованиями, инфекционными заболеваниями, лица пожилого и старческого возраста, инвалиды с тяжелыми заболеваниями. Данный показатель должен составлять 30–60% от общего числа посещений на дому, что зависит от таких факторов, как соотношение первичных и повторных посещений пациента; динамика и сезонность заболеваний; возможность госпитализации и др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"/>
          <p:cNvSpPr txBox="1"/>
          <p:nvPr/>
        </p:nvSpPr>
        <p:spPr>
          <a:xfrm>
            <a:off x="152280" y="533160"/>
            <a:ext cx="883944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</a:rPr>
              <a:t>При заполнении таблицы 2105 следует иметь в виду, что источником информации для таблицы 2105 служит Талон (форма №025-1/у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</a:rPr>
              <a:t>строка 4 «по диспансерному наблюдению»: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диспансерное наблюдение представляет собой динамическое наблюдение, в том числе необходимое обследование, за состоянием здоровья лиц, страдающих хроническими заболеваниями, функциональными расстройствами, иными состояниями, в целях своевременного выявления, предупреждения осложнений, обострений заболеваний, иных патологических состояний, их профилактики и осуществления медицинской реабилитации указанных лиц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1" name="Rectangle 703"/>
          <p:cNvSpPr/>
          <p:nvPr/>
        </p:nvSpPr>
        <p:spPr>
          <a:xfrm>
            <a:off x="1676520" y="3276720"/>
            <a:ext cx="6324480" cy="251460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Программе государственных гарантий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е посещение в отчетном году по поводу диспансерного наблюдения считается с профилактической целью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отчетной форме №30 учитываем по установленному порядку: Все посещения по поводу диспансерного наблюдения указываются по поводу заболев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"/>
          <p:cNvSpPr txBox="1"/>
          <p:nvPr/>
        </p:nvSpPr>
        <p:spPr>
          <a:xfrm>
            <a:off x="304560" y="762120"/>
            <a:ext cx="883908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404040"/>
                </a:solidFill>
                <a:uFillTx/>
                <a:latin typeface="Times New Roman"/>
              </a:rPr>
              <a:t>строка 6 «медицинский осмотр»: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указываются посещения, выполненные в порядке целевого профилактического осмотра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Целевые профилактические медицинские осмотры — медицинские осмотры (обследования), предпринятые с целью выявления определенных заболеваний на ранней стадии (новообразования, туберкулез, глаукома, сахарный диабет, сердечно-сосудистые заболевания и др.), охватывают различные группы организованного и неорганизованного населения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imes New Roman"/>
              </a:rPr>
              <a:t>Включаются предварительные, периодические, медицинские осмотры спортсменов, профилактические осмотры и т.д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404040"/>
                </a:solidFill>
                <a:uFillTx/>
                <a:latin typeface="Times New Roman"/>
              </a:rPr>
              <a:t>строка 7 «диспансеризация»: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указать количество посещений, выполненных в ходе диспансеризации определенных групп взрослого населения и диспансеризация детей-сирот (форма №131 и №030/Д/с/о- 13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сведения строки 6 в строку 7 не включаются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</a:rPr>
              <a:t>строка </a:t>
            </a:r>
            <a:r>
              <a:rPr b="1" lang="ru-RU" sz="1800" spc="-1" strike="noStrike" u="sng">
                <a:solidFill>
                  <a:srgbClr val="404040"/>
                </a:solidFill>
                <a:uFillTx/>
                <a:latin typeface="Times New Roman"/>
              </a:rPr>
              <a:t>8 «комплексный медицинский осмотр»: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указываются посещения, выполненные в центрах здоровья и внеплановые медицинские осмотры (осмотры </a:t>
            </a:r>
            <a:r>
              <a:rPr b="0" i="1" lang="ru-RU" sz="1800" spc="-1" strike="noStrike">
                <a:solidFill>
                  <a:srgbClr val="404040"/>
                </a:solidFill>
                <a:latin typeface="Times New Roman"/>
              </a:rPr>
              <a:t>участников ВОВ 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вне плановой диспансеризации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</a:rPr>
              <a:t>строка 9 «</a:t>
            </a:r>
            <a:r>
              <a:rPr b="1" lang="ru-RU" sz="1800" spc="-1" strike="noStrike" u="sng">
                <a:solidFill>
                  <a:srgbClr val="404040"/>
                </a:solidFill>
                <a:uFillTx/>
                <a:latin typeface="Times New Roman"/>
              </a:rPr>
              <a:t>из них в центрах здоровья»: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указываются посещения, выполненные в центрах здоровья (в соответствии с формой №68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"/>
          <p:cNvSpPr txBox="1"/>
          <p:nvPr/>
        </p:nvSpPr>
        <p:spPr>
          <a:xfrm>
            <a:off x="304920" y="7617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</a:rPr>
              <a:t>строка 10 «паллиативная помощь»: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указываются посещения, выполненные в рамках оказания паллиативной помощи в амбулаторных условиях. К ним относятся посещения с кодом по МКБ-10 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</a:rPr>
              <a:t>Z51.5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 «Паллиативная помощь»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строка </a:t>
            </a: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</a:rPr>
              <a:t>«паллиативная помощь»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 заполняется, если в организации организован кабинет (отделение) по оказанию паллиативной помощи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в данную строку включаются посещения врача кабинета противоболевой терапии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</a:rPr>
              <a:t>строка 11 «патронаж»: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указываются посещения, выполненные врачом на дому для проведения профилактических, оздоровительных и санитарно-просветительных мероприятий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Патронаж — форма работы медицинской организации, основными целями которой являются проведение на дому оздоровительных и профилактических мероприятий, внедрение правил личной гигиены и улучшение санитарно-гигиенических условий в быту. Особенно широко используется в учреждениях охраны материнства и детства, некоторых диспансерах. Осуществляется врачами: участковыми (патронажными), диспансеров. Особой формой патронажа является уход за одинокими и престарелыми больными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</a:rPr>
              <a:t>строка 12 «прочие»: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указываются посещения, выполненные врачом с профилактическими целями, не указанными выше. Например, посещения контактных пациентов, обследования социальных условий проживания семьи, «подворовые» обходы в сельской местности и т.д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"/>
          <p:cNvSpPr txBox="1"/>
          <p:nvPr/>
        </p:nvSpPr>
        <p:spPr>
          <a:xfrm>
            <a:off x="304920" y="7617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строка 15 «врачебные бригад»: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66f54"/>
                </a:solidFill>
                <a:latin typeface="Times New Roman"/>
                <a:ea typeface="Times New Roman"/>
              </a:rPr>
              <a:t>Организовывается в зависимости от конкретных условий оказания первичной медико-санитарной помощи населению в целях обеспечения ее доступности могут формироваться </a:t>
            </a:r>
            <a:r>
              <a:rPr b="1" lang="ru-RU" sz="1800" spc="-1" strike="noStrike">
                <a:solidFill>
                  <a:srgbClr val="766f54"/>
                </a:solidFill>
                <a:latin typeface="Times New Roman"/>
                <a:ea typeface="Times New Roman"/>
              </a:rPr>
              <a:t>постоянно действующие медицинские бригады, </a:t>
            </a:r>
            <a:r>
              <a:rPr b="0" lang="ru-RU" sz="1800" spc="-1" strike="noStrike">
                <a:solidFill>
                  <a:srgbClr val="766f54"/>
                </a:solidFill>
                <a:latin typeface="Times New Roman"/>
                <a:ea typeface="Times New Roman"/>
              </a:rPr>
              <a:t>состоящие </a:t>
            </a:r>
            <a:r>
              <a:rPr b="1" lang="ru-RU" sz="1800" spc="-1" strike="noStrike">
                <a:solidFill>
                  <a:srgbClr val="766f54"/>
                </a:solidFill>
                <a:latin typeface="Times New Roman"/>
                <a:ea typeface="Times New Roman"/>
              </a:rPr>
              <a:t>из врача-терапевта участкового</a:t>
            </a:r>
            <a:r>
              <a:rPr b="0" lang="ru-RU" sz="1800" spc="-1" strike="noStrike">
                <a:solidFill>
                  <a:srgbClr val="766f54"/>
                </a:solidFill>
                <a:latin typeface="Times New Roman"/>
                <a:ea typeface="Times New Roman"/>
              </a:rPr>
              <a:t>, фельдшеров, акушеров и медицинских сестер, с распределением между ними функциональных обязанностей по компетенции, исходя из установленных штатных нормативов, предназначенных для расчета количества должностей, предусмотренных для выполнения медицинской организацией возложенных на нее функций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строка 16 «мобильные медицинские бригады»: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766f54"/>
                </a:solidFill>
                <a:latin typeface="Times New Roman"/>
                <a:ea typeface="Times New Roman"/>
              </a:rPr>
              <a:t>Мобильная медицинская бригада организуется в структуре медицинской организации (ее структурного подразделения), оказывающей первичную медико-санитарную помощь</a:t>
            </a:r>
            <a:r>
              <a:rPr b="0" lang="ru-RU" sz="1800" spc="-1" strike="noStrike">
                <a:solidFill>
                  <a:srgbClr val="766f54"/>
                </a:solidFill>
                <a:latin typeface="Times New Roman"/>
                <a:ea typeface="Times New Roman"/>
              </a:rPr>
              <a:t>, для оказания первичной медико-санитарной помощью населения, в том числе жителей населенных пунктов с преимущественным проживанием лиц старше трудоспособного возраста либо расположенных на значительном удалении от медицинской организации и (или) имеющих плохую транспортную доступность с учетом климато-географических условий. </a:t>
            </a:r>
            <a:r>
              <a:rPr b="1" lang="ru-RU" sz="1800" spc="-1" strike="noStrike">
                <a:solidFill>
                  <a:srgbClr val="766f54"/>
                </a:solidFill>
                <a:latin typeface="Times New Roman"/>
                <a:ea typeface="Times New Roman"/>
              </a:rPr>
              <a:t>Состав мобильной медицинской бригады формируется руководителем медицинской</a:t>
            </a:r>
            <a:r>
              <a:rPr b="0" lang="ru-RU" sz="1800" spc="-1" strike="noStrike">
                <a:solidFill>
                  <a:srgbClr val="766f54"/>
                </a:solidFill>
                <a:latin typeface="Times New Roman"/>
                <a:ea typeface="Times New Roman"/>
              </a:rPr>
              <a:t> организации (ее структурного подразделения) из числа врачей и медицинских работников со средним медицинским образованием</a:t>
            </a:r>
            <a:r>
              <a:rPr b="1" lang="ru-RU" sz="1800" spc="-1" strike="noStrike">
                <a:solidFill>
                  <a:srgbClr val="766f54"/>
                </a:solidFill>
                <a:latin typeface="Times New Roman"/>
                <a:ea typeface="Times New Roman"/>
              </a:rPr>
              <a:t>, исходя из цели ее формирования и возложенных задач</a:t>
            </a:r>
            <a:r>
              <a:rPr b="0" lang="ru-RU" sz="1800" spc="-1" strike="noStrike">
                <a:solidFill>
                  <a:srgbClr val="766f54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1295280" y="376200"/>
            <a:ext cx="65534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Times New Roman"/>
              </a:rPr>
              <a:t>Таблица 2106</a:t>
            </a: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306" name=""/>
          <p:cNvGraphicFramePr/>
          <p:nvPr/>
        </p:nvGraphicFramePr>
        <p:xfrm>
          <a:off x="380880" y="800280"/>
          <a:ext cx="8382240" cy="1401480"/>
        </p:xfrm>
        <a:graphic>
          <a:graphicData uri="http://schemas.openxmlformats.org/drawingml/2006/table">
            <a:tbl>
              <a:tblPr/>
              <a:tblGrid>
                <a:gridCol w="4191120"/>
                <a:gridCol w="4191120"/>
              </a:tblGrid>
              <a:tr h="640440">
                <a:tc gridSpan="2"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щения по поводу заболеваний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1 __, из них: сельских жителей  2 __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21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0-17 лет (из стр. 1) 3 _____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их жителей (из стр.3) 4__,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7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174"/>
          <p:cNvSpPr/>
          <p:nvPr/>
        </p:nvSpPr>
        <p:spPr>
          <a:xfrm>
            <a:off x="235080" y="2190600"/>
            <a:ext cx="8686800" cy="2799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Обращение включает в себя одно или несколько посещений пациента, в результате которых цель обращения достигнут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В зависимости от цели обращения подразделяются на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- обращения по поводу заболеваний, травм, отравлений и некоторых други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последствий воздействия внешних причин (коды A00 - T98 МКБ-10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- обращения с профилактической целью (коды Z00 - Z99 МКБ-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ведения, указанные в таблице 2106, должны быть меньше, чем данные указанные в таблице 2100 по строке 1 в соответствующих графа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Кратность посещений в среднем по медицинским организациям составляет – на одно обращение 3-3,5 посещения (кроме специализированных ЛПУ, например: психиатрическая, фтизиопульмонологическая больницы и т.п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Овал 5"/>
          <p:cNvSpPr/>
          <p:nvPr/>
        </p:nvSpPr>
        <p:spPr>
          <a:xfrm>
            <a:off x="235080" y="5156280"/>
            <a:ext cx="8391240" cy="1092240"/>
          </a:xfrm>
          <a:prstGeom prst="ellipse">
            <a:avLst/>
          </a:prstGeom>
          <a:noFill/>
          <a:ln cap="rnd" w="31680">
            <a:solidFill>
              <a:srgbClr val="c0000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object 36"/>
          <p:cNvSpPr/>
          <p:nvPr/>
        </p:nvSpPr>
        <p:spPr>
          <a:xfrm>
            <a:off x="685800" y="5410080"/>
            <a:ext cx="2257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tabLst>
                <a:tab algn="l" pos="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ичное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повторно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2600">
              <a:tabLst>
                <a:tab algn="l" pos="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ение  </a:t>
            </a:r>
            <a:r>
              <a:rPr b="1" lang="ru-RU" sz="2100" spc="-1" strike="noStrike" baseline="32000">
                <a:solidFill>
                  <a:srgbClr val="000000"/>
                </a:solidFill>
                <a:latin typeface="Times New Roman"/>
                <a:ea typeface="Times New Roman"/>
              </a:rPr>
              <a:t>+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object 39"/>
          <p:cNvSpPr/>
          <p:nvPr/>
        </p:nvSpPr>
        <p:spPr>
          <a:xfrm>
            <a:off x="3124080" y="5486400"/>
            <a:ext cx="130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object 37"/>
          <p:cNvSpPr/>
          <p:nvPr/>
        </p:nvSpPr>
        <p:spPr>
          <a:xfrm>
            <a:off x="3352680" y="5410080"/>
            <a:ext cx="10828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8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повторно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8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object 32"/>
          <p:cNvSpPr/>
          <p:nvPr/>
        </p:nvSpPr>
        <p:spPr>
          <a:xfrm>
            <a:off x="4495680" y="5562720"/>
            <a:ext cx="1065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object 41"/>
          <p:cNvSpPr/>
          <p:nvPr/>
        </p:nvSpPr>
        <p:spPr>
          <a:xfrm>
            <a:off x="5181480" y="5410080"/>
            <a:ext cx="576360" cy="432000"/>
          </a:xfrm>
          <a:custGeom>
            <a:avLst/>
            <a:gdLst>
              <a:gd name="textAreaLeft" fmla="*/ 0 w 576360"/>
              <a:gd name="textAreaRight" fmla="*/ 576720 w 57636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576579" h="431800">
                <a:moveTo>
                  <a:pt x="360172" y="0"/>
                </a:moveTo>
                <a:lnTo>
                  <a:pt x="360172" y="107950"/>
                </a:lnTo>
                <a:lnTo>
                  <a:pt x="0" y="107950"/>
                </a:lnTo>
                <a:lnTo>
                  <a:pt x="108076" y="215900"/>
                </a:lnTo>
                <a:lnTo>
                  <a:pt x="0" y="323850"/>
                </a:lnTo>
                <a:lnTo>
                  <a:pt x="360172" y="323850"/>
                </a:lnTo>
                <a:lnTo>
                  <a:pt x="360172" y="431800"/>
                </a:lnTo>
                <a:lnTo>
                  <a:pt x="576326" y="215900"/>
                </a:lnTo>
                <a:lnTo>
                  <a:pt x="360172" y="0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object 38"/>
          <p:cNvSpPr/>
          <p:nvPr/>
        </p:nvSpPr>
        <p:spPr>
          <a:xfrm>
            <a:off x="6095880" y="5410080"/>
            <a:ext cx="20354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30120" indent="-317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ОБРАЩЕНИЯ ДОСТИГНУ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</a:rPr>
              <a:t>Таблица 2700.</a:t>
            </a:r>
            <a:r>
              <a:rPr b="0" lang="ru-RU" sz="22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262626"/>
                </a:solidFill>
                <a:latin typeface="Times New Roman"/>
              </a:rPr>
              <a:t>Работа стоматологического кабинета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317" name=""/>
          <p:cNvGraphicFramePr/>
          <p:nvPr/>
        </p:nvGraphicFramePr>
        <p:xfrm>
          <a:off x="152280" y="1143000"/>
          <a:ext cx="8763120" cy="4092480"/>
        </p:xfrm>
        <a:graphic>
          <a:graphicData uri="http://schemas.openxmlformats.org/drawingml/2006/table">
            <a:tbl>
              <a:tblPr/>
              <a:tblGrid>
                <a:gridCol w="3810240"/>
                <a:gridCol w="609480"/>
                <a:gridCol w="1008000"/>
                <a:gridCol w="1241640"/>
                <a:gridCol w="2093760"/>
              </a:tblGrid>
              <a:tr h="5806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инген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 зубных врачей и  гигиенистов стоматологически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ичных </a:t>
                      </a: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с профилактической и иными  цел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зубными врач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гиенистами стоматологически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тр. 1:  дети до 14 лет включительн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и 15-17 лет включи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е жители (из стр.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ередвижных стоматологических кабинет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8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353"/>
          <p:cNvSpPr/>
          <p:nvPr/>
        </p:nvSpPr>
        <p:spPr>
          <a:xfrm>
            <a:off x="190440" y="6167520"/>
            <a:ext cx="86868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*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Первичным считается первое посещение за стоматологической помощью в отчетном году по любому повод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355"/>
          <p:cNvSpPr/>
          <p:nvPr/>
        </p:nvSpPr>
        <p:spPr>
          <a:xfrm>
            <a:off x="4572000" y="2708280"/>
            <a:ext cx="4419720" cy="175248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в таблицу включаются и сведения о деятельности гигиенистов стоматологических и зубных врачей, в том числе зубных врачей здравпунктов, стоматологических кабинетов учебных заведений и предприятий,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если они состоят в штате медицинской организаци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360"/>
          <p:cNvSpPr/>
          <p:nvPr/>
        </p:nvSpPr>
        <p:spPr>
          <a:xfrm>
            <a:off x="4600440" y="5486400"/>
            <a:ext cx="4391280" cy="533520"/>
          </a:xfrm>
          <a:prstGeom prst="rect">
            <a:avLst/>
          </a:prstGeom>
          <a:solidFill>
            <a:srgbClr val="fb93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трока 1 должна быть равна сумме строк 2+3 по всем графа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360"/>
          <p:cNvSpPr/>
          <p:nvPr/>
        </p:nvSpPr>
        <p:spPr>
          <a:xfrm>
            <a:off x="4600440" y="4548240"/>
            <a:ext cx="4419720" cy="80964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Деятельность гигиенистов стоматологических указывается только с профилактической целью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Times New Roman"/>
              </a:rPr>
              <a:t>Таблица 2700 (продолжение)</a:t>
            </a: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324" name=""/>
          <p:cNvGraphicFramePr/>
          <p:nvPr/>
        </p:nvGraphicFramePr>
        <p:xfrm>
          <a:off x="152280" y="838080"/>
          <a:ext cx="8763120" cy="4000680"/>
        </p:xfrm>
        <a:graphic>
          <a:graphicData uri="http://schemas.openxmlformats.org/drawingml/2006/table">
            <a:tbl>
              <a:tblPr/>
              <a:tblGrid>
                <a:gridCol w="1133640"/>
                <a:gridCol w="460440"/>
                <a:gridCol w="608040"/>
                <a:gridCol w="560160"/>
                <a:gridCol w="789120"/>
                <a:gridCol w="623880"/>
                <a:gridCol w="625320"/>
                <a:gridCol w="608040"/>
                <a:gridCol w="790560"/>
                <a:gridCol w="608040"/>
                <a:gridCol w="574920"/>
                <a:gridCol w="591840"/>
                <a:gridCol w="789120"/>
              </a:tblGrid>
              <a:tr h="37620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инген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лечено зуб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алено зуб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стоя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санирова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актическая рабо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 курс профилакт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 объем работы в УЕТ (из гр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оя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 осложненного карие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мотрено в порядке плановой сан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 12 нуждались в сан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 13 санирова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зубными врач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гиенистами стоматологически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5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1520"/>
          <p:cNvSpPr/>
          <p:nvPr/>
        </p:nvSpPr>
        <p:spPr>
          <a:xfrm>
            <a:off x="152280" y="5181480"/>
            <a:ext cx="8763120" cy="131472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В графе 11 показывается общее число санированных, как по обращаемости, так и во время профилактической работы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В графе 16 указывается общий объем выполненной работы, выраженный в условных единицах трудоемкости (УЕТ). Выполненный объем работы в УЕТах указывается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в тысячах единиц с одним знаком после запято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1521"/>
          <p:cNvSpPr/>
          <p:nvPr/>
        </p:nvSpPr>
        <p:spPr>
          <a:xfrm>
            <a:off x="1828800" y="3124080"/>
            <a:ext cx="7086600" cy="53352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Разница между графами 11 и 14 по всем строкам должна быть на санированных при обращении пациента за медицинской помощью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1524"/>
          <p:cNvSpPr/>
          <p:nvPr/>
        </p:nvSpPr>
        <p:spPr>
          <a:xfrm>
            <a:off x="1752480" y="4302000"/>
            <a:ext cx="7010640" cy="53352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Объем выполненных работ гигиенистами стоматологическим в УЕТах (графа 16) указыва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</a:rPr>
              <a:t>Таблица 2710.</a:t>
            </a:r>
            <a:r>
              <a:rPr b="0" lang="ru-RU" sz="22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262626"/>
                </a:solidFill>
                <a:latin typeface="Times New Roman"/>
              </a:rPr>
              <a:t>Работа врачей-стоматологов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330" name=""/>
          <p:cNvGraphicFramePr/>
          <p:nvPr/>
        </p:nvGraphicFramePr>
        <p:xfrm>
          <a:off x="152280" y="1143000"/>
          <a:ext cx="8534520" cy="3833640"/>
        </p:xfrm>
        <a:graphic>
          <a:graphicData uri="http://schemas.openxmlformats.org/drawingml/2006/table">
            <a:tbl>
              <a:tblPr/>
              <a:tblGrid>
                <a:gridCol w="3408480"/>
                <a:gridCol w="655560"/>
                <a:gridCol w="930240"/>
                <a:gridCol w="1101960"/>
                <a:gridCol w="672840"/>
                <a:gridCol w="874800"/>
                <a:gridCol w="890640"/>
              </a:tblGrid>
              <a:tr h="73152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инген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Число посещений врачей-стоматолог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(из т. 2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лечено зуб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1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ервичных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оя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 осложненного карие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тр. 1: дети до 14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лючительн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и 15-17 лет включи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е жители (из стр.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ередвижных стоматологических кабинет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1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70"/>
          <p:cNvSpPr/>
          <p:nvPr/>
        </p:nvSpPr>
        <p:spPr>
          <a:xfrm>
            <a:off x="228600" y="6095880"/>
            <a:ext cx="8686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*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Первичным считается первое посещение за стоматологической помощью в отчетном году по любому повод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3"/>
          <p:cNvSpPr/>
          <p:nvPr/>
        </p:nvSpPr>
        <p:spPr>
          <a:xfrm>
            <a:off x="4114800" y="3048120"/>
            <a:ext cx="4648320" cy="83808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трока 1 по графе 3 должна быть равна сумме посещений, указанных в таблице 2100 по сумме строк 86+87+89+90 и сумме граф 3+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85"/>
          <p:cNvSpPr/>
          <p:nvPr/>
        </p:nvSpPr>
        <p:spPr>
          <a:xfrm>
            <a:off x="4114800" y="5105520"/>
            <a:ext cx="4648320" cy="83808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трока 6 по графе 3 должна быть равна сумме посещений, указанных в таблице 2100 по сумме строк 86+87+89+90 и сумме граф 4+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586"/>
          <p:cNvSpPr/>
          <p:nvPr/>
        </p:nvSpPr>
        <p:spPr>
          <a:xfrm>
            <a:off x="4114800" y="3962520"/>
            <a:ext cx="4648320" cy="106668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умма строк 4+5 по графе 3 должна быть равна сумме посещений, указанных в таблице 2100 по сумме строк 86+87+89+90 и сумме граф 5+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"/>
          <p:cNvSpPr txBox="1"/>
          <p:nvPr/>
        </p:nvSpPr>
        <p:spPr>
          <a:xfrm>
            <a:off x="457200" y="9907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</a:rPr>
              <a:t>Посещение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 – это контакт пациента с врачом медицинской организации или подразделения, оказывающего медицинскую помощь в амбулаторных условиях по любому поводу с последующей записью в «Медицинской карте пациента, получающего медицинскую помощь в амбулаторных условиях» (форма № 025/у),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включающей жалобы, анамнез, объективные данные,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</a:rPr>
              <a:t>постановку диагноза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: основного, фонового, конкурирующего 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и сопутствующих заболеваний, травм, отравлений с кодами их по МКБ-10, группу здоровья,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</a:rPr>
              <a:t>назначенное  лечение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, обследование, а также результаты 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обследования и  динамического наблюдения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</a:rPr>
              <a:t>Обращение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 – это повод визита пациента в поликлинику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</a:rPr>
              <a:t>Цель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 – по поводу заболевания (диспансерное наблюдение, неотложное состояние и т.д.), с профилактической целью (медицинский осмотр, диспансеризация и т.д.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</a:rPr>
              <a:t>Обращение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 может состоять из одного или нескольких посещений пациента, в результате которых цель обращения достигнута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2895480" y="1676160"/>
            <a:ext cx="59436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Уважаемые коллеги, необходимо внимательно проработать контроли,  в программе «Медстат»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imes New Roman"/>
              </a:rPr>
              <a:t>Таблица 2100. Работа врачей медицинской организации </a:t>
            </a:r>
            <a:br>
              <a:rPr sz="1800"/>
            </a:br>
            <a:r>
              <a:rPr b="1" lang="ru-RU" sz="1800" spc="-1" strike="noStrike">
                <a:solidFill>
                  <a:srgbClr val="262626"/>
                </a:solidFill>
                <a:latin typeface="Times New Roman"/>
              </a:rPr>
              <a:t>в амбулаторных условиях</a:t>
            </a: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48" name=""/>
          <p:cNvGraphicFramePr/>
          <p:nvPr/>
        </p:nvGraphicFramePr>
        <p:xfrm>
          <a:off x="76320" y="1066680"/>
          <a:ext cx="8839080" cy="5732640"/>
        </p:xfrm>
        <a:graphic>
          <a:graphicData uri="http://schemas.openxmlformats.org/drawingml/2006/table">
            <a:tbl>
              <a:tblPr/>
              <a:tblGrid>
                <a:gridCol w="1447560"/>
                <a:gridCol w="457200"/>
                <a:gridCol w="838440"/>
                <a:gridCol w="609480"/>
                <a:gridCol w="609480"/>
                <a:gridCol w="533520"/>
                <a:gridCol w="609480"/>
                <a:gridCol w="609840"/>
                <a:gridCol w="533160"/>
                <a:gridCol w="685800"/>
                <a:gridCol w="685800"/>
                <a:gridCol w="533520"/>
                <a:gridCol w="685800"/>
              </a:tblGrid>
              <a:tr h="8226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из гр.3) сделано по поводу заболе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 врачами на до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й, включая профилактические - всег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-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ми 18 лет и боле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ельских жите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9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 12: по поводу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аллиативной медицинской 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емного отде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стр.1): в отделениях, кабинетах, пунктах неотложной мед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39943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39943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3994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отделениях, кабинетах паллиативной мед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9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1694"/>
          <p:cNvSpPr/>
          <p:nvPr/>
        </p:nvSpPr>
        <p:spPr>
          <a:xfrm>
            <a:off x="1924200" y="3343320"/>
            <a:ext cx="7010280" cy="48240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В строку 65 «приемного отделения» включены посещения приемного отделения к врачам различных специальносте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Text Box 1697"/>
          <p:cNvSpPr/>
          <p:nvPr/>
        </p:nvSpPr>
        <p:spPr>
          <a:xfrm>
            <a:off x="7363440" y="45720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Внимание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1694"/>
          <p:cNvSpPr/>
          <p:nvPr/>
        </p:nvSpPr>
        <p:spPr>
          <a:xfrm>
            <a:off x="1924200" y="2765520"/>
            <a:ext cx="7010280" cy="501480"/>
          </a:xfrm>
          <a:prstGeom prst="rect">
            <a:avLst/>
          </a:prstGeom>
          <a:solidFill>
            <a:srgbClr val="e3ea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В строку 60 «по паллиативной медицинской помощи» включаются посещения только с профилактической целью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1698"/>
          <p:cNvSpPr/>
          <p:nvPr/>
        </p:nvSpPr>
        <p:spPr>
          <a:xfrm>
            <a:off x="1914480" y="3902040"/>
            <a:ext cx="7010280" cy="1298520"/>
          </a:xfrm>
          <a:prstGeom prst="rect">
            <a:avLst/>
          </a:prstGeom>
          <a:solidFill>
            <a:srgbClr val="8399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у 123 вносятся посещения врачей-специалистов, оказывающих помощь в отделении (кабинете) неотложной медицинской помощи (при наличии его в структуре поликлиники медицинской организации), а также при оказании неотложной медицинской помощи на дому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1698"/>
          <p:cNvSpPr/>
          <p:nvPr/>
        </p:nvSpPr>
        <p:spPr>
          <a:xfrm>
            <a:off x="1924200" y="5251320"/>
            <a:ext cx="7010280" cy="1492560"/>
          </a:xfrm>
          <a:prstGeom prst="rect">
            <a:avLst/>
          </a:prstGeom>
          <a:solidFill>
            <a:srgbClr val="e3ea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у 124 вносятся посещения врачей-специалистов, оказывающих паллиативную медицинскую помощь в отделении (кабинете) паллиативной медицинской помощи (при наличии его в структуре поликлиники медицинской организации), а также при оказании паллиативной медицинской помощи патронажными службами на дому. Посещения указываются только с профилактической целью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6840" y="218880"/>
            <a:ext cx="670572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imes New Roman"/>
              </a:rPr>
              <a:t>Таблица 2100. Работа врачей медицинской организации </a:t>
            </a:r>
            <a:br>
              <a:rPr sz="1800"/>
            </a:br>
            <a:r>
              <a:rPr b="1" lang="ru-RU" sz="1800" spc="-1" strike="noStrike">
                <a:solidFill>
                  <a:srgbClr val="262626"/>
                </a:solidFill>
                <a:latin typeface="Times New Roman"/>
              </a:rPr>
              <a:t>в амбулаторных условиях</a:t>
            </a: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6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1698"/>
          <p:cNvSpPr/>
          <p:nvPr/>
        </p:nvSpPr>
        <p:spPr>
          <a:xfrm>
            <a:off x="504720" y="752400"/>
            <a:ext cx="8382240" cy="176220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К строке 123 - В соответствии с приказом МЗ РФ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 15 мая 2012 г. № 543н «Положение об организации оказания первичной медико-санитарной помощи взрослому населению» и приложением №5 «Правила организации деятельности отделения (кабинета) неотложной медицинской помощи» - оказание неотложной медицинской помощи лицам, обратившимся с признаками неотложных состояний, может осуществляться в амбулаторных условиях или на дому при вызове медицинского работник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1698"/>
          <p:cNvSpPr/>
          <p:nvPr/>
        </p:nvSpPr>
        <p:spPr>
          <a:xfrm>
            <a:off x="533520" y="2619360"/>
            <a:ext cx="8381880" cy="409572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К строке 124 - В соответствии с приказом МЗ РФ от 14.04.2015 №187н «Об утверждении Порядка оказания паллиативной медицинской помощи взрослому населению» и в соответствии с приложениями 1-6, 10-12 к настоящему Порядку - паллиативная медицинская помощь в амбулаторных условиях оказывается в кабинетах паллиативной медицинской помощи и выездными патронажными службами паллиативной медицинской помощи, созданными в медицинских организациях (в том числе в хосписах) на основе взаимодействия врачей-терапевтов, врачей-терапевтов участковых, врачей общей практики (семейных врачей), врачей по паллиативной медицинской помощи, иных врачей-специалистов и медицинских работников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приказом МЗ РФ от 14.04.2015 №193н «Об утверждении Порядка оказания паллиативной медицинской помощи детям» оказание паллиативной медицинской помощи детям осуществляется: врачами-педиатрами участковыми, врачами общей практики (семейными врачами), врачами-педиатрами, врачами по паллиативной медицинской помощи, прошедшими обучение по дополнительным профессиональным программам повышения квалификации) по вопросам оказания паллиативной медицинской помощи детям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 Box 1697"/>
          <p:cNvSpPr/>
          <p:nvPr/>
        </p:nvSpPr>
        <p:spPr>
          <a:xfrm>
            <a:off x="7236000" y="285840"/>
            <a:ext cx="16772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долж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imes New Roman"/>
              </a:rPr>
              <a:t>Таблица 2100. Работа врачей медицинской организации </a:t>
            </a:r>
            <a:br>
              <a:rPr sz="1800"/>
            </a:br>
            <a:r>
              <a:rPr b="1" lang="ru-RU" sz="1800" spc="-1" strike="noStrike">
                <a:solidFill>
                  <a:srgbClr val="262626"/>
                </a:solidFill>
                <a:latin typeface="Times New Roman"/>
              </a:rPr>
              <a:t>в амбулаторных условиях</a:t>
            </a: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1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2" name=""/>
          <p:cNvGraphicFramePr/>
          <p:nvPr/>
        </p:nvGraphicFramePr>
        <p:xfrm>
          <a:off x="304920" y="1066680"/>
          <a:ext cx="8610480" cy="5456520"/>
        </p:xfrm>
        <a:graphic>
          <a:graphicData uri="http://schemas.openxmlformats.org/drawingml/2006/table">
            <a:tbl>
              <a:tblPr/>
              <a:tblGrid>
                <a:gridCol w="2819160"/>
                <a:gridCol w="762120"/>
                <a:gridCol w="990720"/>
                <a:gridCol w="838080"/>
                <a:gridCol w="762120"/>
                <a:gridCol w="761760"/>
                <a:gridCol w="757440"/>
                <a:gridCol w="919080"/>
              </a:tblGrid>
              <a:tr h="639360"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из гр.3) сделано по поводу заболе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й, включая профилактические - всег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ми 18 лет и боле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нуальной терап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29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лечебной физкультур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едицинской реабилит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58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терапев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7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лексотерапев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8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отерапев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108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Кроме того, псих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3" name="Text Box 1697"/>
          <p:cNvSpPr/>
          <p:nvPr/>
        </p:nvSpPr>
        <p:spPr>
          <a:xfrm>
            <a:off x="7368120" y="45720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Внимание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 Box 310"/>
          <p:cNvSpPr/>
          <p:nvPr/>
        </p:nvSpPr>
        <p:spPr>
          <a:xfrm>
            <a:off x="4211640" y="2590920"/>
            <a:ext cx="4343400" cy="459720"/>
          </a:xfrm>
          <a:prstGeom prst="rect">
            <a:avLst/>
          </a:prstGeom>
          <a:solidFill>
            <a:srgbClr val="e3ea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Times New Roman"/>
                <a:ea typeface="Arial"/>
              </a:rPr>
              <a:t>Добавлены стро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310"/>
          <p:cNvSpPr/>
          <p:nvPr/>
        </p:nvSpPr>
        <p:spPr>
          <a:xfrm>
            <a:off x="4211640" y="3267000"/>
            <a:ext cx="4343400" cy="119124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орядок остается прежним: </a:t>
            </a:r>
            <a:r>
              <a:rPr b="1" lang="ru-RU" sz="1800" spc="-1" strike="noStrike">
                <a:solidFill>
                  <a:srgbClr val="990033"/>
                </a:solidFill>
                <a:latin typeface="Times New Roman"/>
                <a:ea typeface="Arial"/>
              </a:rPr>
              <a:t>Указываются посещения по вспомогательных подразделений только в случае «ведения» пациен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Rectangle 915"/>
          <p:cNvSpPr/>
          <p:nvPr/>
        </p:nvSpPr>
        <p:spPr>
          <a:xfrm>
            <a:off x="3895560" y="4876920"/>
            <a:ext cx="5029200" cy="164628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entury Gothic"/>
                <a:ea typeface="Arial"/>
              </a:rPr>
              <a:t>По стр.125 графы «По поводу заболевания» не заполняютс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Century Gothic"/>
                <a:ea typeface="Arial"/>
              </a:rPr>
              <a:t>Основные функции: Разработка развивающих и психокоррекционных программ по восстановлению здоровья больных и  проведение психодиагностических исследовани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imes New Roman"/>
              </a:rPr>
              <a:t>Таблица 2100. Работа врачей медицинской организации </a:t>
            </a:r>
            <a:br>
              <a:rPr sz="1800"/>
            </a:br>
            <a:r>
              <a:rPr b="1" lang="ru-RU" sz="1800" spc="-1" strike="noStrike">
                <a:solidFill>
                  <a:srgbClr val="262626"/>
                </a:solidFill>
                <a:latin typeface="Times New Roman"/>
              </a:rPr>
              <a:t>в амбулаторных условиях</a:t>
            </a: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8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9" name=""/>
          <p:cNvGraphicFramePr/>
          <p:nvPr/>
        </p:nvGraphicFramePr>
        <p:xfrm>
          <a:off x="304920" y="1066680"/>
          <a:ext cx="8610480" cy="5456520"/>
        </p:xfrm>
        <a:graphic>
          <a:graphicData uri="http://schemas.openxmlformats.org/drawingml/2006/table">
            <a:tbl>
              <a:tblPr/>
              <a:tblGrid>
                <a:gridCol w="2819160"/>
                <a:gridCol w="762120"/>
                <a:gridCol w="990720"/>
                <a:gridCol w="838080"/>
                <a:gridCol w="762120"/>
                <a:gridCol w="761760"/>
                <a:gridCol w="757440"/>
                <a:gridCol w="919080"/>
              </a:tblGrid>
              <a:tr h="639360"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из гр.3) сделано по поводу заболе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й, включая профилактические - всег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ми 18 лет и боле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нуальной терап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29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лечебной физкультур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едицинской реабилит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58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терапев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7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лексотерапев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8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отерапев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108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Кроме того, псих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0" name="Text Box 1697"/>
          <p:cNvSpPr/>
          <p:nvPr/>
        </p:nvSpPr>
        <p:spPr>
          <a:xfrm>
            <a:off x="7368120" y="45720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Внимание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Rectangle 915"/>
          <p:cNvSpPr/>
          <p:nvPr/>
        </p:nvSpPr>
        <p:spPr>
          <a:xfrm>
            <a:off x="1676520" y="2209680"/>
            <a:ext cx="6933960" cy="426744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entury Gothic"/>
                <a:ea typeface="Arial"/>
              </a:rPr>
              <a:t>стр.125 «Психологи»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entury Gothic"/>
                <a:ea typeface="Arial"/>
              </a:rPr>
              <a:t>заполняется на основании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Arial"/>
              </a:rPr>
              <a:t>журнала ежедневного учета психологических консультаци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который включает в себя следующие пункты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число первичных пациентов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число повторных пациентов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количество консультаций по видам психологической помощи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ри этом отдельно выделяются графы по учету консультаций, проводимых в стационаре или на дому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в амбулаторно-поликлиническом учреждении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журнал ведется ежедневн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imes New Roman"/>
              </a:rPr>
              <a:t>Таблица 2100. Работа врачей медицинской организации </a:t>
            </a:r>
            <a:br>
              <a:rPr sz="1800"/>
            </a:br>
            <a:r>
              <a:rPr b="1" lang="ru-RU" sz="1800" spc="-1" strike="noStrike">
                <a:solidFill>
                  <a:srgbClr val="262626"/>
                </a:solidFill>
                <a:latin typeface="Times New Roman"/>
              </a:rPr>
              <a:t>в амбулаторных условиях</a:t>
            </a: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3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4" name=""/>
          <p:cNvGraphicFramePr/>
          <p:nvPr/>
        </p:nvGraphicFramePr>
        <p:xfrm>
          <a:off x="76320" y="1066680"/>
          <a:ext cx="8839080" cy="4600800"/>
        </p:xfrm>
        <a:graphic>
          <a:graphicData uri="http://schemas.openxmlformats.org/drawingml/2006/table">
            <a:tbl>
              <a:tblPr/>
              <a:tblGrid>
                <a:gridCol w="1295280"/>
                <a:gridCol w="457200"/>
                <a:gridCol w="685800"/>
                <a:gridCol w="762120"/>
                <a:gridCol w="990360"/>
                <a:gridCol w="533520"/>
                <a:gridCol w="533520"/>
                <a:gridCol w="457200"/>
                <a:gridCol w="533160"/>
                <a:gridCol w="685800"/>
                <a:gridCol w="685800"/>
                <a:gridCol w="533520"/>
                <a:gridCol w="685800"/>
              </a:tblGrid>
              <a:tr h="822600"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из гр.3) сделано по поводу заболе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 врачами на до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й, включая профилактические - всег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-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ми 18 лет и боле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ельских жите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9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 12: по поводу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d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37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ы -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4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db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частковые педиат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4200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39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db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диатры городские, район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3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db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5" name="Text Box 1697"/>
          <p:cNvSpPr/>
          <p:nvPr/>
        </p:nvSpPr>
        <p:spPr>
          <a:xfrm>
            <a:off x="7363440" y="45720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Внимание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 Box 190"/>
          <p:cNvSpPr/>
          <p:nvPr/>
        </p:nvSpPr>
        <p:spPr>
          <a:xfrm>
            <a:off x="5334120" y="3200400"/>
            <a:ext cx="1752480" cy="131076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Разниц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тр. 45 – 46 – 47 по гр. 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должна быть больше гр.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Text Box 191"/>
          <p:cNvSpPr/>
          <p:nvPr/>
        </p:nvSpPr>
        <p:spPr>
          <a:xfrm>
            <a:off x="7162920" y="3200400"/>
            <a:ext cx="1676160" cy="131076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Разниц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тр. 45 – 46 – 47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по гр. 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должна быть больше гр.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Text Box 192"/>
          <p:cNvSpPr/>
          <p:nvPr/>
        </p:nvSpPr>
        <p:spPr>
          <a:xfrm>
            <a:off x="5334120" y="4572000"/>
            <a:ext cx="3581280" cy="58068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Разница стр. 45 – 46 – 47 по гр. 4 должна быть больше гр.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Text Box 193"/>
          <p:cNvSpPr/>
          <p:nvPr/>
        </p:nvSpPr>
        <p:spPr>
          <a:xfrm>
            <a:off x="5334120" y="5257800"/>
            <a:ext cx="3504960" cy="33732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И т.д. по всем графа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Text Box 194"/>
          <p:cNvSpPr/>
          <p:nvPr/>
        </p:nvSpPr>
        <p:spPr>
          <a:xfrm>
            <a:off x="152280" y="5715000"/>
            <a:ext cx="8763120" cy="580680"/>
          </a:xfrm>
          <a:prstGeom prst="rect">
            <a:avLst/>
          </a:prstGeom>
          <a:solidFill>
            <a:srgbClr val="fb93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верить аналогичные контроли по всем специальностям врачей, имеющих «входящие» строки. То есть, стр. 5 – акушеры гинекологи, стр. 67 – психиатры, стр. 69 – психиатры детские и т.д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Text Box 196"/>
          <p:cNvSpPr/>
          <p:nvPr/>
        </p:nvSpPr>
        <p:spPr>
          <a:xfrm>
            <a:off x="3276720" y="3657600"/>
            <a:ext cx="1981080" cy="179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  <a:ea typeface="Arial"/>
              </a:rPr>
              <a:t>Например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990033"/>
                </a:solidFill>
                <a:uFillTx/>
                <a:latin typeface="Times New Roman"/>
                <a:ea typeface="Arial"/>
              </a:rPr>
              <a:t>по гр. 3:</a:t>
            </a:r>
            <a:r>
              <a:rPr b="1" lang="ru-RU" sz="1600" spc="-1" strike="noStrike">
                <a:solidFill>
                  <a:srgbClr val="990033"/>
                </a:solidFill>
                <a:latin typeface="Times New Roman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  <a:ea typeface="Arial"/>
              </a:rPr>
              <a:t>5000-4200-400=400 </a:t>
            </a:r>
            <a:r>
              <a:rPr b="1" lang="ru-RU" sz="1600" spc="-1" strike="noStrike" u="sng">
                <a:solidFill>
                  <a:srgbClr val="990033"/>
                </a:solidFill>
                <a:uFillTx/>
                <a:latin typeface="Times New Roman"/>
                <a:ea typeface="Arial"/>
              </a:rPr>
              <a:t>по гр. 4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  <a:ea typeface="Arial"/>
              </a:rPr>
              <a:t>4800-3900-370=530   т.е. гр. 3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  <a:ea typeface="Arial"/>
              </a:rPr>
              <a:t>&lt; </a:t>
            </a:r>
            <a:r>
              <a:rPr b="1" lang="ru-RU" sz="1600" spc="-1" strike="noStrike">
                <a:solidFill>
                  <a:srgbClr val="990033"/>
                </a:solidFill>
                <a:latin typeface="Times New Roman"/>
                <a:ea typeface="Arial"/>
              </a:rPr>
              <a:t>гр. 4       ОШИБКА!!!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Text Box 194"/>
          <p:cNvSpPr/>
          <p:nvPr/>
        </p:nvSpPr>
        <p:spPr>
          <a:xfrm>
            <a:off x="152280" y="5667480"/>
            <a:ext cx="8763120" cy="58068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верить аналогичные контроли по всем специальностям врачей, имеющих «входящие» строки. То есть, стр. 5 – акушеры гинекологи, стр. 67 – психиатры, стр. 69 – психиатры детские и т.д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</a:rPr>
              <a:t>Таблица 2101</a:t>
            </a:r>
            <a:r>
              <a:rPr b="0" lang="ru-RU" sz="2200" spc="-1" strike="noStrike">
                <a:solidFill>
                  <a:srgbClr val="262626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84" name=""/>
          <p:cNvGraphicFramePr/>
          <p:nvPr/>
        </p:nvGraphicFramePr>
        <p:xfrm>
          <a:off x="152280" y="914400"/>
          <a:ext cx="8763120" cy="4038480"/>
        </p:xfrm>
        <a:graphic>
          <a:graphicData uri="http://schemas.openxmlformats.org/drawingml/2006/table">
            <a:tbl>
              <a:tblPr/>
              <a:tblGrid>
                <a:gridCol w="5257800"/>
                <a:gridCol w="762120"/>
                <a:gridCol w="2743200"/>
              </a:tblGrid>
              <a:tr h="554040"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8600" bIns="48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ещения к среднему медицинскому персоналу все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8600" bIns="48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на ФАПах (включая посещения на дому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8600" bIns="48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на передвижны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8600" bIns="48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фельдшерских пункта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8600" bIns="48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на передвижны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8600" bIns="48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пунктах (кабинетах) неотложной медицинской помощи </a:t>
                      </a: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 дом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931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8600" bIns="48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ому населению все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931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8600" bIns="48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ому населению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931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8600" bIns="48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ому населению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931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5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628"/>
          <p:cNvSpPr/>
          <p:nvPr/>
        </p:nvSpPr>
        <p:spPr>
          <a:xfrm>
            <a:off x="6172200" y="3309840"/>
            <a:ext cx="2743200" cy="1033560"/>
          </a:xfrm>
          <a:prstGeom prst="rect">
            <a:avLst/>
          </a:prstGeom>
          <a:solidFill>
            <a:srgbClr val="fb93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Внутриформенный контроль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трока 4 = сумме строк 4.2+4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628"/>
          <p:cNvSpPr/>
          <p:nvPr/>
        </p:nvSpPr>
        <p:spPr>
          <a:xfrm>
            <a:off x="6172200" y="1219320"/>
            <a:ext cx="2724120" cy="2054160"/>
          </a:xfrm>
          <a:prstGeom prst="rect">
            <a:avLst/>
          </a:prstGeom>
          <a:solidFill>
            <a:srgbClr val="e3ea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Из общего числа посещений к среднему медицинскому персоналу (стр. 1), в строке 4 указываются посещения среднего медицинского персонала пунктов (кабинетов) неотложной медицинской помощи, включая пункты на дому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2"/>
          <p:cNvSpPr/>
          <p:nvPr/>
        </p:nvSpPr>
        <p:spPr>
          <a:xfrm>
            <a:off x="152280" y="4724280"/>
            <a:ext cx="8744040" cy="1935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 строке 1 таблицы 2101 указываются посещения среднего медицинского персонала на самостоятельном приеме во врачебных амбулаторно-поликлинических учреждениях, на врачебных и фельдшерских здравпунктах, ФАПах и фельдшерских пунктах, включая передвиж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438840" algn="just">
              <a:lnSpc>
                <a:spcPct val="100000"/>
              </a:lnSpc>
              <a:buClr>
                <a:srgbClr val="e3ea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осещения к зубным врачам и гигиенистам стоматологическими в таблицу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не включаются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учет деятельности ведется в таблице 270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1676520" y="456840"/>
            <a:ext cx="579096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</a:rPr>
              <a:t>Таблица 2105</a:t>
            </a:r>
            <a:r>
              <a:rPr b="0" lang="ru-RU" sz="2200" spc="-1" strike="noStrike">
                <a:solidFill>
                  <a:srgbClr val="262626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90" name=""/>
          <p:cNvGraphicFramePr/>
          <p:nvPr/>
        </p:nvGraphicFramePr>
        <p:xfrm>
          <a:off x="152280" y="838080"/>
          <a:ext cx="8763120" cy="5681880"/>
        </p:xfrm>
        <a:graphic>
          <a:graphicData uri="http://schemas.openxmlformats.org/drawingml/2006/table">
            <a:tbl>
              <a:tblPr/>
              <a:tblGrid>
                <a:gridCol w="3733920"/>
                <a:gridCol w="533520"/>
                <a:gridCol w="1201680"/>
                <a:gridCol w="1008000"/>
                <a:gridCol w="762120"/>
                <a:gridCol w="1523880"/>
              </a:tblGrid>
              <a:tr h="27432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табл. 2100, стр. 1)  сделано посещений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-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ими жителями 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заболеваниям: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 неотложной фор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диспансерному наблюде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рофилактической и иными целями: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медицинский осмо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пансериз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ный медицинский осмо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центрах здоровь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лиативная помощ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ронаж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вижным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амбулатория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бными брига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бильными медицинскими брига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бильными медицинскими комплекс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1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703"/>
          <p:cNvSpPr/>
          <p:nvPr/>
        </p:nvSpPr>
        <p:spPr>
          <a:xfrm>
            <a:off x="4495680" y="2666880"/>
            <a:ext cx="4419720" cy="228600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ения, выполненные передвижными подразделениями, указываются из общего числа посещений (по заболеваниям и с профилактическими и иными целями). Также наличие передвижных подразделений и количество выездов  должно быть отображено в таблице 1003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Text Box 626"/>
          <p:cNvSpPr/>
          <p:nvPr/>
        </p:nvSpPr>
        <p:spPr>
          <a:xfrm>
            <a:off x="7139520" y="40320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Внимание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8T03:44:48Z</dcterms:created>
  <dc:creator>Шиблаков Иван Петрович</dc:creator>
  <dc:description/>
  <dc:language>en-US</dc:language>
  <cp:lastModifiedBy>classuser</cp:lastModifiedBy>
  <cp:lastPrinted>2018-11-07T07:41:24Z</cp:lastPrinted>
  <dcterms:modified xsi:type="dcterms:W3CDTF">2019-12-08T11:35:56Z</dcterms:modified>
  <cp:revision>68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