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9E8-3E74-451B-93CB-CDCAE268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9399-A263-4641-B17A-0FB58498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563D1-19C2-46A3-B417-70175235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F4235-6536-4197-BF6B-76B1F206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14864-6A36-46AB-AE06-E48E7A1D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C6F72-84B4-4ECD-B830-9467C8E0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E5136-8032-4E98-89E4-FBB94FB5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CA939-382D-4FDE-9973-0108904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60013-7F19-4B9F-BAFC-CA1CC8DB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54F29-0CCB-44BD-8F66-A422EB00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C2727-437E-45B7-BAA7-0F5A05AC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9B1C4-93EE-4091-8EAB-637A7453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1CA-7C60-4A9C-B4BD-E63C4D66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695E3-6A53-44D4-8B48-A592CD34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BB825-1DF7-4094-AAEE-5C521ED3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EA151-59DF-4CE6-A191-BEBAE9FB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936B7-91C7-48D2-9316-6BFAB7FD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3BE95-8D3C-4C75-8992-2A9F51CE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8D844-C78D-4F44-9B6A-567EB355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EA386-FB25-4279-9B3F-05B2CF47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0FACB-14EE-4AC7-B307-28BEE69C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3BE6C-40C5-4906-8750-A9F5ACBD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D390D-17E1-4F7B-A3AE-37ACA793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293-C332-48EA-84BD-EBD6CC94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3E6FD-FC31-4188-9EB1-74B66352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C92DC-EA40-4ACA-BA29-F1A4D9E1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8828E-DAC3-438D-913A-6054704D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46356-FDDC-40D7-9F65-19766768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05E4B-EEEB-4CE0-B47C-816753F1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C9B3E-6AE2-45BC-8617-C9E59DCF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8BF89-415D-4E8A-BD5E-21F25938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311E8-0B8F-43BB-8EA3-8AFDD5C4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8E84B-8AD2-4CD7-8589-5DF20540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7C048-1AE1-4236-904F-CAFF2AF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F1CE-4A47-4EE2-8BF4-99D35465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C0A5F-B119-4DF7-9C1B-853C0617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1A761-843F-4AE5-9285-7B008631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0C0C8-C7AC-4F83-A867-6E012399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036D1-D2D9-44F7-8F73-46EEAC2D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20A9A-399C-4A74-9723-6C767F9F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B2679-CC49-422E-A410-B17FB286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E46D9-6E2A-4BB0-B516-3852711C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822C2-3DD1-4E8B-84CC-937CF578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10B00-89F5-4DBF-8FDB-B5FD26EE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564F1-C590-4CA7-99F7-12B66C78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5F76-C16E-40AE-AA2F-A35604DB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BF0D5-0781-4F20-AF0F-416662CF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DF323-A327-4F77-9F22-18F7FEF8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B1218-0B4A-4F75-9DD5-FD390448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204EC-5F5F-4913-BB01-69FE1074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15FC1-9D1F-40D7-BADD-F2A006B5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604BA-56A8-4E37-9425-67257B0C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E3B103-314B-4574-8B05-607F6378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9FDA0-B205-412E-853F-024BBD19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A960B-072E-4AAC-9D30-2FEFF28B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CEFB29-EC85-400C-BEE6-D3ADFD86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F28A-3AA8-4B08-B8CB-B9045E2B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2BC7F-6C31-4347-93C8-BC339554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47069-13B5-43E9-B731-8605C858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74215A-5337-4315-B424-622C48EA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91266-0AC0-446F-991F-1E4F11A8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D4079-C091-470F-B883-1A3A78B3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DC923-03D7-4503-8504-B7B92152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31F66-86C6-4196-986E-EA77C845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79B163-D5EF-4F03-9C9D-E09F2DAA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A3FAE9-E113-43D1-97C7-91AB1CC0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709CB3-107C-4B0F-9B8D-47205BEF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816E-9BDE-43F8-928D-9B43B766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FD1BE-74A9-43B0-8CD5-D0D86831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A7C56-790D-42D8-9208-E654873D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C60214-0FB8-44CA-A515-80A0F428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C97AD-12DA-4F3B-B9AD-CDD8BF1F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CDDE2-436B-4093-B62B-14D9AD9A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D5BD2-14A2-424F-8718-6A90B4E6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BED46-3EFE-48F8-B53B-5D8E396B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EA474-D93E-4B4B-92C4-6D94D949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46F13C-FF0A-431B-9747-E840845F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BF593-092C-4701-98A7-67C4ECBD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BA07-2115-491D-92FB-14332901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64CD4-B018-4021-BAD7-1FC7B075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B64382-9EBD-41E8-BE36-36C70622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0CBBF-0EE6-4196-8C04-FE6DA3DE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62CF6-8B1D-481E-9351-D2730553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099B0-5709-4290-8224-7C593773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48DF4-44BD-452E-A0A1-2E7A251C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4E261F-4DED-478C-A803-B71A4059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E53B48-D9B8-48CD-97D7-7B313546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B1729-BADD-4757-8753-3C519868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2C067F-798C-4C09-A651-01450AA6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D63E-5D18-47F5-B85B-F67D38A4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54394-3DAE-4494-99FA-D9EF2D93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E0DDDB-B365-4D71-BC81-83A27B77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33A30-73A7-48C4-91A0-78E50E6C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49DCB-50FB-4C07-ADBB-6FF564A1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D7086-091D-4803-AE40-0AFE6A16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5B83C8-36C1-45D4-A353-2081F7C8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2DFE8-2214-496E-A9E8-9AE449DD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B3034-2BC4-4B68-B0FF-D5DA0DD5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FE31D8-4DB9-44A6-997C-92E6B1B7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72D423-F1DC-4339-9B6D-8491630D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3A30-EAFE-4883-8F7C-85E72BF1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D20D39-C895-44F4-8637-DD3A5083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BEC0F2-EE8A-487F-985A-19A4440E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E799E-8D15-4D58-8D49-F880C8E7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EDB17-04CE-4089-8397-F5D5FE3F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B6235-D2CF-4C05-A360-6929145B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87114-D822-4873-879B-63D4B379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A9F732-B47B-4462-99B2-C6935720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52CA3-F477-4BB0-A60F-90E83303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711CFB-A641-4302-94FF-EBEEB9CF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E9EEFD-4C88-41C0-8F16-CB8A33BA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322-CFD3-4CD2-9CDC-822B5609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283C-688D-43BF-AD0D-E31A54A8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7B5A1-D003-4A6B-A4E2-66D66FD1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AAEA77-E243-4A48-A4BD-59A53D98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32B970-DB37-4229-9A18-E377DFAF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60435D-BF18-436E-8E2A-138CEE41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13B795-35EF-421F-AA6F-C01BAAE7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F620B49-5A63-4083-B4FB-AB668FCC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B15DF2F-AC1D-4DD0-B028-D3C4BD92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CECB4F0-8F6F-47E4-8EB6-C29EFA82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A2B2D05-0D67-4CF5-8CE0-57E62F57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35CCCF-83FA-4CC2-AAF1-2C984C3E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7137-30A4-44C3-A45D-42A7D595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9B4E9E6-EC6E-4AF4-A11D-024F2F72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2DBE41-E656-4FEB-9828-06798812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D3FE66-1178-4EEC-99A7-04F93E9B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E9421F-D8AD-482B-9E01-E0F2929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16E8129-1E79-4BBC-8A7D-001805F2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7B3222-4F66-406F-A6A3-FCBAB329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851228-DB27-4262-A139-500EF7F6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3107-25F6-4A6D-8463-152B36F9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AEED-0FFE-4C64-B543-7443E6DD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0C36-C868-4862-801A-39EED09A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C3508-2510-46B9-AF8C-511F7AA4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3830B-53F5-4965-9574-1887706C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ED55-727B-4F22-9282-F8FDE770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C5F45-6A62-4045-A825-1A3D5B50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7E11-3636-4A90-AC47-12DC8EC7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657-9154-4BC8-8A5F-7C026215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20DD-9D49-4F91-B3AE-B8559A7C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B6A88-B573-4F53-92FB-EDF38157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3B01-0BA5-4FBC-B155-48C74173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0BA1-0EA6-4BB5-96B7-BF454455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3C12D-9A3B-415F-99E4-4CC12773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BAE4-FD19-4E86-8703-8D933C18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D9FD-BAFA-4C3F-87D7-9608D1C0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893BE-5706-45C8-ACC1-8DDC90FE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5F152-8699-4FA0-9FFA-9B0B9AEC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94E7-2869-430A-AABF-DCD61B62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E3D8-1211-43B8-B218-4D39008F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286BA-BF40-428F-8538-5622224E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B65B4-16F9-4B18-A3E1-1F36FCE8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8E534-2B8E-40DE-8656-A56BE1B4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1BD36-9711-4344-B35D-27193745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3C16C-5D73-4157-AF29-169652E8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E73B-F86B-451A-A71A-792184D0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CCEBF-E5F2-432D-BB9D-143E618F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F020E-3437-4B30-A071-D98A30E3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90CD3-FE30-47D3-A88D-60A112EC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D3926-8E16-4EC6-AF7A-BCAE9CE8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BE1-40D7-40FA-8949-778BC0AD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493E0-68A8-415E-8EA6-1D43F6E8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4F0E-15E6-4C05-8B25-F0179AA5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36DC0-5718-4645-99EA-2324F027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5DE49-DF64-4258-B072-0E27C19C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17A93-BE63-4D3C-9229-6D34E366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D2411-00D4-4BE6-B493-64E7C8B1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CDF80-FB42-4ABF-BCDB-A0610970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66116-FC0A-4DF2-9533-579D8496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95BA1-5CDA-4D46-B72D-1FE2D8BC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C50E9-CC90-401B-818E-802BB52E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9865-EBAA-4E67-B72D-537A1BBF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DE4FA-9581-49D8-A986-AB88CEDB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7466C-2156-45C1-8C26-892E19E3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088DC-7769-47F2-BFCF-E1194A65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AF1AB-B301-4673-B9DE-1BD1E120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2FDB9-263D-45F8-B091-13EF74AE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1CE08-D610-43AE-B096-276B7134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43696-00D5-403A-A867-C0F07ECF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6D5BA-6FF3-460C-B923-8B992F55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B8CD4-C49C-4012-BD36-5A1BA9D7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F81F8-4CB5-4A77-884B-393F5D3D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99A-A3D6-4F25-982A-0065ACB4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FCF18-0D81-4686-A9DE-39774686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1911F-FDA1-4B12-9145-80D7E3F5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0C7D4-4EBB-4E38-9FB7-CCC72E81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2FE52-EE32-48A2-A303-BD6BDDB6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E7AE2-2732-4947-A555-D8B9C967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41A29-1C70-44E1-85AC-3EDE2967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22309-53AB-4A4B-8125-98FE16CB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C995A-3A7D-407B-9032-1C404346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01CB3-4E83-4A51-8BFA-4C1B826D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7D3AA-71C1-462C-BACF-1AAEB4C1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21F-6626-47B4-BED1-0F11A924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677AB-036D-4515-A87C-EC5ED1C6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F23E6-E01D-4599-9340-51188DD0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94EBA-3CD0-494D-A897-9A171B01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EA54B-4E64-49A6-9D46-97E04C4A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35FA0-21A7-475C-954A-220C9D02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9E573-4571-40BC-BA30-DDDDFC52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BF466-5696-460D-B969-30AF09D9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0B7D5-D0DF-4AE3-AD8D-095B490B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0DCCF-A401-40FD-A5EC-3768194D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27E1F-419A-46A3-A4AD-18CCF415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658-6501-4927-992E-AEE6C8F9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B5668-110B-4FC5-8A80-84490950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9B00A-E440-4F16-A8CC-911C01F8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33664-7FCD-44A9-A5B1-264275B4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392EC-FF12-4BA5-8E75-B62392E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46118-2829-411F-81CC-4EED3926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1F71D-93F1-4215-8A42-BD58030B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76725-D2C5-46A1-AD7E-4AAE1518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41C98-E62F-4AB6-A401-4BE3118A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45557-8C46-4D0B-BA27-5FA5DEE1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5BD0A-7B29-4D28-8C14-2178FDB4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67DA-A35E-454F-8474-9BDD1AFC63E8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FF34-F72C-4400-969F-4DA39DF4626E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2D5A-A850-449E-BC21-5E4CD9B3E757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8651-3EDB-4916-B9F3-F96C3A03C406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1344-7038-4C14-80CD-8DFAFFB4F5E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2996-CEF4-4779-AE12-AEFE07A938B5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5F5B-45BC-46DF-B6C3-B61F913BA0BE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9436-345B-429E-BCC5-AE266542010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89D1-E85D-4025-95F6-989CE8E9514D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ftr" idx="5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sldNum" idx="5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8C83-F88D-4D6E-8920-2058AD28001D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dt" idx="5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716D-47A4-4964-945F-22DABD60F463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1153-F026-49ED-86F0-82A2D1C856BF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D673-FC34-405A-BBAC-F97950E3EE22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6B45-053B-4C3F-BEE5-625EE39A6F59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EB99-BFBC-4C6B-A2EA-ADC760FEF561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8E69-051A-432E-A20B-9330BF19DFEC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13BC-76D5-460A-A039-87569FA41F36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8D8E-8722-41D4-A46B-C6807AF4AEF9}" type="slidenum">
              <a:rPr b="0" lang="ru-RU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895120" y="1676160"/>
            <a:ext cx="624852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а №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Сведения о медицинск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Rectangle 5"/>
          <p:cNvSpPr/>
          <p:nvPr/>
        </p:nvSpPr>
        <p:spPr>
          <a:xfrm>
            <a:off x="609480" y="4419720"/>
            <a:ext cx="8534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ДЕ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ДЕЯТЕЛЬНОСТЬ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РГАНИЗАЦИИ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ОКАЗАНИ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ДИЦИНСКО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ПОМОЩИ 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МБУЛАТОРНЫ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УСЛОВ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5" name=""/>
          <p:cNvGraphicFramePr/>
          <p:nvPr/>
        </p:nvGraphicFramePr>
        <p:xfrm>
          <a:off x="152280" y="838080"/>
          <a:ext cx="8763120" cy="56152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697"/>
          <p:cNvSpPr/>
          <p:nvPr/>
        </p:nvSpPr>
        <p:spPr>
          <a:xfrm>
            <a:off x="4419720" y="2057400"/>
            <a:ext cx="4495680" cy="16891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3 – графа 4 = городские жители все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Графа 5 – графа 6 = городские жители де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Arial"/>
              </a:rPr>
              <a:t>!!!Всего не должно быть больше чем дети по всем строк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2 «в неотложной форме»: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по неотложной помощи – оказание неотложной медицинской помощи лицам, обратившимся с признаками неотложных состояний (при внезапных острых заболеваниях, состояниях, обострении хронических заболеваний, не опасных для жизни и не требующих экстренной медицинской помощи) в отделение (кабинет) неотложной медицинской помощи, являющегося структурным подразделением поликлиники (врачебной амбулатории, центра общей врачебной практики (семейной медицины), а также на дому при вызове врача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3 «активных»: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Посещение на дому считается активным, если оно проводится по инициативе врача. Как правило, активно наблюдаются пациенты больные со злокачественными новообразованиями, инфекционными заболеваниями, лица пожилого и старческого возраста, инвалиды с тяжелыми заболеваниями. Данный показатель должен составлять 30–60% от общего числа посещений на дому, что зависит от таких факторов, как соотношение первичных и повторных посещений пациента; динамика и сезонность заболеваний; возможность госпитализации и др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152280" y="53316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ри заполнении таблицы 2105 следует иметь в виду, что источником информации для таблицы 2105 служит Талон (форма №025-1/у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4 «по диспансерному наблюдению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диспансерное наблюдение представляет собой динамическое наблюдение, в том числе необходимое обследование, за состоянием здоровья лиц, страдающих хроническими заболеваниями, функциональными расстройствами, иными состояниями, в целях своевременного выявления, предупреждения осложнений, обострений заболеваний, иных патологических состояний, их профилактики и осуществления медицинской реабилитации указанных лиц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1" name="Rectangle 703"/>
          <p:cNvSpPr/>
          <p:nvPr/>
        </p:nvSpPr>
        <p:spPr>
          <a:xfrm>
            <a:off x="1676520" y="3276720"/>
            <a:ext cx="6324480" cy="25146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рограмме государственных гаранти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посещение в отчетном году по поводу диспансерного наблюдения считается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тчетной форме №30 учитываем по установленному порядку: Все посещения по поводу диспансерного наблюдения указываются по поводу заболе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 txBox="1"/>
          <p:nvPr/>
        </p:nvSpPr>
        <p:spPr>
          <a:xfrm>
            <a:off x="304560" y="762120"/>
            <a:ext cx="88390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6 «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порядке целевого профилактического осмотр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Целевые профилактические медицинские осмотры — медицинские осмотры (обследования), предпринятые с целью выявления определенных заболеваний на ранней стадии (новообразования, туберкулез, глаукома, сахарный диабет, сердечно-сосудистые заболевания и др.), охватывают различные группы организованного и неорганизованного насел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Включаются предварительные, периодические, медицинские осмотры спортсменов, профилактические осмотры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7 «диспансеризаци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ать количество посещений, выполненных в ходе диспансеризации определенных групп взрослого населения и диспансеризация детей-сирот (форма №131 и №030/Д/с/о- 13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ведения строки 6 в строку 7 не включают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8 «комплексный медицинский осмотр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и внеплановые медицинские осмотры (осмотры </a:t>
            </a:r>
            <a:r>
              <a:rPr b="0" i="1" lang="ru-RU" sz="1800" spc="-1" strike="noStrike">
                <a:solidFill>
                  <a:srgbClr val="404040"/>
                </a:solidFill>
                <a:latin typeface="Times New Roman"/>
              </a:rPr>
              <a:t>участников ВОВ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не плановой диспансеризации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9 «</a:t>
            </a: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из них в центрах здоровья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центрах здоровья (в соответствии с формой №6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0 «паллиативная помощь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 рамках оказания паллиативной помощи в амбулаторных условиях. К ним относятся посещения с кодом по МКБ-10 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Z51.5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«Паллиативная помощь»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строка 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«паллиативная помощь»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заполняется, если в организации организован кабинет (отделение) по оказанию паллиативной помощ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в данную строку включаются посещения врача кабинета противоболевой терап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1 «патронаж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на дому для проведения профилактических, оздоровительных и санитарно-просветительных мероприят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Патронаж — форма работы медицинской организации, основными целями которой являются проведение на дому оздоровительных и профилактических мероприятий, внедрение правил личной гигиены и улучшение санитарно-гигиенических условий в быту. Особенно широко используется в учреждениях охраны материнства и детства, некоторых диспансерах. Осуществляется врачами: участковыми (патронажными), диспансеров. Особой формой патронажа является уход за одинокими и престарелыми больным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</a:rPr>
              <a:t>строка 12 «прочие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указываются посещения, выполненные врачом с профилактическими целями, не указанными выше. Например, посещения контактных пациентов, обследования социальных условий проживания семьи, «подворовые» обходы в сельской местности и т.д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0492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5 «врачебные бригад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Организовывается в зависимости от конкретных условий оказания первичной медико-санитарной помощи населению в целях обеспечения ее доступности могут формироваться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постоянно действующие медицинские бригады, 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оящие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из врача-терапевта участкового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фельдшеров, акушеров и медицинских сестер, с распределением между ними функциональных обязанностей по компетенции, исходя из установленных штатных нормативов, предназначенных для расчета количества должностей, предусмотренных для выполнения медицинской организацией возложенных на нее функций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ока 16 «мобильные медицинские бригады»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Мобильная медицинская бригада организуется в структуре медицинской организации (ее структурного подразделения), оказывающей первичную медико-санитарную помощь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для оказания первичной медико-санитарной помощью населения, в том числе жителей населенных пунктов с преимущественным проживанием лиц старше трудоспособного возраста либо расположенных на значительном удалении от медицинской организации и (или) имеющих плохую транспортную доступность с учетом климато-географических условий. 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Состав мобильной медицинской бригады формируется руководителем медицинской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 организации (ее структурного подразделения) из числа врачей и медицинских работников со средним медицинским образованием</a:t>
            </a:r>
            <a:r>
              <a:rPr b="1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, исходя из цели ее формирования и возложенных задач</a:t>
            </a:r>
            <a:r>
              <a:rPr b="0" lang="ru-RU" sz="1800" spc="-1" strike="noStrike">
                <a:solidFill>
                  <a:srgbClr val="766f54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295280" y="3762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106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380880" y="800280"/>
          <a:ext cx="8382240" cy="140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64044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по поводу заболеваний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1 __, из них: сельских жителей  2 __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0-17 лет (из стр. 1) 3 _____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х жителей (из стр.3) 4__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7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174"/>
          <p:cNvSpPr/>
          <p:nvPr/>
        </p:nvSpPr>
        <p:spPr>
          <a:xfrm>
            <a:off x="235080" y="2190600"/>
            <a:ext cx="8686800" cy="279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щение включает в себя одно или несколько посещений пациента, в результате которых цель обращения достигну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зависимости от цели обращения подразделяются н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по поводу заболеваний, травм, отравлений и некоторых друг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ледствий воздействия внешних причин (коды A00 - T98 МКБ-1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- обращения с профилактической целью (коды Z00 - Z99 МКБ-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, указанные в таблице 2106, должны быть меньше, чем данные указанные в таблице 2100 по строке 1 в соответствующих граф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ратность посещений в среднем по медицинским организациям составляет – на одно обращение 3-3,5 посещения (кроме специализированных ЛПУ, например: психиатрическая, фтизиопульмонологическая больницы и т.п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Овал 5"/>
          <p:cNvSpPr/>
          <p:nvPr/>
        </p:nvSpPr>
        <p:spPr>
          <a:xfrm>
            <a:off x="235080" y="5156280"/>
            <a:ext cx="8391240" cy="1092240"/>
          </a:xfrm>
          <a:prstGeom prst="ellipse">
            <a:avLst/>
          </a:prstGeom>
          <a:noFill/>
          <a:ln cap="rnd" w="31680">
            <a:solidFill>
              <a:srgbClr val="c00000"/>
            </a:solidFill>
            <a:custDash>
              <a:ds d="499000" sp="20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bject 36"/>
          <p:cNvSpPr/>
          <p:nvPr/>
        </p:nvSpPr>
        <p:spPr>
          <a:xfrm>
            <a:off x="685800" y="5410080"/>
            <a:ext cx="225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2600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 </a:t>
            </a:r>
            <a:r>
              <a:rPr b="1" lang="ru-RU" sz="2100" spc="-1" strike="noStrike" baseline="32000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bject 39"/>
          <p:cNvSpPr/>
          <p:nvPr/>
        </p:nvSpPr>
        <p:spPr>
          <a:xfrm>
            <a:off x="3124080" y="5486400"/>
            <a:ext cx="13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bject 37"/>
          <p:cNvSpPr/>
          <p:nvPr/>
        </p:nvSpPr>
        <p:spPr>
          <a:xfrm>
            <a:off x="3352680" y="5410080"/>
            <a:ext cx="108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bject 32"/>
          <p:cNvSpPr/>
          <p:nvPr/>
        </p:nvSpPr>
        <p:spPr>
          <a:xfrm>
            <a:off x="4495680" y="5562720"/>
            <a:ext cx="1065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bject 41"/>
          <p:cNvSpPr/>
          <p:nvPr/>
        </p:nvSpPr>
        <p:spPr>
          <a:xfrm>
            <a:off x="5181480" y="5410080"/>
            <a:ext cx="576360" cy="432000"/>
          </a:xfrm>
          <a:custGeom>
            <a:avLst/>
            <a:gdLst>
              <a:gd name="textAreaLeft" fmla="*/ 0 w 576360"/>
              <a:gd name="textAreaRight" fmla="*/ 576720 w 57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576579" h="431800">
                <a:moveTo>
                  <a:pt x="360172" y="0"/>
                </a:moveTo>
                <a:lnTo>
                  <a:pt x="360172" y="107950"/>
                </a:lnTo>
                <a:lnTo>
                  <a:pt x="0" y="107950"/>
                </a:lnTo>
                <a:lnTo>
                  <a:pt x="108076" y="215900"/>
                </a:lnTo>
                <a:lnTo>
                  <a:pt x="0" y="323850"/>
                </a:lnTo>
                <a:lnTo>
                  <a:pt x="360172" y="323850"/>
                </a:lnTo>
                <a:lnTo>
                  <a:pt x="360172" y="431800"/>
                </a:lnTo>
                <a:lnTo>
                  <a:pt x="576326" y="215900"/>
                </a:lnTo>
                <a:lnTo>
                  <a:pt x="360172" y="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object 38"/>
          <p:cNvSpPr/>
          <p:nvPr/>
        </p:nvSpPr>
        <p:spPr>
          <a:xfrm>
            <a:off x="6095880" y="5410080"/>
            <a:ext cx="2035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БРАЩЕНИЯ ДОСТИГНУ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0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стоматологического кабинет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7" name=""/>
          <p:cNvGraphicFramePr/>
          <p:nvPr/>
        </p:nvGraphicFramePr>
        <p:xfrm>
          <a:off x="152280" y="1143000"/>
          <a:ext cx="8763120" cy="4092480"/>
        </p:xfrm>
        <a:graphic>
          <a:graphicData uri="http://schemas.openxmlformats.org/drawingml/2006/table">
            <a:tbl>
              <a:tblPr/>
              <a:tblGrid>
                <a:gridCol w="3810240"/>
                <a:gridCol w="609480"/>
                <a:gridCol w="1008000"/>
                <a:gridCol w="1241640"/>
                <a:gridCol w="2093760"/>
              </a:tblGrid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зубных врачей и  гигиенистов стоматологиче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х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 ц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 дети до 14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353"/>
          <p:cNvSpPr/>
          <p:nvPr/>
        </p:nvSpPr>
        <p:spPr>
          <a:xfrm>
            <a:off x="190440" y="6167520"/>
            <a:ext cx="8686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355"/>
          <p:cNvSpPr/>
          <p:nvPr/>
        </p:nvSpPr>
        <p:spPr>
          <a:xfrm>
            <a:off x="4572000" y="2708280"/>
            <a:ext cx="4419720" cy="17524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таблицу включаются и сведения о деятельности гигиенистов стоматологических и зубных врачей, в том числе зубных врачей здравпунктов, стоматологических кабинетов учебных заведений и предприятий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если они состоят в штате медицинской организ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360"/>
          <p:cNvSpPr/>
          <p:nvPr/>
        </p:nvSpPr>
        <p:spPr>
          <a:xfrm>
            <a:off x="4600440" y="5486400"/>
            <a:ext cx="4391280" cy="53352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должна быть равна сумме строк 2+3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360"/>
          <p:cNvSpPr/>
          <p:nvPr/>
        </p:nvSpPr>
        <p:spPr>
          <a:xfrm>
            <a:off x="4600440" y="4548240"/>
            <a:ext cx="4419720" cy="8096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еятельность гигиенистов стоматологических указывае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Таблица 2700 (продолжение)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4" name=""/>
          <p:cNvGraphicFramePr/>
          <p:nvPr/>
        </p:nvGraphicFramePr>
        <p:xfrm>
          <a:off x="152280" y="838080"/>
          <a:ext cx="8763120" cy="4000680"/>
        </p:xfrm>
        <a:graphic>
          <a:graphicData uri="http://schemas.openxmlformats.org/drawingml/2006/table">
            <a:tbl>
              <a:tblPr/>
              <a:tblGrid>
                <a:gridCol w="1133640"/>
                <a:gridCol w="460440"/>
                <a:gridCol w="608040"/>
                <a:gridCol w="560160"/>
                <a:gridCol w="789120"/>
                <a:gridCol w="623880"/>
                <a:gridCol w="625320"/>
                <a:gridCol w="608040"/>
                <a:gridCol w="790560"/>
                <a:gridCol w="608040"/>
                <a:gridCol w="574920"/>
                <a:gridCol w="591840"/>
                <a:gridCol w="789120"/>
              </a:tblGrid>
              <a:tr h="37620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 рабо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 курс профилак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 объем работы в УЕТ (из 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отрено в порядке плановой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 нуждались в са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3 санир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зубными врач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стами стоматологическ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1520"/>
          <p:cNvSpPr/>
          <p:nvPr/>
        </p:nvSpPr>
        <p:spPr>
          <a:xfrm>
            <a:off x="152280" y="5181480"/>
            <a:ext cx="8763120" cy="1314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1 показывается общее число санированных, как по обращаемости, так и во время профилактической работ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графе 16 указывается общий объем выполненной работы, выраженный в условных единицах трудоемкости (УЕТ). Выполненный объем работы в УЕТах указывае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в тысячах единиц с одним знаком после запят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1521"/>
          <p:cNvSpPr/>
          <p:nvPr/>
        </p:nvSpPr>
        <p:spPr>
          <a:xfrm>
            <a:off x="1828800" y="3124080"/>
            <a:ext cx="708660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между графами 11 и 14 по всем строкам должна быть на санированных при обращении пациента за медицинской помощ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1524"/>
          <p:cNvSpPr/>
          <p:nvPr/>
        </p:nvSpPr>
        <p:spPr>
          <a:xfrm>
            <a:off x="1752480" y="4302000"/>
            <a:ext cx="7010640" cy="5335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Объем выполненных работ гигиенистами стоматологическим в УЕТах (графа 16) указыв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710.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Работа врачей-стоматологов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0" name=""/>
          <p:cNvGraphicFramePr/>
          <p:nvPr/>
        </p:nvGraphicFramePr>
        <p:xfrm>
          <a:off x="152280" y="1143000"/>
          <a:ext cx="8534520" cy="3833640"/>
        </p:xfrm>
        <a:graphic>
          <a:graphicData uri="http://schemas.openxmlformats.org/drawingml/2006/table">
            <a:tbl>
              <a:tblPr/>
              <a:tblGrid>
                <a:gridCol w="3408480"/>
                <a:gridCol w="655560"/>
                <a:gridCol w="930240"/>
                <a:gridCol w="1101960"/>
                <a:gridCol w="672840"/>
                <a:gridCol w="874800"/>
                <a:gridCol w="890640"/>
              </a:tblGrid>
              <a:tr h="73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г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Число посещений врачей-стоматолог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(из т. 2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лечено зуб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ервичных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осложненного кари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тр. 1: дети до 14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15-17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е жители (из стр.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едвижных стоматологических кабинет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70"/>
          <p:cNvSpPr/>
          <p:nvPr/>
        </p:nvSpPr>
        <p:spPr>
          <a:xfrm>
            <a:off x="22860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Первичным считается первое посещение за стоматологической помощью в отчетном году по любому пово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3"/>
          <p:cNvSpPr/>
          <p:nvPr/>
        </p:nvSpPr>
        <p:spPr>
          <a:xfrm>
            <a:off x="4114800" y="30481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1 по графе 3 должна быть равна сумме посещений, указанных в таблице 2100 по сумме строк 86+87+89+90 и сумме граф 3+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85"/>
          <p:cNvSpPr/>
          <p:nvPr/>
        </p:nvSpPr>
        <p:spPr>
          <a:xfrm>
            <a:off x="4114800" y="5105520"/>
            <a:ext cx="4648320" cy="8380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6 по графе 3 должна быть равна сумме посещений, указанных в таблице 2100 по сумме строк 86+87+89+90 и сумме граф 4+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586"/>
          <p:cNvSpPr/>
          <p:nvPr/>
        </p:nvSpPr>
        <p:spPr>
          <a:xfrm>
            <a:off x="4114800" y="3962520"/>
            <a:ext cx="4648320" cy="10666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умма строк 4+5 по графе 3 должна быть равна сумме посещений, указанных в таблице 2100 по сумме строк 86+87+89+90 и сумме граф 5+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 txBox="1"/>
          <p:nvPr/>
        </p:nvSpPr>
        <p:spPr>
          <a:xfrm>
            <a:off x="457200" y="990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Посе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контакт пациента с врачом медицинской организации или подразделения, оказывающего медицинскую помощь в амбулаторных условиях по любому поводу с последующей записью в «Медицинской карте пациента, получающего медицинскую помощь в амбулаторных условиях» (форма № 025/у),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ключающей жалобы, анамнез, объективные данные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остановку диагноза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: основного, фонового, конкурирующего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и сопутствующих заболеваний, травм, отравлений с кодами их по МКБ-10, группу здоровья,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азначенное  лечение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, обследование, а также результаты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обследования и  динамического наблюден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это повод визита пациента в поликлинику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– по поводу заболевания (диспансерное наблюдение, неотложное состояние и т.д.), с профилактической целью (медицинский осмотр, диспансеризация и т.д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Обращение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</a:rPr>
              <a:t> может состоять из одного или нескольких посещений пациента, в результате которых цель обращения достигну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2895480" y="1676160"/>
            <a:ext cx="59436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ажаемые коллеги, необходимо внимательно проработать контроли,  в программе «Медстат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76320" y="1066680"/>
          <a:ext cx="8839080" cy="573264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838440"/>
                <a:gridCol w="609480"/>
                <a:gridCol w="609480"/>
                <a:gridCol w="533520"/>
                <a:gridCol w="609480"/>
                <a:gridCol w="60984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аллиативн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ного отд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стр.1): в отделениях, кабинетах, пунктах неотлож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399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тделениях, кабинетах паллиативной мед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9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1694"/>
          <p:cNvSpPr/>
          <p:nvPr/>
        </p:nvSpPr>
        <p:spPr>
          <a:xfrm>
            <a:off x="1924200" y="3343320"/>
            <a:ext cx="7010280" cy="4824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5 «приемного отделения» включены посещения приемного отделения к врачам различных специальнос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1694"/>
          <p:cNvSpPr/>
          <p:nvPr/>
        </p:nvSpPr>
        <p:spPr>
          <a:xfrm>
            <a:off x="1924200" y="2765520"/>
            <a:ext cx="7010280" cy="50148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у 60 «по паллиативной медицинской помощи» включаются посещени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1698"/>
          <p:cNvSpPr/>
          <p:nvPr/>
        </p:nvSpPr>
        <p:spPr>
          <a:xfrm>
            <a:off x="1914480" y="3902040"/>
            <a:ext cx="7010280" cy="1298520"/>
          </a:xfrm>
          <a:prstGeom prst="rect">
            <a:avLst/>
          </a:prstGeom>
          <a:solidFill>
            <a:srgbClr val="839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3 вносятся посещения врачей-специалистов, оказывающих помощь в отделении (кабинете) неотложной медицинской помощи (при наличии его в структуре поликлиники медицинской организации), а также при оказании неотложной медицинской помощ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1698"/>
          <p:cNvSpPr/>
          <p:nvPr/>
        </p:nvSpPr>
        <p:spPr>
          <a:xfrm>
            <a:off x="1924200" y="5251320"/>
            <a:ext cx="7010280" cy="14925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у 124 вносятся посещения врачей-специалистов, оказывающих паллиативную медицинскую помощь в отделении (кабинете) паллиативной медицинской помощи (при наличии его в структуре поликлиники медицинской организации), а также при оказании паллиативной медицинской помощи патронажными службами на дому. Посещения указываются только с профилактической цель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6840" y="21888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6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1698"/>
          <p:cNvSpPr/>
          <p:nvPr/>
        </p:nvSpPr>
        <p:spPr>
          <a:xfrm>
            <a:off x="504720" y="752400"/>
            <a:ext cx="8382240" cy="176220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К строке 123 - В соответствии с приказом МЗ РФ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15 мая 2012 г. № 543н «Положение об организации оказания первичной медико-санитарной помощи взрослому населению» и приложением №5 «Правила организации деятельности отделения (кабинета) неотложной медицинской помощи» - оказание неотложной медицинской помощи лицам, обратившимся с признаками неотложных состояний, может осуществляться в амбулаторных условиях или на дому при вызове медицинского работник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1698"/>
          <p:cNvSpPr/>
          <p:nvPr/>
        </p:nvSpPr>
        <p:spPr>
          <a:xfrm>
            <a:off x="533520" y="2619360"/>
            <a:ext cx="8381880" cy="409572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строке 124 - В соответствии с приказом МЗ РФ от 14.04.2015 №187н «Об утверждении Порядка оказания паллиативной медицинской помощи взрослому населению» и в соответствии с приложениями 1-6, 10-12 к настоящему Порядку - паллиативная медицинская помощь в амбулаторных условиях оказывается в кабинетах паллиативной медицинской помощи и выездными патронажными службами паллиативной медицинской помощи, созданными в медицинских организациях (в том числе в хосписах) на основе взаимодействия врачей-терапевтов, врачей-терапевтов участковых, врачей общей практики (семейных врачей), врачей по паллиативной медицинской помощи, иных врачей-специалистов и медицинских работни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риказом МЗ РФ от 14.04.2015 №193н «Об утверждении Порядка оказания паллиативной медицинской помощи детям» оказание паллиативной медицинской помощи детям осуществляется: врачами-педиатрами участковыми, врачами общей практики (семейными врачами), врачами-педиатрами, врачами по паллиативной медицинской помощи, прошедшими обучение по дополнительным профессиональным программам повышения квалификации) по вопросам оказания паллиативной медицинской помощи детя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97"/>
          <p:cNvSpPr/>
          <p:nvPr/>
        </p:nvSpPr>
        <p:spPr>
          <a:xfrm>
            <a:off x="7236000" y="285840"/>
            <a:ext cx="1677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долж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3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10"/>
          <p:cNvSpPr/>
          <p:nvPr/>
        </p:nvSpPr>
        <p:spPr>
          <a:xfrm>
            <a:off x="4211640" y="2590920"/>
            <a:ext cx="4343400" cy="45972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Добавлены стро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10"/>
          <p:cNvSpPr/>
          <p:nvPr/>
        </p:nvSpPr>
        <p:spPr>
          <a:xfrm>
            <a:off x="4211640" y="3267000"/>
            <a:ext cx="4343400" cy="11912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рядок остается прежним: </a:t>
            </a:r>
            <a:r>
              <a:rPr b="1" lang="ru-RU" sz="1800" spc="-1" strike="noStrike">
                <a:solidFill>
                  <a:srgbClr val="990033"/>
                </a:solidFill>
                <a:latin typeface="Times New Roman"/>
                <a:ea typeface="Arial"/>
              </a:rPr>
              <a:t>Указываются посещения по вспомогательных подразделений только в случае «ведения» паци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915"/>
          <p:cNvSpPr/>
          <p:nvPr/>
        </p:nvSpPr>
        <p:spPr>
          <a:xfrm>
            <a:off x="3895560" y="4876920"/>
            <a:ext cx="5029200" cy="164628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entury Gothic"/>
                <a:ea typeface="Arial"/>
              </a:rPr>
              <a:t>По стр.125 графы «По поводу заболевания» не заполняютс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Arial"/>
              </a:rPr>
              <a:t>Основные функции: Разработка развивающих и психокоррекционных программ по восстановлению здоровья больных и  проведение психодиагностических исследован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8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9" name=""/>
          <p:cNvGraphicFramePr/>
          <p:nvPr/>
        </p:nvGraphicFramePr>
        <p:xfrm>
          <a:off x="304920" y="1066680"/>
          <a:ext cx="8610480" cy="5456520"/>
        </p:xfrm>
        <a:graphic>
          <a:graphicData uri="http://schemas.openxmlformats.org/drawingml/2006/table">
            <a:tbl>
              <a:tblPr/>
              <a:tblGrid>
                <a:gridCol w="2819160"/>
                <a:gridCol w="762120"/>
                <a:gridCol w="990720"/>
                <a:gridCol w="838080"/>
                <a:gridCol w="762120"/>
                <a:gridCol w="761760"/>
                <a:gridCol w="757440"/>
                <a:gridCol w="919080"/>
              </a:tblGrid>
              <a:tr h="63936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уальной терап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лечебной физкульту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ой реабили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7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терапев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Кроме того, псих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них посещений инвали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0" name="Text Box 1697"/>
          <p:cNvSpPr/>
          <p:nvPr/>
        </p:nvSpPr>
        <p:spPr>
          <a:xfrm>
            <a:off x="736812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Rectangle 915"/>
          <p:cNvSpPr/>
          <p:nvPr/>
        </p:nvSpPr>
        <p:spPr>
          <a:xfrm>
            <a:off x="1676520" y="2209680"/>
            <a:ext cx="6933960" cy="426744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стр.125 «Психологи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Gothic"/>
                <a:ea typeface="Arial"/>
              </a:rPr>
              <a:t>заполняется на основани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журнала ежедневного учета психологических консультац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торый включает в себя следующие пунк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ервич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исло повторных пациентов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консультаций по видам психологической помощи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отдельно выделяются графы по учету консультаций, проводимых в стационаре или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в амбулаторно-поликлиническом учреждени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урнал ведется ежедневн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705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Таблица 2100. Работа врачей медицинской организации </a:t>
            </a:r>
            <a:br>
              <a:rPr sz="1800"/>
            </a:b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 амбулаторных условиях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76320" y="1066680"/>
          <a:ext cx="8839080" cy="4600800"/>
        </p:xfrm>
        <a:graphic>
          <a:graphicData uri="http://schemas.openxmlformats.org/drawingml/2006/table">
            <a:tbl>
              <a:tblPr/>
              <a:tblGrid>
                <a:gridCol w="1295280"/>
                <a:gridCol w="457200"/>
                <a:gridCol w="685800"/>
                <a:gridCol w="762120"/>
                <a:gridCol w="990360"/>
                <a:gridCol w="533520"/>
                <a:gridCol w="533520"/>
                <a:gridCol w="457200"/>
                <a:gridCol w="533160"/>
                <a:gridCol w="685800"/>
                <a:gridCol w="685800"/>
                <a:gridCol w="533520"/>
                <a:gridCol w="685800"/>
              </a:tblGrid>
              <a:tr h="822600">
                <a:tc row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из гр.3) сделано по поводу заболе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осещений врачами 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й, включая профилактические -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-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ыми 18 лет и бол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ельских жи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9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гр. 12: 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воду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частковые 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4200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3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диатры городские, рай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c88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db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5" name="Text Box 1697"/>
          <p:cNvSpPr/>
          <p:nvPr/>
        </p:nvSpPr>
        <p:spPr>
          <a:xfrm>
            <a:off x="7363440" y="457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190"/>
          <p:cNvSpPr/>
          <p:nvPr/>
        </p:nvSpPr>
        <p:spPr>
          <a:xfrm>
            <a:off x="5334120" y="3200400"/>
            <a:ext cx="175248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191"/>
          <p:cNvSpPr/>
          <p:nvPr/>
        </p:nvSpPr>
        <p:spPr>
          <a:xfrm>
            <a:off x="7162920" y="3200400"/>
            <a:ext cx="1676160" cy="131076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. 45 – 46 – 4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гр.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жна быть больше гр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192"/>
          <p:cNvSpPr/>
          <p:nvPr/>
        </p:nvSpPr>
        <p:spPr>
          <a:xfrm>
            <a:off x="5334120" y="4572000"/>
            <a:ext cx="358128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Разница стр. 45 – 46 – 47 по гр. 4 должна быть больше гр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193"/>
          <p:cNvSpPr/>
          <p:nvPr/>
        </p:nvSpPr>
        <p:spPr>
          <a:xfrm>
            <a:off x="5334120" y="5257800"/>
            <a:ext cx="3504960" cy="33732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 т.д. по всем граф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94"/>
          <p:cNvSpPr/>
          <p:nvPr/>
        </p:nvSpPr>
        <p:spPr>
          <a:xfrm>
            <a:off x="152280" y="5715000"/>
            <a:ext cx="8763120" cy="58068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196"/>
          <p:cNvSpPr/>
          <p:nvPr/>
        </p:nvSpPr>
        <p:spPr>
          <a:xfrm>
            <a:off x="3276720" y="3657600"/>
            <a:ext cx="1981080" cy="179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Наприм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3: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5000-4200-400=400 </a:t>
            </a:r>
            <a:r>
              <a:rPr b="1" lang="ru-RU" sz="16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по гр. 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4800-3900-370=530   т.е. гр. 3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&lt; 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гр. 4       ОШИБКА!!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194"/>
          <p:cNvSpPr/>
          <p:nvPr/>
        </p:nvSpPr>
        <p:spPr>
          <a:xfrm>
            <a:off x="152280" y="5667480"/>
            <a:ext cx="8763120" cy="580680"/>
          </a:xfrm>
          <a:prstGeom prst="rect">
            <a:avLst/>
          </a:prstGeom>
          <a:solidFill>
            <a:srgbClr val="d1d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рить аналогичные контроли по всем специальностям врачей, имеющих «входящие» строки. То есть, стр. 5 – акушеры гинекологи, стр. 67 – психиатры, стр. 69 – психиатры детские и т.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1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152280" y="914400"/>
          <a:ext cx="8763120" cy="4038480"/>
        </p:xfrm>
        <a:graphic>
          <a:graphicData uri="http://schemas.openxmlformats.org/drawingml/2006/table">
            <a:tbl>
              <a:tblPr/>
              <a:tblGrid>
                <a:gridCol w="5257800"/>
                <a:gridCol w="762120"/>
                <a:gridCol w="2743200"/>
              </a:tblGrid>
              <a:tr h="554040"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я к среднему медицинскому персоналу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на ФАПах (включая посещения на дому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фельдшерских пункт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на передвижны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унктах (кабинетах) неотложной медицинской помощи </a:t>
                      </a: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ому населению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00">
                <a:tc>
                  <a:txBody>
                    <a:bodyPr lIns="90000" rIns="90000" tIns="48600" bIns="48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му населен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9318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8600" bIns="486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8600" bIns="486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5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628"/>
          <p:cNvSpPr/>
          <p:nvPr/>
        </p:nvSpPr>
        <p:spPr>
          <a:xfrm>
            <a:off x="6172200" y="3309840"/>
            <a:ext cx="2743200" cy="1033560"/>
          </a:xfrm>
          <a:prstGeom prst="rect">
            <a:avLst/>
          </a:prstGeom>
          <a:solidFill>
            <a:srgbClr val="fb93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Внутриформенный контрол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трока 4 = сумме строк 4.2+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628"/>
          <p:cNvSpPr/>
          <p:nvPr/>
        </p:nvSpPr>
        <p:spPr>
          <a:xfrm>
            <a:off x="6172200" y="1219320"/>
            <a:ext cx="2724120" cy="2054160"/>
          </a:xfrm>
          <a:prstGeom prst="rect">
            <a:avLst/>
          </a:prstGeom>
          <a:solidFill>
            <a:srgbClr val="e3e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бщего числа посещений к среднему медицинскому персоналу (стр. 1), в строке 4 указываются посещения среднего медицинского персонала пунктов (кабинетов) неотложной медицинской помощи, включая пункты на до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2"/>
          <p:cNvSpPr/>
          <p:nvPr/>
        </p:nvSpPr>
        <p:spPr>
          <a:xfrm>
            <a:off x="152280" y="4724280"/>
            <a:ext cx="8744040" cy="1935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 строке 1 таблицы 2101 указываются посещения среднего медицинского персонала на самостоятельном приеме во врачебных амбулаторно-поликлинических учреждениях, на врачебных и фельдшерских здравпунктах, ФАПах и фельдшерских пунктах, включая передвиж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38840" algn="just">
              <a:lnSpc>
                <a:spcPct val="100000"/>
              </a:lnSpc>
              <a:buClr>
                <a:srgbClr val="e3eac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ещения к зубным врачам и гигиенистам стоматологическими в таблиц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не включаются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чет деятельности ведется в таблице 27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</a:rPr>
              <a:t>Таблица 2105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0" name=""/>
          <p:cNvGraphicFramePr/>
          <p:nvPr/>
        </p:nvGraphicFramePr>
        <p:xfrm>
          <a:off x="152280" y="838080"/>
          <a:ext cx="8763120" cy="5681880"/>
        </p:xfrm>
        <a:graphic>
          <a:graphicData uri="http://schemas.openxmlformats.org/drawingml/2006/table">
            <a:tbl>
              <a:tblPr/>
              <a:tblGrid>
                <a:gridCol w="3733920"/>
                <a:gridCol w="533520"/>
                <a:gridCol w="1201680"/>
                <a:gridCol w="1008000"/>
                <a:gridCol w="762120"/>
                <a:gridCol w="1523880"/>
              </a:tblGrid>
              <a:tr h="274320"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общего числа посещений (табл. 2100, стр. 1)  сделано посещений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ми жител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 0-17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сельскими жителями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болеваниям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неотложной фор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испансерному наблюд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офилактической и иными целями: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пансер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ый медицинский осмо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центрах здоров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трон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вижны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мбулатор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ебны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бригад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ьными медицинскими комплекс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1" name="Line 3"/>
          <p:cNvSpPr/>
          <p:nvPr/>
        </p:nvSpPr>
        <p:spPr>
          <a:xfrm>
            <a:off x="3720960" y="158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703"/>
          <p:cNvSpPr/>
          <p:nvPr/>
        </p:nvSpPr>
        <p:spPr>
          <a:xfrm>
            <a:off x="4495680" y="2666880"/>
            <a:ext cx="4419720" cy="2286000"/>
          </a:xfrm>
          <a:prstGeom prst="rect">
            <a:avLst/>
          </a:prstGeom>
          <a:solidFill>
            <a:srgbClr val="b6c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я, выполненные передвижными подразделениями, указываются из общего числа посещений (по заболеваниям и с профилактическими и иными целями). Также наличие передвижных подразделений и количество выездов  должно быть отображено в таблице 100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Text Box 626"/>
          <p:cNvSpPr/>
          <p:nvPr/>
        </p:nvSpPr>
        <p:spPr>
          <a:xfrm>
            <a:off x="7139520" y="403200"/>
            <a:ext cx="1499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Внимание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03:44:48Z</dcterms:created>
  <dc:creator>Шиблаков Иван Петрович</dc:creator>
  <dc:description/>
  <dc:language>en-US</dc:language>
  <cp:lastModifiedBy>classuser</cp:lastModifiedBy>
  <cp:lastPrinted>2018-11-07T07:41:24Z</cp:lastPrinted>
  <dcterms:modified xsi:type="dcterms:W3CDTF">2019-12-08T11:35:56Z</dcterms:modified>
  <cp:revision>6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