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  <p:sldId id="283" r:id="rId54"/>
    <p:sldId id="284" r:id="rId55"/>
    <p:sldId id="285" r:id="rId56"/>
    <p:sldId id="286" r:id="rId57"/>
    <p:sldId id="287" r:id="rId58"/>
    <p:sldId id="288" r:id="rId59"/>
    <p:sldId id="289" r:id="rId60"/>
    <p:sldId id="290" r:id="rId61"/>
    <p:sldId id="291" r:id="rId62"/>
    <p:sldId id="292" r:id="rId63"/>
    <p:sldId id="293" r:id="rId64"/>
    <p:sldId id="294" r:id="rId6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slide" Target="slides/slide28.xml"/><Relationship Id="rId55" Type="http://schemas.openxmlformats.org/officeDocument/2006/relationships/slide" Target="slides/slide29.xml"/><Relationship Id="rId56" Type="http://schemas.openxmlformats.org/officeDocument/2006/relationships/slide" Target="slides/slide30.xml"/><Relationship Id="rId57" Type="http://schemas.openxmlformats.org/officeDocument/2006/relationships/slide" Target="slides/slide31.xml"/><Relationship Id="rId58" Type="http://schemas.openxmlformats.org/officeDocument/2006/relationships/slide" Target="slides/slide32.xml"/><Relationship Id="rId59" Type="http://schemas.openxmlformats.org/officeDocument/2006/relationships/slide" Target="slides/slide33.xml"/><Relationship Id="rId60" Type="http://schemas.openxmlformats.org/officeDocument/2006/relationships/slide" Target="slides/slide34.xml"/><Relationship Id="rId61" Type="http://schemas.openxmlformats.org/officeDocument/2006/relationships/slide" Target="slides/slide35.xml"/><Relationship Id="rId62" Type="http://schemas.openxmlformats.org/officeDocument/2006/relationships/slide" Target="slides/slide36.xml"/><Relationship Id="rId63" Type="http://schemas.openxmlformats.org/officeDocument/2006/relationships/slide" Target="slides/slide37.xml"/><Relationship Id="rId64" Type="http://schemas.openxmlformats.org/officeDocument/2006/relationships/slide" Target="slides/slide38.xml"/><Relationship Id="rId65" Type="http://schemas.openxmlformats.org/officeDocument/2006/relationships/slide" Target="slides/slide39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dt" idx="7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 type="ftr" idx="7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6"/>
          <p:cNvSpPr>
            <a:spLocks noGrp="1"/>
          </p:cNvSpPr>
          <p:nvPr>
            <p:ph type="sldNum" idx="7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6E5C-2FA3-43CB-8B0C-1F5419ADF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A01B-00DC-44F0-B1D9-C20F05661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8FE4-27A6-4D79-B095-D98879D3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F443-EDAE-4AF9-A88E-6E044904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F24DC-17AB-4D19-8599-1DE1CE20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6C03E-0ED8-45B5-BF08-71BEFF88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62BDB-CA14-4A97-B759-41B8A480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E7348-1054-4C4D-B34A-C94B2A21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CD86E-5FAE-4B27-974C-5985D925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8FD4B-BD84-42ED-8455-49F22FE4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9E6BE-C234-4EDD-9C71-FB88DDC5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3782B-69B7-4C84-B1C8-E172E054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3EC27-CB70-4C3D-B96B-6BA9A608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08D8F-F888-4565-BBD8-38BBAC57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5ACE-C7FB-4624-BE11-C4DBFDC0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A0CD0-719E-4F68-9049-8D4723A6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463B7-ACAE-4B0B-BFA5-B7B2F17D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ABCB4-DBD9-4A69-9152-A9723FDE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C1D7F-7A30-4CEC-ADA9-39379A05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2B1AE-7324-4107-8A27-31ED1B0A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6E92F-0037-4D79-8FB4-A5DC5E49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68026-4B20-4459-BFC8-614DE0D2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52B57-1BE7-49C2-B49B-82E47FFF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36AF5-5FBA-4DD6-921D-F85402C8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8A7BF-BB0D-4988-AA31-77B81D9B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D989-E893-4EBD-9924-DEBF09FC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768C8-3392-4503-BF30-C72785A2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C5180-039C-4EC1-B29C-A70AB45C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41934-2A1D-40AF-BEF4-367B2210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365EC-54DB-4BF2-993A-45E84565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F14F7-EF31-4AEB-970F-F49F672A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1BBEB-6465-41B1-BD29-50CAEAE7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99182-1258-447E-8B4A-CC92C051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47CB9-3746-42D4-85CD-E7B04DDE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78809-6CA0-4A16-A7E5-50E68B70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4BD86-AE56-4FF8-913B-DD0BEFAF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B786-0774-4F01-9DA1-F72FB8A1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1E6E5-1AAF-45F3-8F15-B7B99E4D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8DB48-D901-4E38-8A59-874BBB8E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BC679-B9A6-4D6B-A09D-55757808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6FCB3-4F79-4C5A-88F0-92D9BBB8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45F10-C5C6-44EC-89AA-34B8B9E7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9E510-ADE1-4B52-BB50-72983CED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DE99B-F798-4654-A567-14E58197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2E95A-AEAD-47D8-83C5-456B669C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3073A-101B-4750-B2A1-FA872F64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EF18C-5BEC-4CAA-8ADE-A9606AB8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B7A0-C2A7-4D05-BCDD-3487CB30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8D402-E2D2-4B1B-82B7-D388AE68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1A509-EA76-48A5-9A45-4D4050F6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304A1-6430-415F-A9A4-7D5E8CC1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7CE30-0C52-4C02-AFC2-791C8091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49A83-8B01-4DC4-A6E9-E8492450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57B2FF-D22D-4B64-88C0-598B926F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22B371-1FC7-48A4-A88E-2D38E87A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48102A-03B0-46C7-ACFF-0FE7CADD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F33E2D-610B-41D5-B8A2-3C3F45E3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84AB1-AECC-4A71-85CE-9F177623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5B3D-3FA8-46FE-88CF-6EAC9E3D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EBBFA6-686E-4CDE-821E-5D617ACA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42076C-0D36-420E-B220-4B091EF9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7EF4B0-0CDE-415E-B819-482A81F4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E01269-52D0-40A9-A2C7-F36F73D4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B4ADA5-57EE-4398-B236-2D1AC42C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215E30-1770-4ED4-A069-E70574CD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600CF0-856A-48DA-8E19-F090276E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EFEF14-BC38-440A-ADF1-6705B7DF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C3B6C8-CB5A-4207-BDAF-1047228F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3BBF7B-C513-4477-A312-7E786AA6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71A4-C42F-4C9C-9221-223F38DE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379EAC-B0E0-4831-98DD-0A0FB255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26F9BA-E107-4F97-AD62-90F34E8E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FF9992-E27D-42F7-82E9-9C5EE515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D4FD84-4628-4573-B2B0-269E350D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0F8184-F9BF-4D87-8917-D0C7AAAA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F2B249-6DBC-402F-A0D2-13C4C7E0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C9D80E-676D-4DBF-88F5-873DEA6E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4A663B-009F-4C44-BBCF-6119BAE3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4C56C7-52D9-49CA-B34A-D2F9E394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1D7BE6-DAA6-48FA-A99E-2533F530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19E2-6A58-4C28-89CB-49B9AEFE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929FC9-2247-4813-83CE-86966D9F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CAF5CA-CE22-4046-A295-BB6491A4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22E144-07CE-42DB-93D8-BA1E351E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24A963-CE36-4D2A-82C9-B67D0B59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E565C0-E108-4F90-91BE-2B337F9E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3FBFC8-1A73-4890-8301-86FC62B9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390431-B2A8-43DA-A1D7-08EE2684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48D6AA-A98C-4BA5-997C-57E6AB46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AAA9DB-38B9-4C63-AB47-F8268E9C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0E6CB1-BD27-42CE-B9EC-FAE652620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C358-62F0-4983-9D4D-FFD6AC26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D0F98C-5577-4124-84FC-447CE3DA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C16965-7033-4959-8267-37FD5828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4D0FBC-43E1-4668-A7DD-2863FED7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3827A7-31BB-4819-BF4A-237609FA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26FAD0-C0F4-433A-839C-A5E91A03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1D5B53-9A11-44D7-A0E5-054F292E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442535-8260-4207-B532-B0F2C254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234AE7-02CA-403F-ABB1-62C4993C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65C76C-EE3A-41A5-B686-8A088DA2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BA74C0-AA90-43F6-9D24-C3E40F3F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A959-1463-45D3-B660-B8A9538C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A89D0D-802D-4566-9481-04E78C2F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CA94C8-E210-4336-80DE-078C044B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5027A1-4D57-40A4-8AF0-6D3C410F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7C73AF-3831-4DE2-8AAB-F5B07DF4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507FAD-4F90-4EE2-92E5-066C849F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3A8941-C9BF-4D46-ACAF-C19220A2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AC9998-D438-4866-89BD-F6138E21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FD24AF-1B7D-48BC-954E-69152011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C9DE62-EC9B-4252-929C-18F18FEB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4C11EC-30D3-4C68-B671-44849178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834E-9B81-49E7-AF10-3C0D6E2D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97F9-6796-457F-9447-B5D1FCB8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0A81EC-E852-4DD8-8940-27BA354B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54611F-5E2A-4FCE-9B72-9C0CBA7C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A2C233-642D-4742-A157-AB376B38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E8B8D2-96C0-41FE-B4E9-CF413A5E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FCA05C-0B66-4140-822A-76CC8AA2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5137CD-84BF-4CBD-8E57-B4D541ED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0962C7-742D-4D9B-8474-BD0BE6C1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C615C3-6458-4F64-83A5-1A1A1798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24957A-750C-482D-BF43-B4F54605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C00AD6-E7A2-4343-8D15-3BC9A6E3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93C7-1D33-49D1-AFD0-6451F05A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49214F-142D-42C4-B32C-D5CC7881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3BE9E7-5C06-46D8-B1DD-8FB6CFF5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57EC1F-AE12-4734-8043-F2BB3C44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97B932-DB29-49FA-ADA5-25EA8A60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42B83F-31D5-4231-BB92-128D7E78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993519-8CBE-4C79-84CC-F41ADBD7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CB1D7E-DF95-4D63-8907-46EC32E3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A2DF4F-88DD-4C26-B09D-41A22EC6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B777B7-1377-4F03-BC6F-2F212A45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63B0CD-95B1-4F79-95DE-D1290634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330C-A926-4A77-A932-8458C434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EF3CBE-DAB7-4882-95FA-C26CA70B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28815A-619D-435F-99C9-94366770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BA9CF8-59D9-4734-A3F9-64B1C87E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F2323E-54E1-45C9-A02E-C412E582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049379-EE19-4B3B-8FEF-2A120F8B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0C6FFD-3821-4BE2-A86D-7CBB74C4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30EF90-025D-49DA-93EE-BF5FC05A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C464A3-D4C4-440B-9264-13B42B07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8B1CB8-F739-4EAD-8D88-75DBD9A8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83F71F-9FCC-461A-B8E6-EF9F99D1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8ECD-7C08-4AB3-86C2-B9047DB7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8D6343-5212-4151-A9CD-8B304CD6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5B657F-2C42-4AEB-B1F3-8B40DD55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44EBE9-9414-405B-8B8E-DEA7F97C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2D760C-0A77-4867-B3B7-E00EDF73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505D70-C13B-4294-A4D8-3F969DC6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4EA197-2E37-42CA-AF64-900AB5C7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60DD4D-6D90-4EFA-B7A2-CB390C3A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6CBB81-D536-4B09-BFD8-890BAF27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1DFB08-D200-42E3-B087-E8CE0C61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ED605B-0915-440E-8205-81E5173E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D1DA-4800-4644-9A3A-C11A7AD2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22B84C-228B-4002-8FA2-B9D709DC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B25956-5543-4AEA-8661-D79220C5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E9489A-E5AE-4682-B67A-943E12D0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0CA085-78E3-4B0D-B47D-E9470246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5B7CCE-863E-4BE3-9200-00E1DD2A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30F5EC-DDE7-40DA-9BA9-FEEF1585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B71BE6-81C0-4885-9215-7352AF43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E22B11-4ADC-423C-B3C6-37DB6046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9161CA-B49B-4D77-96AD-629E1E64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9A8B2C-CDA7-45BE-9982-84A9B086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A5206-800D-42BE-AF37-7819908D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B7D0A7-C5E6-4C43-931F-B6A533DB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0C6761-061D-43BA-A7E2-E15BFAEE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B156F9-A0EA-4D64-B025-63DEF86A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607C3B-4ABB-4D6A-BD0A-EEF90541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8B4463-F1ED-4B70-83D5-E9B1F1FF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8A1BFA-7EC9-43A0-B5C1-E8D11E7A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18564E-DFF1-48D2-8CC7-0576E828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86BA62-8D4F-4990-9A2A-BA2FE3A9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6D0D71-0AEF-4216-9F93-8FC30791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EEE3F4-360E-4DA3-9BFB-E80BD910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42AED-CB76-4A66-8563-A220A09E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6CA678-F808-41E5-83E2-653040D5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12D1BE-BFD6-4883-AA34-0279E712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596AD7-F0FA-48FD-9420-CE11014F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438C70-7A17-49E4-8B34-235A5228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E43DDF-D4AB-4F39-B4A8-668A8D65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57D5ED-B282-476E-94B6-5151629B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07968C-4830-4395-9479-A70C2920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641102-1241-4162-8DDA-4EC8F074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3321FE-18CA-4440-972A-A4DB09C4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D4EEFD-ABCC-4CAF-A4F7-4B57B87D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D7288-3B06-4982-B016-DFE48776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485B29-605A-4484-81C2-5E87910D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CDF649-2823-499A-B076-19FA4BB3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5727DC-EDE0-47D3-8FC1-5AAF8FEE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649F83-5DBC-4E7D-B3B4-9BE1F835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B9ABBE-A878-4650-86FA-81FFDA0E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000594-B2A1-44C0-A01C-E24BE83B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67CA8F-505E-48BD-9D4E-F400EB2A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798531-02BA-4842-8FDF-1584AE29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4F8A15-DCB5-49E8-9808-64F18E96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A4A819-E60F-4848-A82D-236800A8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4CF0C-C4E4-4BEA-886E-2A5FF135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26313F-4BED-4360-8A9B-DCE9D9EC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4ABC74-E6E2-40B5-A71E-F0B1578D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2143EF-2EAC-4391-8DC9-F75D7B86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912BEE-3633-4EFE-8228-EB2280C3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E7CE1F-C3DA-403B-87AD-C3EA2F4F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CF24FD-C7B4-49C1-8E69-C12B685A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D5E37C-7ED5-4556-828A-C396E76C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21664D-063F-4311-8967-22166A8C9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CB9EA5-C857-414E-BA42-A5D24B1E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505F7-87F7-41BD-8AF4-AF32B723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465A-1583-41B3-B287-51D4726A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ACCA3-D18B-40E9-98CD-3BDFBEAF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FF088-922A-48C9-A1C4-F510C33B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EB501-E709-4CA9-98E3-6B0DA14C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832B5-60CA-4215-8884-244DF730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27C44-C522-4347-838A-FC4C1173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8AC67-97DF-42FD-A039-C86E596D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955BE-7865-4541-B818-C2DAB987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D1786-115C-46E3-9A25-33CAF08C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1D95B-68D1-47E9-8DBB-A474220E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F62E3-DDC8-4803-B317-27FA9138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FCAD-E08F-40CE-A055-3F5BAE38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43CC9-BD11-4D4F-BFE2-D39FC2F2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2AA8B-CBD4-4A79-BD1A-92919561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18874-6702-4A2C-BFC0-4496DBDE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BE2A3-36D7-475A-B1F4-81F579D5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E94BF-FE5B-4F51-A196-78AD8E2A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0B7DF-9AF5-4D83-B4E5-D27D2438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0B869-922D-4A95-BA5C-52CA8E5A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13C55-A8C3-41ED-8E30-4F85F398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F1E4C-FBA2-42A8-BFD4-11AA0B9EC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FE04B-66FD-4F18-A228-B520A5E6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090F-B13B-4356-B035-027F5FF1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BB929-0C00-4686-B7FD-732720E2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78E16-F229-4EF0-9809-87298637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24D0E-7B9B-411A-8089-B98D42AF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1C69A-833A-42B4-8580-D2B60132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8BD51-C4F9-4A8C-865D-F9752263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88AB4-724A-4997-B839-ADA0C6AC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C7F8A-14F9-44B4-BCB6-CDA8E427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1625F-18D3-4432-A27C-5B30C423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7DD16-2662-4C42-BC34-ECCCE270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1D3E7-E314-46F4-A532-78CBD540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D0D1-725B-4C23-8E01-F356EBAD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086AD-EA2F-4385-BCB3-70931F9C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5C7B1-E31E-43B9-99B0-EE701B9C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B0D67-6532-4C8F-B12B-FFEB3AF4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B550E-C6E3-4E22-9A97-0C427B73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8FE7A-63A1-4161-94F2-5DA500BE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549F3-A235-4FF8-8021-805FE3E8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0486F-C305-4FA5-8929-ABC99191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4AC20-2D66-4F3D-9C14-B703A840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43001-CB69-4DD3-9D3F-1A2060F3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46654-EDE4-4D6E-A277-F78B0CF8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F760-396E-433A-A3CF-434DD6CF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D106E-A427-4918-9685-5DFD5139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E40D1-4604-4BFB-84AF-09E43F32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7C837-DD9C-4AA4-B596-5B0C7BFD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EB0C5-CC34-4613-AC61-E2CCBAE9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79FA7-CF97-4624-911D-86E88B72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3797A-E3A3-4291-8436-9E29AB8B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2F292-E29D-4C4D-BCFB-95213803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9B352-8351-4DD7-8CB9-ACE5BC9F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04CFC-4CB4-4F0B-B2AE-90D56E7B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0D75B-05A4-4FE3-B1E2-8A667A97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24E-2403-42F6-8F0D-42AAF534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F78EF-B2AB-486E-B868-3C0247B2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FE8BD-9064-430A-8239-2D9538E8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626B4-727C-4C68-981A-9A898667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5BB23-7DF1-43CE-9D4E-AAE94910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41A4E-0AC9-4D77-9FAC-B2D2A09E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0D710-E0B5-49E1-BFE0-C06AFBE9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B23DE-C164-4EB7-ADF7-34CF2D34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BB42B-9B03-4898-BDC2-8772B681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CF753-CF92-4A7D-991E-9DC7420A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6C818-3900-4495-AD2C-E7EE98F7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F1A7-6AEB-42EA-8029-EE6457D2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99FB2-4938-4266-977B-09FD2531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F36D5-7498-4F3A-AE0D-10C6248C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CF52A-0672-40D5-B056-43B21BB1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CF740-F6C3-47E3-9C37-C742DC3E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07118-44DF-4837-A73D-171E775E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2D455-3BBC-42F3-BE57-AA618B24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63B28-6BB3-4273-8912-3C6060E1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98358-8B65-4A58-B42E-F060ED8A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5FECE-9AE4-4A1F-B023-74D009AD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0FA64-E781-4850-9B37-8CB7DD75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05.xml"/><Relationship Id="rId8" Type="http://schemas.openxmlformats.org/officeDocument/2006/relationships/slideLayout" Target="../slideLayouts/slideLayout206.xml"/><Relationship Id="rId9" Type="http://schemas.openxmlformats.org/officeDocument/2006/relationships/slideLayout" Target="../slideLayouts/slideLayout207.xml"/><Relationship Id="rId10" Type="http://schemas.openxmlformats.org/officeDocument/2006/relationships/slideLayout" Target="../slideLayouts/slideLayout208.xml"/><Relationship Id="rId11" Type="http://schemas.openxmlformats.org/officeDocument/2006/relationships/slideLayout" Target="../slideLayouts/slideLayout209.xml"/><Relationship Id="rId12" Type="http://schemas.openxmlformats.org/officeDocument/2006/relationships/slideLayout" Target="../slideLayouts/slideLayout210.xml"/><Relationship Id="rId13" Type="http://schemas.openxmlformats.org/officeDocument/2006/relationships/slideLayout" Target="../slideLayouts/slideLayout211.xml"/><Relationship Id="rId14" Type="http://schemas.openxmlformats.org/officeDocument/2006/relationships/slideLayout" Target="../slideLayouts/slideLayout212.xml"/><Relationship Id="rId15" Type="http://schemas.openxmlformats.org/officeDocument/2006/relationships/slideLayout" Target="../slideLayouts/slideLayout213.xml"/><Relationship Id="rId16" Type="http://schemas.openxmlformats.org/officeDocument/2006/relationships/slideLayout" Target="../slideLayouts/slideLayout214.xml"/><Relationship Id="rId17" Type="http://schemas.openxmlformats.org/officeDocument/2006/relationships/slideLayout" Target="../slideLayouts/slideLayout215.xml"/><Relationship Id="rId18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29.xml"/><Relationship Id="rId8" Type="http://schemas.openxmlformats.org/officeDocument/2006/relationships/slideLayout" Target="../slideLayouts/slideLayout230.xml"/><Relationship Id="rId9" Type="http://schemas.openxmlformats.org/officeDocument/2006/relationships/slideLayout" Target="../slideLayouts/slideLayout231.xml"/><Relationship Id="rId10" Type="http://schemas.openxmlformats.org/officeDocument/2006/relationships/slideLayout" Target="../slideLayouts/slideLayout232.xml"/><Relationship Id="rId11" Type="http://schemas.openxmlformats.org/officeDocument/2006/relationships/slideLayout" Target="../slideLayouts/slideLayout233.xml"/><Relationship Id="rId12" Type="http://schemas.openxmlformats.org/officeDocument/2006/relationships/slideLayout" Target="../slideLayouts/slideLayout234.xml"/><Relationship Id="rId13" Type="http://schemas.openxmlformats.org/officeDocument/2006/relationships/slideLayout" Target="../slideLayouts/slideLayout235.xml"/><Relationship Id="rId14" Type="http://schemas.openxmlformats.org/officeDocument/2006/relationships/slideLayout" Target="../slideLayouts/slideLayout236.xml"/><Relationship Id="rId15" Type="http://schemas.openxmlformats.org/officeDocument/2006/relationships/slideLayout" Target="../slideLayouts/slideLayout237.xml"/><Relationship Id="rId16" Type="http://schemas.openxmlformats.org/officeDocument/2006/relationships/slideLayout" Target="../slideLayouts/slideLayout238.xml"/><Relationship Id="rId17" Type="http://schemas.openxmlformats.org/officeDocument/2006/relationships/slideLayout" Target="../slideLayouts/slideLayout239.xml"/><Relationship Id="rId18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41.xml"/><Relationship Id="rId8" Type="http://schemas.openxmlformats.org/officeDocument/2006/relationships/slideLayout" Target="../slideLayouts/slideLayout242.xml"/><Relationship Id="rId9" Type="http://schemas.openxmlformats.org/officeDocument/2006/relationships/slideLayout" Target="../slideLayouts/slideLayout243.xml"/><Relationship Id="rId10" Type="http://schemas.openxmlformats.org/officeDocument/2006/relationships/slideLayout" Target="../slideLayouts/slideLayout244.xml"/><Relationship Id="rId11" Type="http://schemas.openxmlformats.org/officeDocument/2006/relationships/slideLayout" Target="../slideLayouts/slideLayout245.xml"/><Relationship Id="rId12" Type="http://schemas.openxmlformats.org/officeDocument/2006/relationships/slideLayout" Target="../slideLayouts/slideLayout246.xml"/><Relationship Id="rId13" Type="http://schemas.openxmlformats.org/officeDocument/2006/relationships/slideLayout" Target="../slideLayouts/slideLayout247.xml"/><Relationship Id="rId14" Type="http://schemas.openxmlformats.org/officeDocument/2006/relationships/slideLayout" Target="../slideLayouts/slideLayout248.xml"/><Relationship Id="rId15" Type="http://schemas.openxmlformats.org/officeDocument/2006/relationships/slideLayout" Target="../slideLayouts/slideLayout249.xml"/><Relationship Id="rId16" Type="http://schemas.openxmlformats.org/officeDocument/2006/relationships/slideLayout" Target="../slideLayouts/slideLayout250.xml"/><Relationship Id="rId17" Type="http://schemas.openxmlformats.org/officeDocument/2006/relationships/slideLayout" Target="../slideLayouts/slideLayout251.xml"/><Relationship Id="rId18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3.xml"/><Relationship Id="rId8" Type="http://schemas.openxmlformats.org/officeDocument/2006/relationships/slideLayout" Target="../slideLayouts/slideLayout254.xml"/><Relationship Id="rId9" Type="http://schemas.openxmlformats.org/officeDocument/2006/relationships/slideLayout" Target="../slideLayouts/slideLayout255.xml"/><Relationship Id="rId10" Type="http://schemas.openxmlformats.org/officeDocument/2006/relationships/slideLayout" Target="../slideLayouts/slideLayout256.xml"/><Relationship Id="rId11" Type="http://schemas.openxmlformats.org/officeDocument/2006/relationships/slideLayout" Target="../slideLayouts/slideLayout257.xml"/><Relationship Id="rId12" Type="http://schemas.openxmlformats.org/officeDocument/2006/relationships/slideLayout" Target="../slideLayouts/slideLayout258.xml"/><Relationship Id="rId13" Type="http://schemas.openxmlformats.org/officeDocument/2006/relationships/slideLayout" Target="../slideLayouts/slideLayout259.xml"/><Relationship Id="rId14" Type="http://schemas.openxmlformats.org/officeDocument/2006/relationships/slideLayout" Target="../slideLayouts/slideLayout260.xml"/><Relationship Id="rId15" Type="http://schemas.openxmlformats.org/officeDocument/2006/relationships/slideLayout" Target="../slideLayouts/slideLayout261.xml"/><Relationship Id="rId16" Type="http://schemas.openxmlformats.org/officeDocument/2006/relationships/slideLayout" Target="../slideLayouts/slideLayout262.xml"/><Relationship Id="rId17" Type="http://schemas.openxmlformats.org/officeDocument/2006/relationships/slideLayout" Target="../slideLayouts/slideLayout263.xml"/><Relationship Id="rId18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65.xml"/><Relationship Id="rId8" Type="http://schemas.openxmlformats.org/officeDocument/2006/relationships/slideLayout" Target="../slideLayouts/slideLayout266.xml"/><Relationship Id="rId9" Type="http://schemas.openxmlformats.org/officeDocument/2006/relationships/slideLayout" Target="../slideLayouts/slideLayout267.xml"/><Relationship Id="rId10" Type="http://schemas.openxmlformats.org/officeDocument/2006/relationships/slideLayout" Target="../slideLayouts/slideLayout268.xml"/><Relationship Id="rId11" Type="http://schemas.openxmlformats.org/officeDocument/2006/relationships/slideLayout" Target="../slideLayouts/slideLayout269.xml"/><Relationship Id="rId12" Type="http://schemas.openxmlformats.org/officeDocument/2006/relationships/slideLayout" Target="../slideLayouts/slideLayout270.xml"/><Relationship Id="rId13" Type="http://schemas.openxmlformats.org/officeDocument/2006/relationships/slideLayout" Target="../slideLayouts/slideLayout271.xml"/><Relationship Id="rId14" Type="http://schemas.openxmlformats.org/officeDocument/2006/relationships/slideLayout" Target="../slideLayouts/slideLayout272.xml"/><Relationship Id="rId15" Type="http://schemas.openxmlformats.org/officeDocument/2006/relationships/slideLayout" Target="../slideLayouts/slideLayout273.xml"/><Relationship Id="rId16" Type="http://schemas.openxmlformats.org/officeDocument/2006/relationships/slideLayout" Target="../slideLayouts/slideLayout274.xml"/><Relationship Id="rId17" Type="http://schemas.openxmlformats.org/officeDocument/2006/relationships/slideLayout" Target="../slideLayouts/slideLayout275.xml"/><Relationship Id="rId18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81E7-368D-4F4D-A951-8E1C4F8E3EFF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2" descr="13"/>
          <p:cNvPicPr/>
          <p:nvPr/>
        </p:nvPicPr>
        <p:blipFill>
          <a:blip r:embed="rId2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53" descr="15"/>
          <p:cNvPicPr/>
          <p:nvPr/>
        </p:nvPicPr>
        <p:blipFill>
          <a:blip r:embed="rId3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57" descr="logo(trasparance)2"/>
          <p:cNvPicPr/>
          <p:nvPr/>
        </p:nvPicPr>
        <p:blipFill>
          <a:blip r:embed="rId4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58" descr="15"/>
          <p:cNvPicPr/>
          <p:nvPr/>
        </p:nvPicPr>
        <p:blipFill>
          <a:blip r:embed="rId5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57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0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2E88-A1AD-4F5D-A05B-538515E86CC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1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64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2FF2-7FD2-4970-8C2D-22BE2F133A5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72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3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27FC-F144-40C2-8B55-0EAB477B2D6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6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79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3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0FB0-9FF2-4665-9746-6D2C7F96AE1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5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86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9508-7A67-4626-97B3-1D5C7F4A4A1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1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2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940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45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9670-A0C1-4ED1-9B62-9DA743A272B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9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01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65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66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 type="sldNum" idx="48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0CAE-FB35-4579-A77A-249E5DDA30F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5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7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088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 type="sldNum" idx="51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AA6B-51F3-4DE8-8DB5-2DBBFED8855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3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4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7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16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65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66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1" i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 type="sldNum" idx="54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CB45-9A6F-4F8B-9191-54980A7399B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7"/>
    <p:sldLayoutId id="2147483871" r:id="rId8"/>
    <p:sldLayoutId id="2147483872" r:id="rId9"/>
    <p:sldLayoutId id="2147483873" r:id="rId10"/>
    <p:sldLayoutId id="2147483874" r:id="rId11"/>
    <p:sldLayoutId id="2147483875" r:id="rId12"/>
    <p:sldLayoutId id="2147483876" r:id="rId13"/>
    <p:sldLayoutId id="2147483877" r:id="rId14"/>
    <p:sldLayoutId id="2147483878" r:id="rId15"/>
    <p:sldLayoutId id="2147483879" r:id="rId16"/>
    <p:sldLayoutId id="2147483880" r:id="rId17"/>
    <p:sldLayoutId id="2147483881" r:id="rId18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0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1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2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233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235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23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 type="dt" idx="5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 type="ftr" idx="5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 type="sldNum" idx="57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FB60-D24E-4FB4-A8A4-C4514500C6A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sldNum" idx="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956B-A8C5-43EB-90D6-F0850A865D9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7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9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5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3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 type="dt" idx="5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 type="ftr" idx="5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 type="sldNum" idx="60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B0DA-E94E-4C07-A3E2-71FFF679592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7"/>
    <p:sldLayoutId id="2147483897" r:id="rId8"/>
    <p:sldLayoutId id="2147483898" r:id="rId9"/>
    <p:sldLayoutId id="2147483899" r:id="rId10"/>
    <p:sldLayoutId id="2147483900" r:id="rId11"/>
    <p:sldLayoutId id="2147483901" r:id="rId12"/>
    <p:sldLayoutId id="2147483902" r:id="rId13"/>
    <p:sldLayoutId id="2147483903" r:id="rId14"/>
    <p:sldLayoutId id="2147483904" r:id="rId15"/>
    <p:sldLayoutId id="2147483905" r:id="rId16"/>
    <p:sldLayoutId id="2147483906" r:id="rId17"/>
    <p:sldLayoutId id="2147483907" r:id="rId18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3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8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379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381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38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 type="dt" idx="6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 type="ftr" idx="6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 type="sldNum" idx="6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AAF0-8FCB-4241-AE7B-667AF0E56E3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7"/>
    <p:sldLayoutId id="2147483910" r:id="rId8"/>
    <p:sldLayoutId id="2147483911" r:id="rId9"/>
    <p:sldLayoutId id="2147483912" r:id="rId10"/>
    <p:sldLayoutId id="2147483913" r:id="rId11"/>
    <p:sldLayoutId id="2147483914" r:id="rId12"/>
    <p:sldLayoutId id="2147483915" r:id="rId13"/>
    <p:sldLayoutId id="2147483916" r:id="rId14"/>
    <p:sldLayoutId id="2147483917" r:id="rId15"/>
    <p:sldLayoutId id="2147483918" r:id="rId16"/>
    <p:sldLayoutId id="2147483919" r:id="rId17"/>
    <p:sldLayoutId id="2147483920" r:id="rId18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2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3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1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452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453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454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 type="dt" idx="6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 type="ftr" idx="6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 type="sldNum" idx="6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3C8E-B7F4-4561-879E-9050041D64E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7"/>
    <p:sldLayoutId id="2147483923" r:id="rId8"/>
    <p:sldLayoutId id="2147483924" r:id="rId9"/>
    <p:sldLayoutId id="2147483925" r:id="rId10"/>
    <p:sldLayoutId id="2147483926" r:id="rId11"/>
    <p:sldLayoutId id="2147483927" r:id="rId12"/>
    <p:sldLayoutId id="2147483928" r:id="rId13"/>
    <p:sldLayoutId id="2147483929" r:id="rId14"/>
    <p:sldLayoutId id="2147483930" r:id="rId15"/>
    <p:sldLayoutId id="2147483931" r:id="rId16"/>
    <p:sldLayoutId id="2147483932" r:id="rId17"/>
    <p:sldLayoutId id="2147483933" r:id="rId18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9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3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524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525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526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 type="dt" idx="6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 type="ftr" idx="6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 type="sldNum" idx="6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8A16-0CC5-49B6-9A4A-DABAF281EA1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7"/>
    <p:sldLayoutId id="2147483936" r:id="rId8"/>
    <p:sldLayoutId id="2147483937" r:id="rId9"/>
    <p:sldLayoutId id="2147483938" r:id="rId10"/>
    <p:sldLayoutId id="2147483939" r:id="rId11"/>
    <p:sldLayoutId id="2147483940" r:id="rId12"/>
    <p:sldLayoutId id="2147483941" r:id="rId13"/>
    <p:sldLayoutId id="2147483942" r:id="rId14"/>
    <p:sldLayoutId id="2147483943" r:id="rId15"/>
    <p:sldLayoutId id="2147483944" r:id="rId16"/>
    <p:sldLayoutId id="2147483945" r:id="rId17"/>
    <p:sldLayoutId id="2147483946" r:id="rId18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5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5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596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597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598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7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7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72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624E-3D9F-44A7-88EF-48890E67A48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2" descr="13"/>
          <p:cNvPicPr/>
          <p:nvPr/>
        </p:nvPicPr>
        <p:blipFill>
          <a:blip r:embed="rId2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3" descr="15"/>
          <p:cNvPicPr/>
          <p:nvPr/>
        </p:nvPicPr>
        <p:blipFill>
          <a:blip r:embed="rId3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7" descr="logo(trasparance)2"/>
          <p:cNvPicPr/>
          <p:nvPr/>
        </p:nvPicPr>
        <p:blipFill>
          <a:blip r:embed="rId4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8" descr="15"/>
          <p:cNvPicPr/>
          <p:nvPr/>
        </p:nvPicPr>
        <p:blipFill>
          <a:blip r:embed="rId5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7884-7C2A-4806-9150-5679121C9F5D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2" descr="13"/>
          <p:cNvPicPr/>
          <p:nvPr/>
        </p:nvPicPr>
        <p:blipFill>
          <a:blip r:embed="rId2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3" descr="15"/>
          <p:cNvPicPr/>
          <p:nvPr/>
        </p:nvPicPr>
        <p:blipFill>
          <a:blip r:embed="rId3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7" descr="logo(trasparance)2"/>
          <p:cNvPicPr/>
          <p:nvPr/>
        </p:nvPicPr>
        <p:blipFill>
          <a:blip r:embed="rId4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8" descr="15"/>
          <p:cNvPicPr/>
          <p:nvPr/>
        </p:nvPicPr>
        <p:blipFill>
          <a:blip r:embed="rId5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6F96-89D7-421C-92E7-46A401E87A8D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2" descr="13"/>
          <p:cNvPicPr/>
          <p:nvPr/>
        </p:nvPicPr>
        <p:blipFill>
          <a:blip r:embed="rId2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3" descr="15"/>
          <p:cNvPicPr/>
          <p:nvPr/>
        </p:nvPicPr>
        <p:blipFill>
          <a:blip r:embed="rId3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7" descr="logo(trasparance)2"/>
          <p:cNvPicPr/>
          <p:nvPr/>
        </p:nvPicPr>
        <p:blipFill>
          <a:blip r:embed="rId4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8" descr="15"/>
          <p:cNvPicPr/>
          <p:nvPr/>
        </p:nvPicPr>
        <p:blipFill>
          <a:blip r:embed="rId5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5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7F07-C96E-4D2C-BD37-3955AE621CC0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5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6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283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8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783C-9619-412A-BFA0-64EC20BD094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2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3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356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B1BD-6042-41F7-9FFC-1F871AE198D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429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24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FBA5-AEDD-4299-B7CD-5ECCA52E61B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7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8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52" descr="13"/>
          <p:cNvPicPr/>
          <p:nvPr/>
        </p:nvPicPr>
        <p:blipFill>
          <a:blip r:embed="rId3"/>
          <a:stretch/>
        </p:blipFill>
        <p:spPr>
          <a:xfrm>
            <a:off x="8305920" y="73080"/>
            <a:ext cx="763560" cy="5158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53" descr="15"/>
          <p:cNvPicPr/>
          <p:nvPr/>
        </p:nvPicPr>
        <p:blipFill>
          <a:blip r:embed="rId4"/>
          <a:stretch/>
        </p:blipFill>
        <p:spPr>
          <a:xfrm flipH="1" rot="21155400">
            <a:off x="8120880" y="28080"/>
            <a:ext cx="806400" cy="4028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7" descr="logo(trasparance)2"/>
          <p:cNvPicPr/>
          <p:nvPr/>
        </p:nvPicPr>
        <p:blipFill>
          <a:blip r:embed="rId5"/>
          <a:stretch/>
        </p:blipFill>
        <p:spPr>
          <a:xfrm rot="519000">
            <a:off x="8652960" y="130320"/>
            <a:ext cx="343080" cy="2952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58" descr="15"/>
          <p:cNvPicPr/>
          <p:nvPr/>
        </p:nvPicPr>
        <p:blipFill>
          <a:blip r:embed="rId6"/>
          <a:stretch/>
        </p:blipFill>
        <p:spPr>
          <a:xfrm rot="4284600">
            <a:off x="85320" y="319320"/>
            <a:ext cx="1033560" cy="820440"/>
          </a:xfrm>
          <a:prstGeom prst="rect">
            <a:avLst/>
          </a:prstGeom>
          <a:ln w="0">
            <a:noFill/>
          </a:ln>
        </p:spPr>
      </p:pic>
      <p:sp>
        <p:nvSpPr>
          <p:cNvPr id="5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AD2B-773F-4FFD-B65F-98D8BDF9C76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consultantplus://offline/ref=9281BDD39C87F3218B3AC503DFA8BEE3F12588B15DA6DF4A48D4F33551DF220D1F6398B8705A1704777545928C10681BB1A4257893729504hAm4H" TargetMode="External"/><Relationship Id="rId2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consultantplus://offline/ref=E3B3CEBC88A1CC4C56F4AEF0A7CB4BB9016FAC6FF5594FF85EB6967FA2709A6E8BEB69EA3ACA394AF1F229E78DEBF360B738DFBA5E4272B87DX9E" TargetMode="External"/><Relationship Id="rId2" Type="http://schemas.openxmlformats.org/officeDocument/2006/relationships/hyperlink" Target="consultantplus://offline/ref=E3B3CEBC88A1CC4C56F4AEF0A7CB4BB90066A26BF1574FF85EB6967FA2709A6E8BEB69EE319E680CA6F47FB5D7BFFF7CB626DF7BX2E" TargetMode="External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.zdravohrana.ru/npd-doc.aspx?npmid=99&amp;npid=901807664&amp;anchor=XA00MCC2NT#XA00MCC2NT" TargetMode="External"/><Relationship Id="rId2" Type="http://schemas.openxmlformats.org/officeDocument/2006/relationships/slideLayout" Target="../slideLayouts/slideLayout25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Text Box 179"/>
          <p:cNvSpPr/>
          <p:nvPr/>
        </p:nvSpPr>
        <p:spPr>
          <a:xfrm>
            <a:off x="309600" y="1874880"/>
            <a:ext cx="865512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Arial"/>
              </a:rPr>
              <a:t>Форма №</a:t>
            </a:r>
            <a:r>
              <a:rPr b="1" lang="en-US" sz="4400" spc="-1" strike="noStrike">
                <a:solidFill>
                  <a:srgbClr val="262626"/>
                </a:solidFill>
                <a:latin typeface="Arial"/>
              </a:rPr>
              <a:t>30</a:t>
            </a:r>
            <a:br>
              <a:rPr sz="4400"/>
            </a:br>
            <a:r>
              <a:rPr b="1" lang="ru-RU" sz="4400" spc="-1" strike="noStrike">
                <a:solidFill>
                  <a:srgbClr val="262626"/>
                </a:solidFill>
                <a:latin typeface="Arial"/>
              </a:rPr>
              <a:t>«Сведения о медицинской организации»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Подзаголовок 2"/>
          <p:cNvSpPr/>
          <p:nvPr/>
        </p:nvSpPr>
        <p:spPr>
          <a:xfrm>
            <a:off x="2496960" y="4351320"/>
            <a:ext cx="631224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66f54"/>
                </a:solidFill>
                <a:latin typeface="Times New Roman"/>
              </a:rPr>
              <a:t>РАЗДЕЛ II.  ШТАТЫ  МЕДИЦИНСКОЙ  ОРГАНИЗАЦИИ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1" name=""/>
          <p:cNvGraphicFramePr/>
          <p:nvPr/>
        </p:nvGraphicFramePr>
        <p:xfrm>
          <a:off x="324000" y="1327320"/>
          <a:ext cx="8450280" cy="453060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5760"/>
                <a:gridCol w="922680"/>
              </a:tblGrid>
              <a:tr h="73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4640">
                <a:tc gridSpan="8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рафы 12-1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олняются н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ки из распорядительного акта органа государственной власти или организации, создавших аттестационную комиссию, о присвоении специалистам, прошедшим аттестацию, квалификационных категор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м и фармацевтическим работникам. Имеющие категории по нескольким специальностям, показываются в отчете 1 раз – по основной должност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графа 1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полняется на основании сертификатов специалиста. Медицинские и фармацевтические работники, имеющие сертификаты по нескольким специальностям, показываются в отчете 1 раз – по основной долж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2" name="Rectangle 2"/>
          <p:cNvSpPr/>
          <p:nvPr/>
        </p:nvSpPr>
        <p:spPr>
          <a:xfrm>
            <a:off x="1257480" y="162000"/>
            <a:ext cx="5371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4" name=""/>
          <p:cNvGraphicFramePr/>
          <p:nvPr/>
        </p:nvGraphicFramePr>
        <p:xfrm>
          <a:off x="374760" y="801720"/>
          <a:ext cx="8450280" cy="327348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6120"/>
                <a:gridCol w="922320"/>
              </a:tblGrid>
              <a:tr h="73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 gridSpan="6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рафа 16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яется на основании </a:t>
                      </a:r>
                      <a:r>
                        <a:rPr b="1" lang="ru-RU" sz="1600" spc="-1" strike="noStrike">
                          <a:solidFill>
                            <a:srgbClr val="766f54"/>
                          </a:solidFill>
                          <a:latin typeface="Arial"/>
                        </a:rPr>
                        <a:t>свидетельства об аккредитаци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17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ываются физические лица основных работников (из графы 9), находящихся в декретном и долгосрочном отпуске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</a:tr>
            </a:tbl>
          </a:graphicData>
        </a:graphic>
      </p:graphicFrame>
      <p:sp>
        <p:nvSpPr>
          <p:cNvPr id="1675" name="Rectangle 538"/>
          <p:cNvSpPr/>
          <p:nvPr/>
        </p:nvSpPr>
        <p:spPr>
          <a:xfrm>
            <a:off x="258840" y="5651640"/>
            <a:ext cx="84992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Text Box 541"/>
          <p:cNvSpPr/>
          <p:nvPr/>
        </p:nvSpPr>
        <p:spPr>
          <a:xfrm>
            <a:off x="7093080" y="3378240"/>
            <a:ext cx="1471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Внимание!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Rectangle 2"/>
          <p:cNvSpPr/>
          <p:nvPr/>
        </p:nvSpPr>
        <p:spPr>
          <a:xfrm>
            <a:off x="1257480" y="162000"/>
            <a:ext cx="5371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8" name="Group 3"/>
          <p:cNvGrpSpPr/>
          <p:nvPr/>
        </p:nvGrpSpPr>
        <p:grpSpPr>
          <a:xfrm>
            <a:off x="257040" y="4149720"/>
            <a:ext cx="8429400" cy="2512440"/>
            <a:chOff x="257040" y="4149720"/>
            <a:chExt cx="8429400" cy="2512440"/>
          </a:xfrm>
        </p:grpSpPr>
        <p:grpSp>
          <p:nvGrpSpPr>
            <p:cNvPr id="1679" name="Group 4"/>
            <p:cNvGrpSpPr/>
            <p:nvPr/>
          </p:nvGrpSpPr>
          <p:grpSpPr>
            <a:xfrm>
              <a:off x="257040" y="4149720"/>
              <a:ext cx="8429400" cy="2512440"/>
              <a:chOff x="257040" y="4149720"/>
              <a:chExt cx="8429400" cy="2512440"/>
            </a:xfrm>
          </p:grpSpPr>
          <p:grpSp>
            <p:nvGrpSpPr>
              <p:cNvPr id="1680" name="Group 5"/>
              <p:cNvGrpSpPr/>
              <p:nvPr/>
            </p:nvGrpSpPr>
            <p:grpSpPr>
              <a:xfrm>
                <a:off x="257040" y="4149720"/>
                <a:ext cx="8392320" cy="2512440"/>
                <a:chOff x="257040" y="4149720"/>
                <a:chExt cx="8392320" cy="2512440"/>
              </a:xfrm>
            </p:grpSpPr>
            <p:sp>
              <p:nvSpPr>
                <p:cNvPr id="1681" name="AutoShape 7"/>
                <p:cNvSpPr/>
                <p:nvPr/>
              </p:nvSpPr>
              <p:spPr>
                <a:xfrm>
                  <a:off x="622800" y="4149720"/>
                  <a:ext cx="7974720" cy="1055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499a1"/>
                    </a:gs>
                    <a:gs pos="50000">
                      <a:srgbClr val="13737d"/>
                    </a:gs>
                    <a:gs pos="100000">
                      <a:srgbClr val="5499a1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AutoShape 8"/>
                <p:cNvSpPr/>
                <p:nvPr/>
              </p:nvSpPr>
              <p:spPr>
                <a:xfrm>
                  <a:off x="257040" y="4149720"/>
                  <a:ext cx="8392320" cy="2512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3cfcd"/>
                    </a:gs>
                    <a:gs pos="50000">
                      <a:srgbClr val="b2e1e0"/>
                    </a:gs>
                    <a:gs pos="100000">
                      <a:srgbClr val="83cfcd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3" name="Line 9"/>
              <p:cNvSpPr/>
              <p:nvPr/>
            </p:nvSpPr>
            <p:spPr>
              <a:xfrm>
                <a:off x="572040" y="4736520"/>
                <a:ext cx="67644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Line 10"/>
              <p:cNvSpPr/>
              <p:nvPr/>
            </p:nvSpPr>
            <p:spPr>
              <a:xfrm>
                <a:off x="8010360" y="4736520"/>
                <a:ext cx="676080" cy="0"/>
              </a:xfrm>
              <a:prstGeom prst="line">
                <a:avLst/>
              </a:prstGeom>
              <a:ln cap="rnd" w="28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5" name="Rectangle 11"/>
            <p:cNvSpPr/>
            <p:nvPr/>
          </p:nvSpPr>
          <p:spPr>
            <a:xfrm>
              <a:off x="1277280" y="4181040"/>
              <a:ext cx="6670440" cy="23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Arial"/>
                </a:rPr>
                <a:t>Контроль </a:t>
              </a:r>
              <a:endParaRPr b="1" i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Графа 15 + Графа 16 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е может быть больше Графы 9 по всем строкам.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Arial"/>
                </a:rPr>
                <a:t>В случае если графа 15+16 не равна графе 9 </a:t>
              </a:r>
              <a:r>
                <a:rPr b="1" lang="ru-RU" sz="2000" spc="-1" strike="noStrike" u="sng">
                  <a:solidFill>
                    <a:srgbClr val="cc3300"/>
                  </a:solidFill>
                  <a:uFillTx/>
                  <a:latin typeface="Arial"/>
                </a:rPr>
                <a:t>представить пояснительную записку.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Arial"/>
                </a:rPr>
                <a:t>При отсутствии/окончании срока действия сертификата – специалист не имеет права заниматься медицинской деятельностью.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 txBox="1"/>
          <p:nvPr/>
        </p:nvSpPr>
        <p:spPr>
          <a:xfrm>
            <a:off x="523800" y="1227240"/>
            <a:ext cx="8399520" cy="4525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МИНИСТЕРСТВО ЗДРАВООХРАНЕНИЯ РОССИЙСКОЙ ФЕДЕРАЦИИ ПРИКАЗ от 22 декабря 2017 г. N 1043н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Century Gothic"/>
              </a:rPr>
              <a:t>ОБ УТВЕРЖДЕНИИ СРОКОВ И ЭТАПОВ АККРЕДИТАЦИИ СПЕЦИАЛИСТОВ, А ТАКЖЕ КАТЕГОРИЙ ЛИЦ, ИМЕЮЩИХ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Century Gothic"/>
              </a:rPr>
              <a:t>МЕДИЦИНСКОЕ, ФАРМАЦЕВТИЧЕСКОЕ ИЛИ ИНОЕ ОБРАЗОВАНИЕ И ПОДЛЕЖАЩИХ АККРЕДИТАЦИИ СПЕЦИАЛИСТОВ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7" name=""/>
          <p:cNvGraphicFramePr/>
          <p:nvPr/>
        </p:nvGraphicFramePr>
        <p:xfrm>
          <a:off x="357120" y="1125360"/>
          <a:ext cx="8339040" cy="5151600"/>
        </p:xfrm>
        <a:graphic>
          <a:graphicData uri="http://schemas.openxmlformats.org/drawingml/2006/table">
            <a:tbl>
              <a:tblPr/>
              <a:tblGrid>
                <a:gridCol w="938160"/>
                <a:gridCol w="7400880"/>
              </a:tblGrid>
              <a:tr h="2525400"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 января 2019 года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, получившие после 1 января 2019 года высшее образование по основным образовательным программам в соответствии с федеральными государственными образовательными стандартами в области образования "Здравоохранение и медицинские науки" </a:t>
                      </a:r>
                      <a:r>
                        <a:rPr b="1" i="1" lang="ru-RU" sz="1600" spc="-1" strike="noStrike">
                          <a:solidFill>
                            <a:srgbClr val="766f54"/>
                          </a:solidFill>
                          <a:latin typeface="Times New Roman"/>
                          <a:ea typeface="Times New Roman"/>
                        </a:rPr>
                        <a:t>(уровень ординатуры),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ребования к результатам освоения основных образовательных программ профессионального образования в части профессиональной компетенции которых сформированы на основе соответствующих профессиональных стандартов (при наличии) &lt;2&gt; </a:t>
                      </a:r>
                      <a:r>
                        <a:rPr b="1" i="1" lang="ru-RU" sz="1600" spc="-1" strike="noStrike">
                          <a:solidFill>
                            <a:srgbClr val="766f54"/>
                          </a:solidFill>
                          <a:latin typeface="Times New Roman"/>
                          <a:ea typeface="Times New Roman"/>
                        </a:rPr>
                        <a:t>по специальностям: "Неврология", "Кардиология", "Общая врачебная практика (семейная медицина)", "Онкология", "Педиатрия", "Терапия"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, получившие после 1 января 2019 года дополнительное профессиональное образование по программам профессиональной переподготовки, разработанным на основании установленных квалификационных требований, профессиональных стандартов и требований соответствующих федеральных государственных образовательных стандартов высшего образования </a:t>
                      </a:r>
                      <a:r>
                        <a:rPr b="1" i="1" lang="ru-RU" sz="1600" spc="-1" strike="noStrike">
                          <a:solidFill>
                            <a:srgbClr val="766f54"/>
                          </a:solidFill>
                          <a:latin typeface="Times New Roman"/>
                          <a:ea typeface="Times New Roman"/>
                        </a:rPr>
                        <a:t>(уровень ординатуры)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 результатам освоения образовательных программ &lt;3&gt; </a:t>
                      </a:r>
                      <a:r>
                        <a:rPr b="1" i="1" lang="ru-RU" sz="1600" spc="-1" strike="noStrike">
                          <a:solidFill>
                            <a:srgbClr val="766f54"/>
                          </a:solidFill>
                          <a:latin typeface="Times New Roman"/>
                          <a:ea typeface="Times New Roman"/>
                        </a:rPr>
                        <a:t>по специальностям: "Неврология", "Кардиология", "Общая врачебная практика (семейная медицина)", "Онкология", "Педиатрия", "Терапия"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ред. </a:t>
                      </a:r>
                      <a:r>
                        <a:rPr b="1" i="1" lang="ru-RU" sz="1600" spc="-1" strike="noStrike" u="sng">
                          <a:solidFill>
                            <a:srgbClr val="fb4a18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Приказа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инздрава России от 21.12.2018 N 898н)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"/>
          <p:cNvSpPr txBox="1"/>
          <p:nvPr/>
        </p:nvSpPr>
        <p:spPr>
          <a:xfrm>
            <a:off x="396360" y="355680"/>
            <a:ext cx="8450280" cy="62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Минздрав пересмотрел категории выпускников-медиков, подлежащих аккредитации с 2019 и 2020 годов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Медорганизации не должны принимать на работу без свидетельства об аккредитации тех, кто в 2019 году или позже завершит обучение в ординатуре в рамках высшего или дополнительного образования по следующим специальностям: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неврология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кардиология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общая врачебная практика (семейная медицина)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онкология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- педиатрия;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imes New Roman"/>
              </a:rPr>
              <a:t>терапия.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 u="sng">
                <a:solidFill>
                  <a:srgbClr val="fb4a18"/>
                </a:solidFill>
                <a:uFillTx/>
                <a:latin typeface="Times New Roman"/>
                <a:hlinkClick r:id="rId1"/>
              </a:rPr>
              <a:t>По ранее действовавшим правилам</a:t>
            </a: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 аккредитации с 2019 года подлежали и те, кто получит допобразование по программам профпереподготовки, основанным на квалификационных требованиях, профстандартах и ФГОС среднего профессионального и (или) высшего образования. Теперь </a:t>
            </a:r>
            <a:r>
              <a:rPr b="0" lang="ru-RU" sz="1900" spc="-1" strike="noStrike" u="sng">
                <a:solidFill>
                  <a:srgbClr val="fb4a18"/>
                </a:solidFill>
                <a:uFillTx/>
                <a:latin typeface="Times New Roman"/>
                <a:hlinkClick r:id="rId2"/>
              </a:rPr>
              <a:t>эта группа выпускников</a:t>
            </a: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 должна получать свидетельства об аккредитации только с 2020 года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imes New Roman"/>
              </a:rPr>
              <a:t>С 2020 года аккредитацию предстоит пройти и тем, кто после 1 января 2020 года получит высшее образование по основным образовательным программам "Здравоохранение и медицинские науки" (уровень бакалавриата, магистратуры, ординатуры)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900" spc="-1" strike="noStrike">
                <a:solidFill>
                  <a:srgbClr val="404040"/>
                </a:solidFill>
                <a:latin typeface="Times New Roman"/>
              </a:rPr>
              <a:t>Документ: Приказ Минздрава России от 21.12.2018 N 898н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929880" y="38412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Century Gothic"/>
              </a:rPr>
              <a:t>МИНИСТЕРСТВО ЗДРАВООХРАНЕНИЯ РОССИЙСКОЙ ФЕДЕРАЦИИ ПИСЬМО от 8 августа 2019 г. N 16-7/И/2-7280 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492120" y="140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Вместе с тем Положением наряду с выдачей свидетельства об аккредитации специалиста также предусмотрен еще один механизм подтверждения факта успешного прохождения процедуры аккредитации специалиста - выдача в течение трех дней </a:t>
            </a:r>
            <a:r>
              <a:rPr b="1" lang="ru-RU" sz="1500" spc="-1" strike="noStrike">
                <a:solidFill>
                  <a:srgbClr val="404040"/>
                </a:solidFill>
                <a:latin typeface="Times New Roman"/>
              </a:rPr>
              <a:t>выписки из итогового протокола</a:t>
            </a: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, содержащей соответствующее решение (пункт 52 Положения)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В связи с изложенным в настоящее время в медицинских и фармацевтических организациях, независимо от их формы собственности и ведомственной принадлежности, могут осуществлять медицинскую или фармацевтическую деятельность лица, успешно прошедшие в 2019 году процедуру первичной и первичной специализированной аккредитации специалистов, </a:t>
            </a:r>
            <a:r>
              <a:rPr b="1" lang="ru-RU" sz="1500" spc="-1" strike="noStrike">
                <a:solidFill>
                  <a:srgbClr val="404040"/>
                </a:solidFill>
                <a:latin typeface="Times New Roman"/>
              </a:rPr>
              <a:t>имеющие выписку из итогового протокола и не имеющие до настоящего времени на руках свидетельства об аккредитации специалиста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Одновременно с этим, учитывая, что в соответствии с пунктом 53 Положения сведения о лицах, признанных прошедшими аккредитацию специалиста, вносятся в Федеральный регистр медицинских работников (далее - ФРМР), ведение которого предусмотрено приказом Минздрава России от 31.12.2013 N 1159н, осуществление проверки факта успешного прохождения процедуры аккредитации специалистом может осуществляться </a:t>
            </a:r>
            <a:r>
              <a:rPr b="1" lang="ru-RU" sz="1500" spc="-1" strike="noStrike">
                <a:solidFill>
                  <a:srgbClr val="404040"/>
                </a:solidFill>
                <a:latin typeface="Times New Roman"/>
              </a:rPr>
              <a:t>путем получения соответствующей информации из ФРМР</a:t>
            </a: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 в процессе формирования личного дела при трудоустройстве указанного лица в медицинскую организацию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imes New Roman"/>
              </a:rPr>
              <a:t>Дополнительно сообщаем, что факт успешного прохождения лицом аккредитации специалиста также может быть проверен на официальном сайте образовательной и (или) научной организаций в информационно-телекоммуникационной сети "Интернет", на базе которой проводилась аккредитация специалиста, путем сверки данных в выписке с данными в итоговом протоколе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55280" y="290520"/>
            <a:ext cx="7596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Формирование списка сотрудников, имеющих удостоверение об аккредитации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692" name="Объект 3" descr=""/>
          <p:cNvPicPr/>
          <p:nvPr/>
        </p:nvPicPr>
        <p:blipFill>
          <a:blip r:embed="rId1"/>
          <a:stretch/>
        </p:blipFill>
        <p:spPr>
          <a:xfrm>
            <a:off x="792000" y="1484280"/>
            <a:ext cx="8352000" cy="5040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693" name="Прямоугольная выноска 2"/>
          <p:cNvSpPr/>
          <p:nvPr/>
        </p:nvSpPr>
        <p:spPr>
          <a:xfrm>
            <a:off x="684360" y="5516640"/>
            <a:ext cx="1800000" cy="57636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ccc7b7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Диапазон дат -  с 2016 года по  настоящее время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Прямая соединительная линия 5"/>
          <p:cNvSpPr/>
          <p:nvPr/>
        </p:nvSpPr>
        <p:spPr>
          <a:xfrm>
            <a:off x="755640" y="6381720"/>
            <a:ext cx="1368360" cy="0"/>
          </a:xfrm>
          <a:prstGeom prst="line">
            <a:avLst/>
          </a:prstGeom>
          <a:ln cap="rnd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TextBox 7"/>
          <p:cNvSpPr/>
          <p:nvPr/>
        </p:nvSpPr>
        <p:spPr>
          <a:xfrm>
            <a:off x="5940360" y="1665360"/>
            <a:ext cx="2808360" cy="1585800"/>
          </a:xfrm>
          <a:prstGeom prst="rect">
            <a:avLst/>
          </a:prstGeom>
          <a:solidFill>
            <a:srgbClr val="ee6e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вести дату проведения аккредитации в диапазоне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татус работника –работающие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ип занятия должности – основная должность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оиск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TextBox 8"/>
          <p:cNvSpPr/>
          <p:nvPr/>
        </p:nvSpPr>
        <p:spPr>
          <a:xfrm>
            <a:off x="2916360" y="61531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Стрелка вправо 9"/>
          <p:cNvSpPr/>
          <p:nvPr/>
        </p:nvSpPr>
        <p:spPr>
          <a:xfrm>
            <a:off x="6164280" y="4105440"/>
            <a:ext cx="360360" cy="72720"/>
          </a:xfrm>
          <a:prstGeom prst="rightArrow">
            <a:avLst>
              <a:gd name="adj1" fmla="val 50000"/>
              <a:gd name="adj2" fmla="val 50220"/>
            </a:avLst>
          </a:prstGeom>
          <a:solidFill>
            <a:srgbClr val="ff0000"/>
          </a:solidFill>
          <a:ln cap="rnd"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Стрелка вправо 10"/>
          <p:cNvSpPr/>
          <p:nvPr/>
        </p:nvSpPr>
        <p:spPr>
          <a:xfrm>
            <a:off x="6164280" y="4302000"/>
            <a:ext cx="360360" cy="71640"/>
          </a:xfrm>
          <a:prstGeom prst="rightArrow">
            <a:avLst>
              <a:gd name="adj1" fmla="val 50000"/>
              <a:gd name="adj2" fmla="val 49859"/>
            </a:avLst>
          </a:prstGeom>
          <a:solidFill>
            <a:srgbClr val="ff0000"/>
          </a:solidFill>
          <a:ln cap="rnd"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Прямая соединительная линия 12"/>
          <p:cNvSpPr/>
          <p:nvPr/>
        </p:nvSpPr>
        <p:spPr>
          <a:xfrm>
            <a:off x="4788000" y="4302000"/>
            <a:ext cx="792000" cy="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0" name="Рисунок 13" descr=""/>
          <p:cNvPicPr/>
          <p:nvPr/>
        </p:nvPicPr>
        <p:blipFill>
          <a:blip r:embed="rId2"/>
          <a:stretch/>
        </p:blipFill>
        <p:spPr>
          <a:xfrm>
            <a:off x="4788000" y="4437000"/>
            <a:ext cx="811080" cy="30240"/>
          </a:xfrm>
          <a:prstGeom prst="rect">
            <a:avLst/>
          </a:prstGeom>
          <a:ln w="0">
            <a:noFill/>
          </a:ln>
        </p:spPr>
      </p:pic>
      <p:sp>
        <p:nvSpPr>
          <p:cNvPr id="1701" name="TextBox 14"/>
          <p:cNvSpPr/>
          <p:nvPr/>
        </p:nvSpPr>
        <p:spPr>
          <a:xfrm>
            <a:off x="5884920" y="3943440"/>
            <a:ext cx="1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TextBox 15"/>
          <p:cNvSpPr/>
          <p:nvPr/>
        </p:nvSpPr>
        <p:spPr>
          <a:xfrm>
            <a:off x="5877000" y="4189320"/>
            <a:ext cx="3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3" name=""/>
          <p:cNvGraphicFramePr/>
          <p:nvPr/>
        </p:nvGraphicFramePr>
        <p:xfrm>
          <a:off x="517680" y="1143000"/>
          <a:ext cx="8173800" cy="365760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66f54"/>
                          </a:solidFill>
                          <a:latin typeface="Arial"/>
                          <a:ea typeface="Arial"/>
                        </a:rPr>
                        <a:t>Лаборант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из стр.1 Врачи – всего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4" name="Rectangle 108"/>
          <p:cNvSpPr/>
          <p:nvPr/>
        </p:nvSpPr>
        <p:spPr>
          <a:xfrm>
            <a:off x="434880" y="4911840"/>
            <a:ext cx="84186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соответствии с ранее действовавшими приказами Минздрава СССР от 21.10.1974  №990 и от 13.07.1989 №418 лица, получившие высшее профессиональное (немедицинкое) образование, могли замещать в учреждениях здравоохранения должности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Arial"/>
              </a:rPr>
              <a:t>врачей-лаборантов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казом Минздрава России от 25.12.1997 №380 к замещению должности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Arial"/>
              </a:rPr>
              <a:t>врача клинической лабораторной диагностик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были допущены лица с высшим медицинским образованием и сертификатом по специальности «Клиническая лабораторная диагностика»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6" name=""/>
          <p:cNvGraphicFramePr/>
          <p:nvPr/>
        </p:nvGraphicFramePr>
        <p:xfrm>
          <a:off x="517680" y="1143000"/>
          <a:ext cx="8173800" cy="365760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766f54"/>
                          </a:solidFill>
                          <a:latin typeface="Arial"/>
                          <a:ea typeface="Arial"/>
                        </a:rPr>
                        <a:t>Лаборант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из стр.1 Врачи – всего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301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7" name="Rectangle 108"/>
          <p:cNvSpPr/>
          <p:nvPr/>
        </p:nvSpPr>
        <p:spPr>
          <a:xfrm>
            <a:off x="434880" y="4911840"/>
            <a:ext cx="841860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Руководителю медицинской организации было предоставлено ввести должность «Биолог»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.о. должность «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Arial"/>
              </a:rPr>
              <a:t>врач-лабора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» сохраняется для специалистов с высшим профессиональным (немедицинским) образованием, принятых на работу до 01.10.1999 года. Эти работники могут продолжать профессиональную деятельность в занимаемых должностях без сертификата специалиста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9" name=""/>
          <p:cNvGraphicFramePr/>
          <p:nvPr/>
        </p:nvGraphicFramePr>
        <p:xfrm>
          <a:off x="517680" y="1143000"/>
          <a:ext cx="8173800" cy="3292560"/>
        </p:xfrm>
        <a:graphic>
          <a:graphicData uri="http://schemas.openxmlformats.org/drawingml/2006/table">
            <a:tbl>
              <a:tblPr/>
              <a:tblGrid>
                <a:gridCol w="1350720"/>
                <a:gridCol w="496800"/>
                <a:gridCol w="568440"/>
                <a:gridCol w="641520"/>
                <a:gridCol w="637920"/>
                <a:gridCol w="569880"/>
                <a:gridCol w="638280"/>
                <a:gridCol w="568440"/>
                <a:gridCol w="995400"/>
                <a:gridCol w="853920"/>
                <a:gridCol w="8524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7b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7b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0" name="Rectangle 108"/>
          <p:cNvSpPr/>
          <p:nvPr/>
        </p:nvSpPr>
        <p:spPr>
          <a:xfrm>
            <a:off x="577800" y="4587840"/>
            <a:ext cx="80820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казываем все должности врачей приемного отделения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Обратить внимание!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Показываем должности «врач приемного отделения», независимо от специальност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Rectangle 2"/>
          <p:cNvSpPr/>
          <p:nvPr/>
        </p:nvSpPr>
        <p:spPr>
          <a:xfrm>
            <a:off x="1600200" y="457200"/>
            <a:ext cx="5938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Text Box 3"/>
          <p:cNvSpPr/>
          <p:nvPr/>
        </p:nvSpPr>
        <p:spPr>
          <a:xfrm>
            <a:off x="328680" y="1316160"/>
            <a:ext cx="84247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Штатное расписание является документом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м определяется структура учреждения и численность должностей по каждому наименованию в конкретных подразделениях и в целом по учреждению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едицинском учреждении штатно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списани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ставляется отдельно по бюджетным подразделениям, ОМС и оказывающим платные медицинские услуги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штатного расписания утверждена Постановлением Госкомстата РФ от 05.01.2004 №1 «Об утверждении унифицированных форм первичной учетной документации по учету труда и его оплаты». Данная форма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N Т-3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екомендована для применения организациями независимо от формы собственности, осуществляющими деятельность на территории РФ, в том числе бюджетными учреждениям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Подзаголовок 2"/>
          <p:cNvSpPr/>
          <p:nvPr/>
        </p:nvSpPr>
        <p:spPr>
          <a:xfrm>
            <a:off x="1282680" y="399960"/>
            <a:ext cx="68025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татное расписание медицинской организаци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2" name=""/>
          <p:cNvGraphicFramePr/>
          <p:nvPr/>
        </p:nvGraphicFramePr>
        <p:xfrm>
          <a:off x="289080" y="1143000"/>
          <a:ext cx="8402400" cy="3535200"/>
        </p:xfrm>
        <a:graphic>
          <a:graphicData uri="http://schemas.openxmlformats.org/drawingml/2006/table">
            <a:tbl>
              <a:tblPr/>
              <a:tblGrid>
                <a:gridCol w="1388880"/>
                <a:gridCol w="511200"/>
                <a:gridCol w="584280"/>
                <a:gridCol w="658800"/>
                <a:gridCol w="655560"/>
                <a:gridCol w="585720"/>
                <a:gridCol w="655560"/>
                <a:gridCol w="584280"/>
                <a:gridCol w="1023840"/>
                <a:gridCol w="878040"/>
                <a:gridCol w="87624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3" name="Rectangle 2"/>
          <p:cNvSpPr/>
          <p:nvPr/>
        </p:nvSpPr>
        <p:spPr>
          <a:xfrm>
            <a:off x="1600200" y="457200"/>
            <a:ext cx="5372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Rectangle 1538"/>
          <p:cNvSpPr/>
          <p:nvPr/>
        </p:nvSpPr>
        <p:spPr>
          <a:xfrm>
            <a:off x="290520" y="4842000"/>
            <a:ext cx="8369280" cy="1339560"/>
          </a:xfrm>
          <a:prstGeom prst="rect">
            <a:avLst/>
          </a:prstGeom>
          <a:solidFill>
            <a:srgbClr val="ccc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Врачи «скорой медицинской помощи», работающие в кабинетах неотложной помощи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или в больницах скорой медицинской помощи указываются по графам «в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амбулаторных условиях» или «в стационарных условиях» соответственно, при услови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наличия должности «врач скорой медицинской помощи» в штатном расписании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медицинской организаци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66"/>
          <p:cNvSpPr/>
          <p:nvPr/>
        </p:nvSpPr>
        <p:spPr>
          <a:xfrm flipH="1">
            <a:off x="3555720" y="436104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67"/>
          <p:cNvSpPr/>
          <p:nvPr/>
        </p:nvSpPr>
        <p:spPr>
          <a:xfrm flipH="1">
            <a:off x="4022280" y="436896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68"/>
          <p:cNvSpPr/>
          <p:nvPr/>
        </p:nvSpPr>
        <p:spPr>
          <a:xfrm flipH="1">
            <a:off x="4563720" y="436896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69"/>
          <p:cNvSpPr/>
          <p:nvPr/>
        </p:nvSpPr>
        <p:spPr>
          <a:xfrm flipH="1">
            <a:off x="5239800" y="4386240"/>
            <a:ext cx="414360" cy="363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70"/>
          <p:cNvSpPr/>
          <p:nvPr/>
        </p:nvSpPr>
        <p:spPr>
          <a:xfrm flipH="1">
            <a:off x="6849720" y="4386240"/>
            <a:ext cx="414360" cy="363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71"/>
          <p:cNvSpPr/>
          <p:nvPr/>
        </p:nvSpPr>
        <p:spPr>
          <a:xfrm flipH="1">
            <a:off x="7738560" y="4403880"/>
            <a:ext cx="414360" cy="363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1" name=""/>
          <p:cNvGraphicFramePr/>
          <p:nvPr/>
        </p:nvGraphicFramePr>
        <p:xfrm>
          <a:off x="260280" y="1424160"/>
          <a:ext cx="8532720" cy="3443040"/>
        </p:xfrm>
        <a:graphic>
          <a:graphicData uri="http://schemas.openxmlformats.org/drawingml/2006/table">
            <a:tbl>
              <a:tblPr/>
              <a:tblGrid>
                <a:gridCol w="1563840"/>
                <a:gridCol w="479520"/>
                <a:gridCol w="590400"/>
                <a:gridCol w="628560"/>
                <a:gridCol w="676440"/>
                <a:gridCol w="610920"/>
                <a:gridCol w="662040"/>
                <a:gridCol w="596880"/>
                <a:gridCol w="827280"/>
                <a:gridCol w="949320"/>
                <a:gridCol w="947520"/>
              </a:tblGrid>
              <a:tr h="1159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очие врач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7b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7b7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2" name="Rectangle 1538"/>
          <p:cNvSpPr/>
          <p:nvPr/>
        </p:nvSpPr>
        <p:spPr>
          <a:xfrm>
            <a:off x="1433520" y="4913280"/>
            <a:ext cx="6362640" cy="76356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Ошибка: включаются должности отсутствующие в Номенклатуре должностей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(произвольно наименованные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Rectangle 2"/>
          <p:cNvSpPr/>
          <p:nvPr/>
        </p:nvSpPr>
        <p:spPr>
          <a:xfrm>
            <a:off x="1600200" y="457200"/>
            <a:ext cx="5372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marL="670320" indent="-670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4" name=""/>
          <p:cNvGraphicFramePr/>
          <p:nvPr/>
        </p:nvGraphicFramePr>
        <p:xfrm>
          <a:off x="252360" y="363600"/>
          <a:ext cx="8672400" cy="5843520"/>
        </p:xfrm>
        <a:graphic>
          <a:graphicData uri="http://schemas.openxmlformats.org/drawingml/2006/table">
            <a:tbl>
              <a:tblPr/>
              <a:tblGrid>
                <a:gridCol w="1462320"/>
                <a:gridCol w="512640"/>
                <a:gridCol w="439560"/>
                <a:gridCol w="560520"/>
                <a:gridCol w="604800"/>
                <a:gridCol w="546120"/>
                <a:gridCol w="588960"/>
                <a:gridCol w="533520"/>
                <a:gridCol w="1458720"/>
                <a:gridCol w="922320"/>
                <a:gridCol w="1042920"/>
              </a:tblGrid>
              <a:tr h="1004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врачей (стр.1):                                                   врачи клинических  специаль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организациях подчинения: 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два и более сертификатов специалист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5" name="Rectangle 628"/>
          <p:cNvSpPr/>
          <p:nvPr/>
        </p:nvSpPr>
        <p:spPr>
          <a:xfrm>
            <a:off x="2259000" y="4270320"/>
            <a:ext cx="6591240" cy="1349280"/>
          </a:xfrm>
          <a:prstGeom prst="rect">
            <a:avLst/>
          </a:prstGeom>
          <a:solidFill>
            <a:srgbClr val="e5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строк 124 и 125 равна строке 1. По подчиненност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едеральные учреждения, подчинение субъекта РФ) медицински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 распределяются по состоянию на конец отчетного года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629"/>
          <p:cNvSpPr/>
          <p:nvPr/>
        </p:nvSpPr>
        <p:spPr>
          <a:xfrm>
            <a:off x="2279520" y="2921040"/>
            <a:ext cx="6607440" cy="736560"/>
          </a:xfrm>
          <a:prstGeom prst="rect">
            <a:avLst/>
          </a:prstGeom>
          <a:solidFill>
            <a:srgbClr val="ccc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Сведения в строке 123 не могут превышать значения, указанные в строке 1 (всего). Заполняется вся строка по графам 3-17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"/>
          <p:cNvSpPr txBox="1"/>
          <p:nvPr/>
        </p:nvSpPr>
        <p:spPr>
          <a:xfrm>
            <a:off x="838080" y="906480"/>
            <a:ext cx="8305920" cy="5502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766f54"/>
                </a:solidFill>
                <a:latin typeface="Times New Roman"/>
              </a:rPr>
              <a:t>к врачам клинических специальностей относятся (строка 123):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90360" indent="-903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766f54"/>
                </a:solidFill>
                <a:latin typeface="Times New Roman"/>
              </a:rPr>
              <a:t>терапевты, пульмонологи, кардиологи, детские кардиологи, ревматологи, гастроэнтерологи, нефрологи, диабетологи, эндокринологи, эндокринологи детские, аллергологи- иммунологи, гематологи, профпатологи, онкологи, онкологи детские, хирурги, хирурги детские, нейрохирурги, хирурги пластические, сердечно-сосудистые хирурги, торакальные хирурги, травматологи-ортопеды, урологи, урологи-андрологи детские, колопроктологи, челюстно-лицевые хирурги, акушеры-гинекологи, педиатры, неонатологи, офтальмологи, оториноларингологи, фтизиатры, неврологи, психиатры, психиатры детские, психиатры подростковые, гериатры, психиатры-наркологи, дерматовенерологи, врачи скорой медицинской помощи, инфекционисты, врачи общей практики (семейные), врачи по рентгенэндоваскулярной диагностике и лечению, </a:t>
            </a:r>
            <a:r>
              <a:rPr b="1" lang="ru-RU" sz="2400" spc="-1" strike="noStrike">
                <a:solidFill>
                  <a:srgbClr val="766f54"/>
                </a:solidFill>
                <a:latin typeface="Times New Roman"/>
              </a:rPr>
              <a:t>врачи здравпунктов, врачи приемного отделения, по медицинской реабилитации, </a:t>
            </a:r>
            <a:r>
              <a:rPr b="0" lang="ru-RU" sz="2400" spc="-1" strike="noStrike">
                <a:solidFill>
                  <a:srgbClr val="766f54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766f54"/>
                </a:solidFill>
                <a:latin typeface="Times New Roman"/>
              </a:rPr>
              <a:t>врачи токсикологи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8" name="Rectangle 629"/>
          <p:cNvSpPr/>
          <p:nvPr/>
        </p:nvSpPr>
        <p:spPr>
          <a:xfrm>
            <a:off x="1463760" y="6051600"/>
            <a:ext cx="6607080" cy="57780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С целью единого подхода использовать всем субъектам РФ данный перечень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Line 3"/>
          <p:cNvSpPr/>
          <p:nvPr/>
        </p:nvSpPr>
        <p:spPr>
          <a:xfrm>
            <a:off x="393372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0" name=""/>
          <p:cNvGraphicFramePr/>
          <p:nvPr/>
        </p:nvGraphicFramePr>
        <p:xfrm>
          <a:off x="347760" y="2122560"/>
          <a:ext cx="8450280" cy="2921040"/>
        </p:xfrm>
        <a:graphic>
          <a:graphicData uri="http://schemas.openxmlformats.org/drawingml/2006/table">
            <a:tbl>
              <a:tblPr/>
              <a:tblGrid>
                <a:gridCol w="2682720"/>
                <a:gridCol w="527040"/>
                <a:gridCol w="731880"/>
                <a:gridCol w="709560"/>
                <a:gridCol w="789120"/>
                <a:gridCol w="1001520"/>
                <a:gridCol w="1086120"/>
                <a:gridCol w="922320"/>
              </a:tblGrid>
              <a:tr h="73116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179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два и более сертификатов специалиста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3d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3db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1401d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1" name="Rectangle 2"/>
          <p:cNvSpPr/>
          <p:nvPr/>
        </p:nvSpPr>
        <p:spPr>
          <a:xfrm>
            <a:off x="1376280" y="746280"/>
            <a:ext cx="6591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marL="703800" indent="-703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AutoShape 17"/>
          <p:cNvSpPr/>
          <p:nvPr/>
        </p:nvSpPr>
        <p:spPr>
          <a:xfrm>
            <a:off x="6802560" y="4413240"/>
            <a:ext cx="1927080" cy="3967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b9318"/>
            </a:solidFill>
            <a:miter/>
          </a:ln>
          <a:effectLst>
            <a:outerShdw dist="17819" dir="2700000" blurRad="0" rotWithShape="0">
              <a:srgbClr val="97580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Text Box 541"/>
          <p:cNvSpPr/>
          <p:nvPr/>
        </p:nvSpPr>
        <p:spPr>
          <a:xfrm>
            <a:off x="5086440" y="4997520"/>
            <a:ext cx="37576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Строка 126 по графе 16 по логике должна быть равна 0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Графа 17 – заполняется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4" name=""/>
          <p:cNvGraphicFramePr/>
          <p:nvPr/>
        </p:nvGraphicFramePr>
        <p:xfrm>
          <a:off x="257040" y="453960"/>
          <a:ext cx="8734680" cy="6181920"/>
        </p:xfrm>
        <a:graphic>
          <a:graphicData uri="http://schemas.openxmlformats.org/drawingml/2006/table">
            <a:tbl>
              <a:tblPr/>
              <a:tblGrid>
                <a:gridCol w="2235240"/>
                <a:gridCol w="449280"/>
                <a:gridCol w="486000"/>
                <a:gridCol w="519120"/>
                <a:gridCol w="679320"/>
                <a:gridCol w="523800"/>
                <a:gridCol w="679680"/>
                <a:gridCol w="601560"/>
                <a:gridCol w="828720"/>
                <a:gridCol w="828720"/>
                <a:gridCol w="90324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 немедицинским образованием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пециалисты: биологи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ы-методисты по  лечебной физкультуре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физи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 медицин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дебные эксперт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ки-эксперты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т-физик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бри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томолог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5" name="Rectangle 915"/>
          <p:cNvSpPr/>
          <p:nvPr/>
        </p:nvSpPr>
        <p:spPr>
          <a:xfrm>
            <a:off x="3040200" y="2647800"/>
            <a:ext cx="5744880" cy="838440"/>
          </a:xfrm>
          <a:prstGeom prst="rect">
            <a:avLst/>
          </a:prstGeom>
          <a:solidFill>
            <a:srgbClr val="e5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В строку 127 не включаются сведения о специалистах с высшим немедицинским образованием, занимающих врачебные должности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Rectangle 917"/>
          <p:cNvSpPr/>
          <p:nvPr/>
        </p:nvSpPr>
        <p:spPr>
          <a:xfrm>
            <a:off x="3040200" y="3586320"/>
            <a:ext cx="5703840" cy="399960"/>
          </a:xfrm>
          <a:prstGeom prst="rect">
            <a:avLst/>
          </a:prstGeom>
          <a:solidFill>
            <a:srgbClr val="ccc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Строка 127 равна сумме строк с 128 по 138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Rectangle 915"/>
          <p:cNvSpPr/>
          <p:nvPr/>
        </p:nvSpPr>
        <p:spPr>
          <a:xfrm>
            <a:off x="3040200" y="4087800"/>
            <a:ext cx="5703840" cy="153504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Обратите вниман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на заполнение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граф 15 «Имеют сертификат» Сертификат указывается при наличи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документа установленного образца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 16 «Имеют свидетельство об аккредитации» должна быть равна 0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8" name=""/>
          <p:cNvGraphicFramePr/>
          <p:nvPr/>
        </p:nvGraphicFramePr>
        <p:xfrm>
          <a:off x="361800" y="263520"/>
          <a:ext cx="8501040" cy="5896080"/>
        </p:xfrm>
        <a:graphic>
          <a:graphicData uri="http://schemas.openxmlformats.org/drawingml/2006/table">
            <a:tbl>
              <a:tblPr/>
              <a:tblGrid>
                <a:gridCol w="1832040"/>
                <a:gridCol w="439920"/>
                <a:gridCol w="587160"/>
                <a:gridCol w="731880"/>
                <a:gridCol w="585720"/>
                <a:gridCol w="513000"/>
                <a:gridCol w="733320"/>
                <a:gridCol w="660240"/>
                <a:gridCol w="731880"/>
                <a:gridCol w="879480"/>
                <a:gridCol w="80640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организациях, расположенных в сельской местност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ют на основной работе в организациях подчинения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оссийской Федер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торы сестринского дела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143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e7e18"/>
                          </a:solidFill>
                          <a:latin typeface="Arial"/>
                          <a:ea typeface="Times New Roman"/>
                        </a:rPr>
                        <a:t>Заполняется вся строка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9" name="Rectangle 694"/>
          <p:cNvSpPr/>
          <p:nvPr/>
        </p:nvSpPr>
        <p:spPr>
          <a:xfrm>
            <a:off x="2827440" y="3944880"/>
            <a:ext cx="5848200" cy="3049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Сумма строк 145 и 146 равна строке 14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Rectangle 719"/>
          <p:cNvSpPr/>
          <p:nvPr/>
        </p:nvSpPr>
        <p:spPr>
          <a:xfrm>
            <a:off x="2870280" y="4334040"/>
            <a:ext cx="5898960" cy="1050840"/>
          </a:xfrm>
          <a:prstGeom prst="rect">
            <a:avLst/>
          </a:prstGeom>
          <a:solidFill>
            <a:srgbClr val="8399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казываются специалисты с высшим или средним медицинским образованием, имеющие данную специальность, не зависимо от должности, которую они занимают в среднем медицинском персонале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720"/>
          <p:cNvSpPr/>
          <p:nvPr/>
        </p:nvSpPr>
        <p:spPr>
          <a:xfrm flipV="1">
            <a:off x="2513160" y="5249520"/>
            <a:ext cx="560160" cy="87804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Rectangle 721"/>
          <p:cNvSpPr/>
          <p:nvPr/>
        </p:nvSpPr>
        <p:spPr>
          <a:xfrm>
            <a:off x="2803680" y="2652840"/>
            <a:ext cx="5908680" cy="1066680"/>
          </a:xfrm>
          <a:prstGeom prst="rect">
            <a:avLst/>
          </a:prstGeom>
          <a:solidFill>
            <a:srgbClr val="e5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дицинских сестер с высшим медицинским образованием, занимающих должнос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рачей-методистов или врачей-статист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у 143 не включать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3" name=""/>
          <p:cNvGraphicFramePr/>
          <p:nvPr/>
        </p:nvGraphicFramePr>
        <p:xfrm>
          <a:off x="284040" y="777960"/>
          <a:ext cx="8499600" cy="5798880"/>
        </p:xfrm>
        <a:graphic>
          <a:graphicData uri="http://schemas.openxmlformats.org/drawingml/2006/table">
            <a:tbl>
              <a:tblPr/>
              <a:tblGrid>
                <a:gridCol w="1597320"/>
                <a:gridCol w="477720"/>
                <a:gridCol w="758880"/>
                <a:gridCol w="726840"/>
                <a:gridCol w="581040"/>
                <a:gridCol w="652680"/>
                <a:gridCol w="581040"/>
                <a:gridCol w="653760"/>
                <a:gridCol w="873360"/>
                <a:gridCol w="796680"/>
                <a:gridCol w="800280"/>
              </a:tblGrid>
              <a:tr h="10065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среднего медперсонала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тр. 143):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ы стоматологиче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дующ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ведующие фельдшерско-акушерским пункто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мощники  врач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4" name="Rectangle 719"/>
          <p:cNvSpPr/>
          <p:nvPr/>
        </p:nvSpPr>
        <p:spPr>
          <a:xfrm>
            <a:off x="2527200" y="2859120"/>
            <a:ext cx="6189840" cy="182880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в строке 150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Arial"/>
              </a:rPr>
              <a:t> указывать следующие должности: заведующий молочной кухней; заведующий здравпунктом–фельдшер (медицинская сестра);заведующий ФАП– фельдшер (акушер, медицинская сестра); заведующий кабинетом медпрофилактики– фельдшер (медицинская сестра); заведующий отделом, отделением, лабораторией, кабинетом зубопротезирования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Rectangle 804"/>
          <p:cNvSpPr/>
          <p:nvPr/>
        </p:nvSpPr>
        <p:spPr>
          <a:xfrm>
            <a:off x="2494080" y="4781520"/>
            <a:ext cx="6273720" cy="175896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в строке 20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указывать должности помощников: врача-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эпидемиолога, врача-паразитолога, врача по гигиене детей и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одростков, врача по гигиене питания, врача по гигиене труда,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врача по гигиеническому воспитанию, врача по коммунально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гигиене, врача по общей гигиене, врача по радиационной гигиене, помощник энтомолога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6" name=""/>
          <p:cNvGraphicFramePr/>
          <p:nvPr/>
        </p:nvGraphicFramePr>
        <p:xfrm>
          <a:off x="455760" y="468360"/>
          <a:ext cx="8442000" cy="5753160"/>
        </p:xfrm>
        <a:graphic>
          <a:graphicData uri="http://schemas.openxmlformats.org/drawingml/2006/table">
            <a:tbl>
              <a:tblPr/>
              <a:tblGrid>
                <a:gridCol w="1576080"/>
                <a:gridCol w="465120"/>
                <a:gridCol w="627120"/>
                <a:gridCol w="722520"/>
                <a:gridCol w="720720"/>
                <a:gridCol w="565200"/>
                <a:gridCol w="591840"/>
                <a:gridCol w="501840"/>
                <a:gridCol w="819000"/>
                <a:gridCol w="827280"/>
                <a:gridCol w="1025280"/>
              </a:tblGrid>
              <a:tr h="10044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меют свидетельство об аккредитации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ятся в декретном и долгосрочном отпуске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46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диагностик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ru-RU" sz="1400" spc="-1" strike="noStrike">
                          <a:solidFill>
                            <a:srgbClr val="de7e18"/>
                          </a:solidFill>
                          <a:latin typeface="Times New Roman"/>
                          <a:ea typeface="Times New Roman"/>
                        </a:rPr>
                        <a:t>Разница (ошибка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лабораторные техники (фельдшеры-лаборанты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 gridSpan="9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чный контроль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47" name="AutoShape 17"/>
          <p:cNvSpPr/>
          <p:nvPr/>
        </p:nvSpPr>
        <p:spPr>
          <a:xfrm>
            <a:off x="2482920" y="4819680"/>
            <a:ext cx="1376280" cy="396720"/>
          </a:xfrm>
          <a:prstGeom prst="roundRect">
            <a:avLst>
              <a:gd name="adj" fmla="val 16667"/>
            </a:avLst>
          </a:prstGeom>
          <a:noFill/>
          <a:ln w="63360">
            <a:solidFill>
              <a:srgbClr val="fb9318"/>
            </a:solidFill>
            <a:miter/>
          </a:ln>
          <a:effectLst>
            <a:outerShdw dist="17819" dir="2700000" blurRad="0" rotWithShape="0">
              <a:srgbClr val="97580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8" name=""/>
          <p:cNvGraphicFramePr/>
          <p:nvPr/>
        </p:nvGraphicFramePr>
        <p:xfrm>
          <a:off x="455760" y="468360"/>
          <a:ext cx="8442000" cy="5394240"/>
        </p:xfrm>
        <a:graphic>
          <a:graphicData uri="http://schemas.openxmlformats.org/drawingml/2006/table">
            <a:tbl>
              <a:tblPr/>
              <a:tblGrid>
                <a:gridCol w="1576080"/>
                <a:gridCol w="465120"/>
                <a:gridCol w="627120"/>
                <a:gridCol w="722520"/>
                <a:gridCol w="720720"/>
                <a:gridCol w="565200"/>
                <a:gridCol w="591840"/>
                <a:gridCol w="501840"/>
                <a:gridCol w="819000"/>
                <a:gridCol w="827280"/>
                <a:gridCol w="1025280"/>
              </a:tblGrid>
              <a:tr h="10044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ертификат специалиста (из гр.9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азница между гр.9 и гр. 15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246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н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стология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ая диагностик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лабораторные техники (фельдшеры-лаборанты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d4a9"/>
                    </a:solidFill>
                  </a:tcPr>
                </a:tc>
                <a:tc gridSpan="9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чный контроль по строкам 45-47,67-68,69-70, 71-72, 73-74, 96-100, 109-110, 127-138, 139-142, 150-151, 152-153, 163-166, 198-201, 202-206, 208-21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49" name="AutoShape 17"/>
          <p:cNvSpPr/>
          <p:nvPr/>
        </p:nvSpPr>
        <p:spPr>
          <a:xfrm>
            <a:off x="7155000" y="3195720"/>
            <a:ext cx="556920" cy="812880"/>
          </a:xfrm>
          <a:custGeom>
            <a:avLst/>
            <a:gdLst>
              <a:gd name="textAreaLeft" fmla="*/ 27000 w 556920"/>
              <a:gd name="textAreaRight" fmla="*/ 529920 w 556920"/>
              <a:gd name="textAreaTop" fmla="*/ 27000 h 812880"/>
              <a:gd name="textAreaBottom" fmla="*/ 785880 h 812880"/>
            </a:gdLst>
            <a:ahLst/>
            <a:rect l="textAreaLeft" t="textAreaTop" r="textAreaRight" b="textAreaBottom"/>
            <a:pathLst>
              <a:path w="21600" h="31521">
                <a:moveTo>
                  <a:pt x="3600" y="0"/>
                </a:moveTo>
                <a:arcTo wR="3600" hR="3600" stAng="16200000" swAng="-5400000"/>
                <a:lnTo>
                  <a:pt x="0" y="27921"/>
                </a:lnTo>
                <a:arcTo wR="3600" hR="3600" stAng="10800000" swAng="-5400000"/>
                <a:lnTo>
                  <a:pt x="18000" y="315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3360">
            <a:solidFill>
              <a:srgbClr val="fb9318"/>
            </a:solidFill>
            <a:miter/>
          </a:ln>
          <a:effectLst>
            <a:outerShdw dist="17819" dir="2700000" blurRad="0" rotWithShape="0">
              <a:srgbClr val="97580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Стрелка влево 1"/>
          <p:cNvSpPr/>
          <p:nvPr/>
        </p:nvSpPr>
        <p:spPr>
          <a:xfrm>
            <a:off x="7711920" y="3017880"/>
            <a:ext cx="1390680" cy="15984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a5301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а!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.160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= стр.159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Подзаголовок 2"/>
          <p:cNvSpPr/>
          <p:nvPr/>
        </p:nvSpPr>
        <p:spPr>
          <a:xfrm>
            <a:off x="1682640" y="204840"/>
            <a:ext cx="6048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рядок составления штатного расписания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Text Box 4"/>
          <p:cNvSpPr/>
          <p:nvPr/>
        </p:nvSpPr>
        <p:spPr>
          <a:xfrm>
            <a:off x="271440" y="1855800"/>
            <a:ext cx="866448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именования должностей указывается согласно квалификационным справочникам или профессиональным стандартам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необходимо, если сотрудники получают компенсации и льготы, например, досрочную пенсию или дополнительный отпуск. Или для должностей, по которым закон устанавливает ограничения, например, есть необходимость проходить предрейсовый медосмотр. Медработники, водители и педагоги подпадают под действие этой нормы (</a:t>
            </a:r>
            <a:r>
              <a:rPr b="0" lang="ru-RU" sz="1800" spc="-1" strike="noStrike" u="sng">
                <a:solidFill>
                  <a:srgbClr val="fb4a18"/>
                </a:solidFill>
                <a:uFillTx/>
                <a:latin typeface="Times New Roman"/>
                <a:hlinkClick r:id="rId1"/>
              </a:rPr>
              <a:t>ч. 2 ст. 57 Т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1" name=""/>
          <p:cNvGraphicFramePr/>
          <p:nvPr/>
        </p:nvGraphicFramePr>
        <p:xfrm>
          <a:off x="270000" y="324000"/>
          <a:ext cx="8601120" cy="6242040"/>
        </p:xfrm>
        <a:graphic>
          <a:graphicData uri="http://schemas.openxmlformats.org/drawingml/2006/table">
            <a:tbl>
              <a:tblPr/>
              <a:tblGrid>
                <a:gridCol w="1757160"/>
                <a:gridCol w="414360"/>
                <a:gridCol w="633600"/>
                <a:gridCol w="617400"/>
                <a:gridCol w="806400"/>
                <a:gridCol w="728640"/>
                <a:gridCol w="655560"/>
                <a:gridCol w="582840"/>
                <a:gridCol w="803160"/>
                <a:gridCol w="801720"/>
                <a:gridCol w="800280"/>
              </a:tblGrid>
              <a:tr h="10044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стринское дело с высшим медицинским образовани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лав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 ской деятельностью с высшим медицинским образованием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ециальности: организация сестринского дела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2" name="Rectangle 862"/>
          <p:cNvSpPr/>
          <p:nvPr/>
        </p:nvSpPr>
        <p:spPr>
          <a:xfrm>
            <a:off x="2522520" y="2884320"/>
            <a:ext cx="6369120" cy="20098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ах 168-173 указываются физические лица с высшим и средним медицинским образованием независимо от того, какую фактически должность они занимают в категории среднего медперсонала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Rectangle 880"/>
          <p:cNvSpPr/>
          <p:nvPr/>
        </p:nvSpPr>
        <p:spPr>
          <a:xfrm>
            <a:off x="2522520" y="5056200"/>
            <a:ext cx="6348600" cy="60948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Строка 167 может быть больше или равна сумме строк с 168 по 173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AutoShape 137"/>
          <p:cNvSpPr/>
          <p:nvPr/>
        </p:nvSpPr>
        <p:spPr>
          <a:xfrm>
            <a:off x="1897200" y="3056040"/>
            <a:ext cx="88920" cy="1838160"/>
          </a:xfrm>
          <a:custGeom>
            <a:avLst/>
            <a:gdLst>
              <a:gd name="textAreaLeft" fmla="*/ 56880 w 88920"/>
              <a:gd name="textAreaRight" fmla="*/ 89280 w 88920"/>
              <a:gd name="textAreaTop" fmla="*/ 47880 h 1838160"/>
              <a:gd name="textAreaBottom" fmla="*/ 1790280 h 183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631d0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AutoShape 138"/>
          <p:cNvSpPr/>
          <p:nvPr/>
        </p:nvSpPr>
        <p:spPr>
          <a:xfrm>
            <a:off x="1854360" y="3336840"/>
            <a:ext cx="88920" cy="1455840"/>
          </a:xfrm>
          <a:custGeom>
            <a:avLst/>
            <a:gdLst>
              <a:gd name="textAreaLeft" fmla="*/ 56880 w 88920"/>
              <a:gd name="textAreaRight" fmla="*/ 89280 w 8892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AutoShape 139"/>
          <p:cNvSpPr/>
          <p:nvPr/>
        </p:nvSpPr>
        <p:spPr>
          <a:xfrm>
            <a:off x="1811160" y="5056200"/>
            <a:ext cx="88920" cy="1455840"/>
          </a:xfrm>
          <a:custGeom>
            <a:avLst/>
            <a:gdLst>
              <a:gd name="textAreaLeft" fmla="*/ 56880 w 88920"/>
              <a:gd name="textAreaRight" fmla="*/ 89280 w 8892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7" name=""/>
          <p:cNvGraphicFramePr/>
          <p:nvPr/>
        </p:nvGraphicFramePr>
        <p:xfrm>
          <a:off x="270000" y="324000"/>
          <a:ext cx="8601120" cy="6242040"/>
        </p:xfrm>
        <a:graphic>
          <a:graphicData uri="http://schemas.openxmlformats.org/drawingml/2006/table">
            <a:tbl>
              <a:tblPr/>
              <a:tblGrid>
                <a:gridCol w="1757160"/>
                <a:gridCol w="414360"/>
                <a:gridCol w="633600"/>
                <a:gridCol w="617400"/>
                <a:gridCol w="806400"/>
                <a:gridCol w="728640"/>
                <a:gridCol w="655560"/>
                <a:gridCol w="582840"/>
                <a:gridCol w="803160"/>
                <a:gridCol w="801720"/>
                <a:gridCol w="800280"/>
              </a:tblGrid>
              <a:tr h="10044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стринское дело с высшим медицинским образовани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лав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 ской деятельностью с высшим медицинским образованием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ециальности: организация сестринского дела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8" name="Rectangle 859"/>
          <p:cNvSpPr/>
          <p:nvPr/>
        </p:nvSpPr>
        <p:spPr>
          <a:xfrm>
            <a:off x="2490840" y="2610000"/>
            <a:ext cx="6345360" cy="11476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67 должна быть больше суммы строк с 168 по 170. То есть специалисты с высшим медицинским образование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Rectangle 863"/>
          <p:cNvSpPr/>
          <p:nvPr/>
        </p:nvSpPr>
        <p:spPr>
          <a:xfrm>
            <a:off x="2482920" y="4214880"/>
            <a:ext cx="6337080" cy="11714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67 должна быть больше суммы строк с 171 по 173. То есть специалисты со средним медицинским образованием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AutoShape 137"/>
          <p:cNvSpPr/>
          <p:nvPr/>
        </p:nvSpPr>
        <p:spPr>
          <a:xfrm>
            <a:off x="1897200" y="3056040"/>
            <a:ext cx="88920" cy="1838160"/>
          </a:xfrm>
          <a:custGeom>
            <a:avLst/>
            <a:gdLst>
              <a:gd name="textAreaLeft" fmla="*/ 56880 w 88920"/>
              <a:gd name="textAreaRight" fmla="*/ 89280 w 88920"/>
              <a:gd name="textAreaTop" fmla="*/ 47880 h 1838160"/>
              <a:gd name="textAreaBottom" fmla="*/ 1790280 h 183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631d0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AutoShape 138"/>
          <p:cNvSpPr/>
          <p:nvPr/>
        </p:nvSpPr>
        <p:spPr>
          <a:xfrm>
            <a:off x="1854360" y="3336840"/>
            <a:ext cx="88920" cy="1455840"/>
          </a:xfrm>
          <a:custGeom>
            <a:avLst/>
            <a:gdLst>
              <a:gd name="textAreaLeft" fmla="*/ 56880 w 88920"/>
              <a:gd name="textAreaRight" fmla="*/ 89280 w 8892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AutoShape 139"/>
          <p:cNvSpPr/>
          <p:nvPr/>
        </p:nvSpPr>
        <p:spPr>
          <a:xfrm>
            <a:off x="1811160" y="5056200"/>
            <a:ext cx="88920" cy="1455840"/>
          </a:xfrm>
          <a:custGeom>
            <a:avLst/>
            <a:gdLst>
              <a:gd name="textAreaLeft" fmla="*/ 56880 w 88920"/>
              <a:gd name="textAreaRight" fmla="*/ 89280 w 88920"/>
              <a:gd name="textAreaTop" fmla="*/ 37800 h 1455840"/>
              <a:gd name="textAreaBottom" fmla="*/ 141804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3" name=""/>
          <p:cNvGraphicFramePr/>
          <p:nvPr/>
        </p:nvGraphicFramePr>
        <p:xfrm>
          <a:off x="270000" y="324000"/>
          <a:ext cx="8601120" cy="6242040"/>
        </p:xfrm>
        <a:graphic>
          <a:graphicData uri="http://schemas.openxmlformats.org/drawingml/2006/table">
            <a:tbl>
              <a:tblPr/>
              <a:tblGrid>
                <a:gridCol w="1757160"/>
                <a:gridCol w="414360"/>
                <a:gridCol w="633600"/>
                <a:gridCol w="617400"/>
                <a:gridCol w="806400"/>
                <a:gridCol w="728640"/>
                <a:gridCol w="655560"/>
                <a:gridCol w="582840"/>
                <a:gridCol w="803160"/>
                <a:gridCol w="801720"/>
                <a:gridCol w="800280"/>
              </a:tblGrid>
              <a:tr h="10044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стринское дело с высшим медицинским образованием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алав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естрин ской деятельностью с высшим медицинским образованием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специальности: организация сестринского дела    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тринское дело в педиатр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4" name="Rectangle 862"/>
          <p:cNvSpPr/>
          <p:nvPr/>
        </p:nvSpPr>
        <p:spPr>
          <a:xfrm>
            <a:off x="2558880" y="1198440"/>
            <a:ext cx="6370920" cy="15512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сшее образование - специалитет по специальности "Сестринское дело»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пример: К профессиональной деятельности в качестве медицинской сестры врача общей практики допускаются лица, получившие высшее медицинское образование по специальности "Сестринское дело" и сертификат по специальности "Общая практика"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863"/>
          <p:cNvSpPr/>
          <p:nvPr/>
        </p:nvSpPr>
        <p:spPr>
          <a:xfrm>
            <a:off x="2584440" y="4221000"/>
            <a:ext cx="6337440" cy="24004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шее образование - специалитет по специальности "Сестринское дело« и подготовка в интернатур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специальности "Управление сестринской деятельностью»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лжности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Заместитель руководителя МО; главная медицинская сестра (главная акушерка, главный фельдшер); директор больницы (дома) сестринского ухода, хосписа; заведующий (начальник) структурного подразделения (отдела, отделения, лаборатории, кабинета, отряда и другое) медицинской организации - врач-статистик; заведующий (начальник) структурного подразделения (отдела, отделения, лаборатории, кабинета, отряда и другое) медицинской организации - врач-методист; врач-статистик; врач-методист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Rectangle 880"/>
          <p:cNvSpPr/>
          <p:nvPr/>
        </p:nvSpPr>
        <p:spPr>
          <a:xfrm>
            <a:off x="2575080" y="2901960"/>
            <a:ext cx="6251400" cy="1244520"/>
          </a:xfrm>
          <a:prstGeom prst="rect">
            <a:avLst/>
          </a:prstGeom>
          <a:solidFill>
            <a:srgbClr val="ede6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сшее образование - бакалавриа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по направлению подготовки "Сестринское дело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лжности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«Медицинская сестра общей практики, медицинская сестра по паллиативной помощи, медицинская сестра по профилактике, медицинская сестра по реабилитации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720"/>
          <p:cNvSpPr/>
          <p:nvPr/>
        </p:nvSpPr>
        <p:spPr>
          <a:xfrm flipV="1">
            <a:off x="2216160" y="2362320"/>
            <a:ext cx="560520" cy="87768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720"/>
          <p:cNvSpPr/>
          <p:nvPr/>
        </p:nvSpPr>
        <p:spPr>
          <a:xfrm>
            <a:off x="2376360" y="3908520"/>
            <a:ext cx="425520" cy="324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720"/>
          <p:cNvSpPr/>
          <p:nvPr/>
        </p:nvSpPr>
        <p:spPr>
          <a:xfrm>
            <a:off x="2131920" y="4390920"/>
            <a:ext cx="654120" cy="33336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0" name=""/>
          <p:cNvGraphicFramePr/>
          <p:nvPr/>
        </p:nvGraphicFramePr>
        <p:xfrm>
          <a:off x="291960" y="193680"/>
          <a:ext cx="8629920" cy="6467400"/>
        </p:xfrm>
        <a:graphic>
          <a:graphicData uri="http://schemas.openxmlformats.org/drawingml/2006/table">
            <a:tbl>
              <a:tblPr/>
              <a:tblGrid>
                <a:gridCol w="1643040"/>
                <a:gridCol w="532080"/>
                <a:gridCol w="538200"/>
                <a:gridCol w="633240"/>
                <a:gridCol w="676440"/>
                <a:gridCol w="615960"/>
                <a:gridCol w="661680"/>
                <a:gridCol w="601920"/>
                <a:gridCol w="723960"/>
                <a:gridCol w="992160"/>
                <a:gridCol w="101124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-ких лиц основных работ-ников на занятых должно-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-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-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е сестр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строки 167: анестезис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 общей практики  (семейных врачей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етически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социальной помощ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 функциональ ной диагностик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1" name="Rectangle 885"/>
          <p:cNvSpPr/>
          <p:nvPr/>
        </p:nvSpPr>
        <p:spPr>
          <a:xfrm>
            <a:off x="2516040" y="3301920"/>
            <a:ext cx="6321600" cy="38124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67 может быть больше суммы строк с 174 по 193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885"/>
          <p:cNvSpPr/>
          <p:nvPr/>
        </p:nvSpPr>
        <p:spPr>
          <a:xfrm>
            <a:off x="2573280" y="4135320"/>
            <a:ext cx="6264360" cy="3970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Главная медсестра включается только в строку 167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3" name=""/>
          <p:cNvGraphicFramePr/>
          <p:nvPr/>
        </p:nvGraphicFramePr>
        <p:xfrm>
          <a:off x="219240" y="217440"/>
          <a:ext cx="8691480" cy="6145200"/>
        </p:xfrm>
        <a:graphic>
          <a:graphicData uri="http://schemas.openxmlformats.org/drawingml/2006/table">
            <a:tbl>
              <a:tblPr/>
              <a:tblGrid>
                <a:gridCol w="1798560"/>
                <a:gridCol w="523800"/>
                <a:gridCol w="598320"/>
                <a:gridCol w="675000"/>
                <a:gridCol w="598320"/>
                <a:gridCol w="571680"/>
                <a:gridCol w="704520"/>
                <a:gridCol w="600120"/>
                <a:gridCol w="898560"/>
                <a:gridCol w="822240"/>
                <a:gridCol w="90036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работают на основной работе в организациях подчинения: федерально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ов РФ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птечных организац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4" name="Rectangle 1245"/>
          <p:cNvSpPr/>
          <p:nvPr/>
        </p:nvSpPr>
        <p:spPr>
          <a:xfrm>
            <a:off x="2612880" y="2876400"/>
            <a:ext cx="6193080" cy="45720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213 должна быть равна сумме строк 214 и 215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Rectangle 1249"/>
          <p:cNvSpPr/>
          <p:nvPr/>
        </p:nvSpPr>
        <p:spPr>
          <a:xfrm>
            <a:off x="2581200" y="3618000"/>
            <a:ext cx="6259680" cy="914400"/>
          </a:xfrm>
          <a:prstGeom prst="rect">
            <a:avLst/>
          </a:prstGeom>
          <a:solidFill>
            <a:srgbClr val="e5e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строке 216 указываются сведения в случае, если такие организации есть в подчинении субъекта или в подчинении Минздрава Росс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Text Box 1253"/>
          <p:cNvSpPr/>
          <p:nvPr/>
        </p:nvSpPr>
        <p:spPr>
          <a:xfrm>
            <a:off x="7703280" y="18108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  <a:ea typeface="Arial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7" name=""/>
          <p:cNvGraphicFramePr/>
          <p:nvPr/>
        </p:nvGraphicFramePr>
        <p:xfrm>
          <a:off x="230040" y="289080"/>
          <a:ext cx="8697960" cy="5459400"/>
        </p:xfrm>
        <a:graphic>
          <a:graphicData uri="http://schemas.openxmlformats.org/drawingml/2006/table">
            <a:tbl>
              <a:tblPr/>
              <a:tblGrid>
                <a:gridCol w="1656000"/>
                <a:gridCol w="538200"/>
                <a:gridCol w="542880"/>
                <a:gridCol w="635040"/>
                <a:gridCol w="682560"/>
                <a:gridCol w="620640"/>
                <a:gridCol w="668520"/>
                <a:gridCol w="603000"/>
                <a:gridCol w="731880"/>
                <a:gridCol w="1000080"/>
                <a:gridCol w="1019160"/>
              </a:tblGrid>
              <a:tr h="82188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-ких лиц основных работ-ников на занятых должно-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-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-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4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без медицинского образования занимающих должности среднего персонала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медицинских регистратор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регистраторов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ов по лечебной физкультуре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8" name="Rectangle 885"/>
          <p:cNvSpPr/>
          <p:nvPr/>
        </p:nvSpPr>
        <p:spPr>
          <a:xfrm>
            <a:off x="2533680" y="2932200"/>
            <a:ext cx="6224400" cy="12445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9,10,11 графах показывают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лиц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 медицинского образования и занимающие должности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дицинских регистраторов, медицинских дезинфекторов, инструкторов по лечебной физкультур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нимаемые ими показываются в графах 3-8 соответствующих строк 196, 194, 157.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Text Box 868"/>
          <p:cNvSpPr/>
          <p:nvPr/>
        </p:nvSpPr>
        <p:spPr>
          <a:xfrm>
            <a:off x="7499880" y="19512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Rectangle 885"/>
          <p:cNvSpPr/>
          <p:nvPr/>
        </p:nvSpPr>
        <p:spPr>
          <a:xfrm>
            <a:off x="2558880" y="4465800"/>
            <a:ext cx="6224760" cy="12445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229 показывают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лиц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 медицинского образования (в том числе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удентов медицинских Вузов, имеющих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к к должности среднего медперсонала, медицинские сестры «Красный Крест»)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1099800" y="476280"/>
            <a:ext cx="79088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262626"/>
                </a:solidFill>
                <a:latin typeface="Century Gothic"/>
              </a:rPr>
              <a:t>Несколько слов о трудоустройстве студентов.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457200" y="160020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Приказом Минздрава РФ от 27.06.2016 N 419н утвержден Порядок допуска лиц к осуществлению медицинской (фармацевтической) деятельности на должностях среднего медицинского (фармацевтического) персонала, в соответствии с которым лица,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не завершившие освоение образовательных программ высшего медицинского (фармацевтического) образования, могут быть приняты на работу на указанные должности при наличии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- справки об обучении или о периоде обучения, подтверждающей освоение образовательной программы в необходимом объеме и по специальности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- положительного результата сдачи экзамена по допуску к осуществлению медицинской (фармацевтической) деятельности (проводится в образовательном учреждении)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Например, лица с незаконченным высшим образованием, освоившие образовательную программу высшего медицинского образования по специальностям "Лечебное дело", "Педиатрия", "Медико-профилактическое дело", "Стоматология" в объеме трех курсов и более или по направлению подготовки "Сестринское дело" в объеме двух курсов и более либо имеющие диплом специалиста (диплом бакалавра) по специальности "Лечебное дело", "Педиатрия", "Медико-профилактическое дело", "Сестринское дело" или "Стоматология",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могут быть приняты на работу в качестве медицинской сестры (медбрата), в том числе палатной, перевязочной, процедурной, по приему вызовов скорой медицинской помощи, приемного отделения, участково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33240" y="628560"/>
            <a:ext cx="79092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entury Gothic"/>
              </a:rPr>
              <a:t>Сверка т.1100 с данными федерального регистра медицинских работников (ФРМР)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784" name=""/>
          <p:cNvGraphicFramePr/>
          <p:nvPr/>
        </p:nvGraphicFramePr>
        <p:xfrm>
          <a:off x="160200" y="2641680"/>
          <a:ext cx="8856720" cy="2141280"/>
        </p:xfrm>
        <a:graphic>
          <a:graphicData uri="http://schemas.openxmlformats.org/drawingml/2006/table">
            <a:tbl>
              <a:tblPr/>
              <a:tblGrid>
                <a:gridCol w="608040"/>
                <a:gridCol w="696960"/>
                <a:gridCol w="754200"/>
                <a:gridCol w="941400"/>
                <a:gridCol w="834840"/>
                <a:gridCol w="922320"/>
                <a:gridCol w="1190880"/>
                <a:gridCol w="1285560"/>
                <a:gridCol w="852840"/>
                <a:gridCol w="769680"/>
              </a:tblGrid>
              <a:tr h="3002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/п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бъект Российской Федераци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аименование медицинской организаци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gridSpan="7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личество сотрудников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ачи и руководител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 том числе руководители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редний мед.персонал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ладший мед.персонал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овизор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армацевты</a:t>
                      </a:r>
                      <a:endParaRPr b="1" i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  <a:tr h="917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 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9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7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8e7"/>
                    </a:solidFill>
                  </a:tcPr>
                </a:tc>
              </a:tr>
            </a:tbl>
          </a:graphicData>
        </a:graphic>
      </p:graphicFrame>
      <p:sp>
        <p:nvSpPr>
          <p:cNvPr id="1785" name="Прямоугольник 3"/>
          <p:cNvSpPr/>
          <p:nvPr/>
        </p:nvSpPr>
        <p:spPr>
          <a:xfrm>
            <a:off x="160200" y="1943280"/>
            <a:ext cx="86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 об эксплуатации ФРМР на 31.12.2019 г. по сведениям о трудоустройстве по перечню организаций, заведенных в регистре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Прямоугольник 4"/>
          <p:cNvSpPr/>
          <p:nvPr/>
        </p:nvSpPr>
        <p:spPr>
          <a:xfrm>
            <a:off x="160200" y="4896000"/>
            <a:ext cx="3017880" cy="17049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физических лиц, всего в отчете ФРМР на 31.12.2019 г. должно соответствовать сумме строк (1+143+217+139+213) по графе 9 т.1100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Прямоугольник 5"/>
          <p:cNvSpPr/>
          <p:nvPr/>
        </p:nvSpPr>
        <p:spPr>
          <a:xfrm>
            <a:off x="3249720" y="4896000"/>
            <a:ext cx="5592600" cy="170496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физических лиц врачей, СМП, МПП, провизоров, фармацевтов в отчете ФРМР должно соответствовать стр. 1,143, 217, 139, 213 гр.9 т.1100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8" name="Прямая со стрелкой 6"/>
          <p:cNvCxnSpPr/>
          <p:nvPr/>
        </p:nvCxnSpPr>
        <p:spPr>
          <a:xfrm>
            <a:off x="357804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89" name="Прямая со стрелкой 14"/>
          <p:cNvCxnSpPr/>
          <p:nvPr/>
        </p:nvCxnSpPr>
        <p:spPr>
          <a:xfrm>
            <a:off x="864828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90" name="Прямая со стрелкой 15"/>
          <p:cNvCxnSpPr/>
          <p:nvPr/>
        </p:nvCxnSpPr>
        <p:spPr>
          <a:xfrm>
            <a:off x="781488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91" name="Прямая со стрелкой 16"/>
          <p:cNvCxnSpPr/>
          <p:nvPr/>
        </p:nvCxnSpPr>
        <p:spPr>
          <a:xfrm>
            <a:off x="674172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92" name="Прямая со стрелкой 17"/>
          <p:cNvCxnSpPr/>
          <p:nvPr/>
        </p:nvCxnSpPr>
        <p:spPr>
          <a:xfrm>
            <a:off x="550980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  <p:cxnSp>
        <p:nvCxnSpPr>
          <p:cNvPr id="1793" name="Прямая со стрелкой 18"/>
          <p:cNvCxnSpPr/>
          <p:nvPr/>
        </p:nvCxnSpPr>
        <p:spPr>
          <a:xfrm>
            <a:off x="2669760" y="4367160"/>
            <a:ext cx="1080" cy="618480"/>
          </a:xfrm>
          <a:prstGeom prst="straightConnector1">
            <a:avLst/>
          </a:prstGeom>
          <a:ln w="76320">
            <a:solidFill>
              <a:srgbClr val="4b866e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4" name=""/>
          <p:cNvGraphicFramePr/>
          <p:nvPr/>
        </p:nvGraphicFramePr>
        <p:xfrm>
          <a:off x="401760" y="1211400"/>
          <a:ext cx="8362800" cy="2611440"/>
        </p:xfrm>
        <a:graphic>
          <a:graphicData uri="http://schemas.openxmlformats.org/drawingml/2006/table">
            <a:tbl>
              <a:tblPr/>
              <a:tblGrid>
                <a:gridCol w="4343400"/>
                <a:gridCol w="563400"/>
                <a:gridCol w="1152720"/>
                <a:gridCol w="1152360"/>
                <a:gridCol w="115092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лжности и физические лица отделений (кабинетов) профилактики (из таблицы 1100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изических лиц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 (из стр.1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ведующий отделением (кабинетом) – врач по медицинской профилактике, врач-психотерапевт, врач-по медицинской профилактике*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го медицинского персонала (из стр.143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ршая медсестра, фельдшер (медицинская сестра, акушер)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5" name="Text Box 2"/>
          <p:cNvSpPr/>
          <p:nvPr/>
        </p:nvSpPr>
        <p:spPr>
          <a:xfrm>
            <a:off x="1486080" y="533520"/>
            <a:ext cx="62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1 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Rectangle 194"/>
          <p:cNvSpPr/>
          <p:nvPr/>
        </p:nvSpPr>
        <p:spPr>
          <a:xfrm>
            <a:off x="399960" y="4052880"/>
            <a:ext cx="834732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* </a:t>
            </a:r>
            <a:r>
              <a:rPr b="1" lang="ru-RU" sz="1600" spc="-1" strike="noStrike">
                <a:solidFill>
                  <a:srgbClr val="de7e18"/>
                </a:solidFill>
                <a:latin typeface="Times New Roman"/>
                <a:ea typeface="Arial"/>
              </a:rPr>
              <a:t>Приказ Минздрава России от 30.09.2015 №683н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 в данной таблице не должны превышать данные в таблице 1100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наличие штатных, занятых должностей и физических лиц в кабинете медицинской профилактики указывается в том случае, когда организован кабинет, то есть: имеются выделенные для него помещения, аппаратура и оборудование, осуществляется учет в установленном порядке, утверждено положение о кабинете (отделении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0" y="235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Успехов в работе, коллег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Приказ Минздрава России от 20.12.2012 г. № 1183н «Номенклатура должностей медицинских и фармацевтических работников»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8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b4a18"/>
                </a:solidFill>
                <a:latin typeface="Century Gothic"/>
              </a:rPr>
              <a:t>Специальность</a:t>
            </a:r>
            <a:r>
              <a:rPr b="1" lang="ru-RU" sz="2000" spc="-1" strike="noStrike">
                <a:solidFill>
                  <a:srgbClr val="3f20f6"/>
                </a:solidFill>
                <a:latin typeface="Century Gothic"/>
              </a:rPr>
              <a:t>             </a:t>
            </a:r>
            <a:r>
              <a:rPr b="1" lang="ru-RU" sz="2400" spc="-1" strike="noStrike">
                <a:solidFill>
                  <a:srgbClr val="fb4a18"/>
                </a:solidFill>
                <a:latin typeface="Century Gothic"/>
              </a:rPr>
              <a:t>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Должность       </a:t>
            </a:r>
            <a:r>
              <a:rPr b="1" lang="ru-RU" sz="2400" spc="-1" strike="noStrike">
                <a:solidFill>
                  <a:srgbClr val="fb4a18"/>
                </a:solidFill>
                <a:latin typeface="Century Gothic"/>
              </a:rPr>
              <a:t>                                       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655" name=""/>
          <p:cNvGraphicFramePr/>
          <p:nvPr/>
        </p:nvGraphicFramePr>
        <p:xfrm>
          <a:off x="465120" y="3151080"/>
          <a:ext cx="8305920" cy="2805120"/>
        </p:xfrm>
        <a:graphic>
          <a:graphicData uri="http://schemas.openxmlformats.org/drawingml/2006/table">
            <a:tbl>
              <a:tblPr/>
              <a:tblGrid>
                <a:gridCol w="3110040"/>
                <a:gridCol w="5195880"/>
              </a:tblGrid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b4a18"/>
                          </a:solidFill>
                          <a:latin typeface="Times New Roman"/>
                          <a:ea typeface="Times New Roman"/>
                        </a:rPr>
                        <a:t>Должност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b4a18"/>
                          </a:solidFill>
                          <a:latin typeface="Times New Roman"/>
                          <a:ea typeface="Times New Roman"/>
                        </a:rPr>
                        <a:t>Специальность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 – иммунологи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я и иммунолог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клинической лабораторной диагностики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ая лабораторная диагностика, 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биохимия</a:t>
                      </a: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6" name="AutoShape 4"/>
          <p:cNvSpPr/>
          <p:nvPr/>
        </p:nvSpPr>
        <p:spPr>
          <a:xfrm>
            <a:off x="3490920" y="1846440"/>
            <a:ext cx="1905120" cy="52848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132120 h 528480"/>
              <a:gd name="textAreaBottom" fmla="*/ 396360 h 528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a530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Овал 6"/>
          <p:cNvSpPr/>
          <p:nvPr/>
        </p:nvSpPr>
        <p:spPr>
          <a:xfrm>
            <a:off x="403200" y="1670040"/>
            <a:ext cx="2666880" cy="838080"/>
          </a:xfrm>
          <a:prstGeom prst="ellipse">
            <a:avLst/>
          </a:prstGeom>
          <a:noFill/>
          <a:ln cap="rnd" w="31680">
            <a:solidFill>
              <a:srgbClr val="c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Овал 6"/>
          <p:cNvSpPr/>
          <p:nvPr/>
        </p:nvSpPr>
        <p:spPr>
          <a:xfrm>
            <a:off x="5627520" y="1660680"/>
            <a:ext cx="2819520" cy="990360"/>
          </a:xfrm>
          <a:prstGeom prst="ellipse">
            <a:avLst/>
          </a:prstGeom>
          <a:noFill/>
          <a:ln cap="rnd" w="31680">
            <a:solidFill>
              <a:srgbClr val="c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9" name=""/>
          <p:cNvGraphicFramePr/>
          <p:nvPr/>
        </p:nvGraphicFramePr>
        <p:xfrm>
          <a:off x="304920" y="990720"/>
          <a:ext cx="8686800" cy="5011560"/>
        </p:xfrm>
        <a:graphic>
          <a:graphicData uri="http://schemas.openxmlformats.org/drawingml/2006/table">
            <a:tbl>
              <a:tblPr/>
              <a:tblGrid>
                <a:gridCol w="3252600"/>
                <a:gridCol w="5434200"/>
              </a:tblGrid>
              <a:tr h="85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Врач методист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здравоохранения и общественное здоровье, Социальная гигиена и организация госсанэпидслужбы, Управление сестринской деятельностью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5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Врач приемного отделения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я-реаниматология, Гастроэнтерология, Гематология, Гериатрия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ерматовенерология, Детская кардиология, Детская онкология,  Детская урология-андрология, Детская хирургия, Детская эндокринология, Инфекционные болезни, Кардиология, Колопроктология, Неврология, Нейрохирургия, Неонатология, Нефрология, Онкология, Оториноларингология, Офтальмология, Педиатрия, Психиатрия, Психиатрия-наркология, Пульмонология, Ревматология, Сердечно-сосудистая хирургия, Скорая медицинская помощь, Терапия, Торакальная хирургия, Травматология и ортопедия, Урология, Фтизиатрия, Хирургия, Челюстно-лицевая хирургия, Эндокринология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0" name=""/>
          <p:cNvGraphicFramePr/>
          <p:nvPr/>
        </p:nvGraphicFramePr>
        <p:xfrm>
          <a:off x="228600" y="1371600"/>
          <a:ext cx="8686800" cy="4356000"/>
        </p:xfrm>
        <a:graphic>
          <a:graphicData uri="http://schemas.openxmlformats.org/drawingml/2006/table">
            <a:tbl>
              <a:tblPr/>
              <a:tblGrid>
                <a:gridCol w="3252960"/>
                <a:gridCol w="5433840"/>
              </a:tblGrid>
              <a:tr h="265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рач статистик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дицинская кибернетика, Организация здравоохранения и общественное здоровье, Социальная гигиена и организация госсанэпидслужбы, Управление сестринской деятельностью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рапевт участковы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Лечебное дело,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ая врачебная практика (семейная медицина),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ерапия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1" name=""/>
          <p:cNvGraphicFramePr/>
          <p:nvPr/>
        </p:nvGraphicFramePr>
        <p:xfrm>
          <a:off x="490680" y="1371600"/>
          <a:ext cx="8196120" cy="4460760"/>
        </p:xfrm>
        <a:graphic>
          <a:graphicData uri="http://schemas.openxmlformats.org/drawingml/2006/table">
            <a:tbl>
              <a:tblPr/>
              <a:tblGrid>
                <a:gridCol w="3068640"/>
                <a:gridCol w="5127480"/>
              </a:tblGrid>
              <a:tr h="4460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Организаторы сестринского дела (стр.147)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Директор больницы (дома) сестринского ухода, хосписа, заведующий молочной кухней, главная медицинская сестра, главный фельдшер, главная акушерка, старшая медицинская сестра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2" name="TextBox 1"/>
          <p:cNvSpPr/>
          <p:nvPr/>
        </p:nvSpPr>
        <p:spPr>
          <a:xfrm>
            <a:off x="2524320" y="42372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НИМАНИЕ!!!!!!!!!!!!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Прямоугольник 1"/>
          <p:cNvSpPr/>
          <p:nvPr/>
        </p:nvSpPr>
        <p:spPr>
          <a:xfrm>
            <a:off x="706320" y="274680"/>
            <a:ext cx="754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4" name=""/>
          <p:cNvGraphicFramePr/>
          <p:nvPr/>
        </p:nvGraphicFramePr>
        <p:xfrm>
          <a:off x="237960" y="1287360"/>
          <a:ext cx="8550360" cy="5054760"/>
        </p:xfrm>
        <a:graphic>
          <a:graphicData uri="http://schemas.openxmlformats.org/drawingml/2006/table">
            <a:tbl>
              <a:tblPr/>
              <a:tblGrid>
                <a:gridCol w="1339920"/>
                <a:gridCol w="297000"/>
                <a:gridCol w="815760"/>
                <a:gridCol w="744840"/>
                <a:gridCol w="747720"/>
                <a:gridCol w="617400"/>
                <a:gridCol w="660240"/>
                <a:gridCol w="600120"/>
                <a:gridCol w="943200"/>
                <a:gridCol w="892080"/>
                <a:gridCol w="892080"/>
              </a:tblGrid>
              <a:tr h="1157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5" name="Rectangle 96"/>
          <p:cNvSpPr/>
          <p:nvPr/>
        </p:nvSpPr>
        <p:spPr>
          <a:xfrm>
            <a:off x="1870200" y="4160880"/>
            <a:ext cx="7129440" cy="25858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между графой 3 и суммой граф 5 и 7 составляют штатные должности организаций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собого типа (центры, бюро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станции (отделения) скорой  медицинской помощи, станции (центры, отделения) переливания крови, санаторно- курортные организации, дома ребенка, молочные кухни и т.д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 этом если такая организация имеет поликлинику (стационар), то штатные должности поликлиники (стационара) показываются по графе 5 (7) соответственно. Аналогично для граф по занятым должностям и физическим лицам.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Прямоугольник 1"/>
          <p:cNvSpPr/>
          <p:nvPr/>
        </p:nvSpPr>
        <p:spPr>
          <a:xfrm>
            <a:off x="733320" y="14616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аблица 1100. Должности и физические лица медицинской организации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7" name=""/>
          <p:cNvGraphicFramePr/>
          <p:nvPr/>
        </p:nvGraphicFramePr>
        <p:xfrm>
          <a:off x="250920" y="835200"/>
          <a:ext cx="8582040" cy="5235480"/>
        </p:xfrm>
        <a:graphic>
          <a:graphicData uri="http://schemas.openxmlformats.org/drawingml/2006/table">
            <a:tbl>
              <a:tblPr/>
              <a:tblGrid>
                <a:gridCol w="1460520"/>
                <a:gridCol w="393480"/>
                <a:gridCol w="808200"/>
                <a:gridCol w="731880"/>
                <a:gridCol w="730080"/>
                <a:gridCol w="728640"/>
                <a:gridCol w="749520"/>
                <a:gridCol w="728640"/>
                <a:gridCol w="771480"/>
                <a:gridCol w="663480"/>
                <a:gridCol w="816120"/>
              </a:tblGrid>
              <a:tr h="10044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и (специальности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 в целом по организации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 на занятых должностях 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, в подразделениях, оказывающих медицинскую помощь: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- всего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женщин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рганизациях, расположенных в  сельской местности (из стр.1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69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стр.1): руководители организаций и их заместители (организаторы здравоохран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  <a:ea typeface="Arial"/>
                        </a:rPr>
                        <a:t>4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8" name="Прямоугольник 3"/>
          <p:cNvSpPr/>
          <p:nvPr/>
        </p:nvSpPr>
        <p:spPr>
          <a:xfrm>
            <a:off x="2197080" y="3621240"/>
            <a:ext cx="6616800" cy="106596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ключаются сведения по медицинским организациям, их структурным подразделениям и филиалам, расположенным в сельских поселениях сельских муниципальных образований, а также в сельских населенных пунктах, входящих в состав городских поселений или городских округов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613"/>
          <p:cNvSpPr/>
          <p:nvPr/>
        </p:nvSpPr>
        <p:spPr>
          <a:xfrm>
            <a:off x="2241720" y="5181480"/>
            <a:ext cx="6600600" cy="83844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главный врач, заместитель главного врача больничной организации показываются из граф 3, 4, 9 по графам 7, 8, 11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7:17:38Z</dcterms:created>
  <dc:creator>www.themegallery.com</dc:creator>
  <dc:description/>
  <dc:language>en-US</dc:language>
  <cp:lastModifiedBy>classuser</cp:lastModifiedBy>
  <cp:lastPrinted>2018-11-27T04:13:37Z</cp:lastPrinted>
  <dcterms:modified xsi:type="dcterms:W3CDTF">2019-12-08T11:12:14Z</dcterms:modified>
  <cp:revision>1153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6b0000000000010242300207f6e001e0013c00</vt:lpwstr>
  </property>
</Properties>
</file>