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dt" idx="7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ftr" idx="7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 type="sldNum" idx="7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0F77-7970-408B-8E29-468DE1154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54D4-154F-41CB-AB5D-87181F6FC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080-DC43-49EA-A625-E0510F12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EFB-FE29-4FCB-ABE9-37431B56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8726C-FB03-4D09-A494-6DF318A4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80145-387F-4A94-A0AB-3364F6E2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1CAF5-F565-47E3-8B1E-128F52D9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CDF4A-FCD2-4928-AB9E-95DB054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3B8F2-BBCB-453C-B330-03E99F78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16B7B-A0C7-4F92-B7E6-B591580A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C8B70-C9AF-4E33-8BD6-F1135AD7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BD3B4-C887-4EEC-A593-8C625ACB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D2746-B5DA-4E8C-8C10-5A61E236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B7E08-C6A7-44D0-B8B3-1057EBF2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4E6-0C27-4B05-B566-4FDD3B0F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B668E-76C4-4686-948C-5FEB714B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C76B5-5238-4BB7-9321-622D069B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86A05-2DC7-4A2F-BB78-7E18D33B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0D9C8-F932-441A-8C91-3FD3BD4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1F68A-5C01-45AE-9421-5B86A6A7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FBF43-6228-4948-B65F-0EF04B29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74B79-ED28-4CF9-882D-111AAB21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DFBF3-2A4E-4282-9C87-A3D3FC2C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65217-203D-46BD-8730-D4B3A618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87273-5B87-48F3-8126-97A3DC4E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4D8-8E09-465A-8ABC-CC549C39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AECC5-B389-4D18-8236-0C60F6EF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1B1EE-35B2-4C36-ADA4-70FA60DD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5B66A-367B-4706-ACB8-6AD004B5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AF1B7-90E0-403C-B501-87006695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8DBBA-1AB9-44B2-924A-C5F37E8D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C3C1B-7C23-4DF4-9466-84DB116E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1B3E3-9EA1-4C08-9781-732A7EEA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5061C-2362-437E-9BD7-2A563BC1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38103-EDC5-4C26-B832-3D29BA2D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EFDA6-DA63-43C2-B227-27D740D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4081-4931-4316-B3B3-A8425E2A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981EC-EF64-4D48-BC9C-B2B0EA5B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8C07D-56DA-4225-826A-0C1E2D16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4FD58-348F-46A7-AE9D-221167EB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7F0B9-7026-4A06-A386-68B4C9DE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0ACAD-4D76-4D27-8267-D7F0E029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717FF-6474-4777-A405-B50F568A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4EB3E-8DAB-4AEA-A401-E1A17081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A515C-BC77-4073-B0D6-F65C5354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70C1A-6694-4ABE-BB69-AE5A3784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CCE22-8786-4E2A-B1AC-F46CA195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4383-1F3E-45B0-9970-766FDFE0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45E0B-5160-4E21-9B01-651B012C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A7EA8-1746-4F83-8609-96BFADB6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24EA6-7F7A-4A0F-8B1C-634B0DCF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D0E69-401F-4237-BB91-22203AAB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629E8-F6E1-4DEE-92FB-B4562A6C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CB46D-DAB3-4752-9015-5BF5DAD3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17F9F-898C-4D14-A2F7-A8659B61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7B8E9-BF55-41A1-8EF1-AF4BD4C2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7DC84-793B-44C3-BC1B-7C518F8D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71A40-C3FC-46D4-8C99-949A71D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4CD1-0F4D-49EB-94B3-AE3C2D7A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41070-D088-42E4-8436-11A2AFB3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970EA-ECCB-41DA-954F-1E0F4BA5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A897F-21D9-4003-A085-13599FB7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5EB27-3D84-4CE5-AC23-EB915EA9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94E75-255E-4139-9BF5-20862FD2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859CB-2282-46C3-AC13-6387002F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3850B-81AA-4F3B-B06A-1C6D8A8E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C2A49-B369-4648-93B8-1D96CFC8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D1662-6272-4D34-BED5-0EC14075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A7D33-0AB5-4750-AC77-708753A1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9589-FB8F-4869-B3A2-1C4B0287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707F0-5A7B-4522-8519-E2B140F8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BADE1-1DCD-4CC5-8835-A45AFF5A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904044-4CEB-4718-B86E-9B8A045B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9E084-A48F-4E9D-8E08-5A2A511D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E0B91-B721-4F1E-B648-9DCF90F0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705DF-6E64-46CD-B5ED-0121B9C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CBF62-AE97-4FE6-8797-3112D959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EEFBB-1F83-4655-BBE3-521D3CB6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CFE0B-2202-43C6-A135-D0F3122E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B045A-21FB-47F6-BE54-73358645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B429-E54C-4F00-8112-3A0112B7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97048-02B7-4508-9062-6974F9A4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A3214-C82E-44FF-BCE5-938F47C0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B81BB-4C82-457B-AE90-B24B793E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87309-CDD9-44B2-B2DE-3981C60B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992F2-CCF3-4CFC-AC55-4BB519FE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2423F-C06F-4B8D-8883-BD3694FB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01437-8C19-4D99-B213-D40BDB06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206EB-6186-43C8-9CE1-73FBB5FC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D67AC-12A4-4A3F-884D-606E3266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A135C5-1DF2-4170-88C1-51EFCABB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8725-A7F8-4005-BB7A-F19760EC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B7D63-FF92-4FEB-8ED7-03320E97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98E8A4-AE7F-4C56-8730-9A22EF9C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29394-38A1-49E3-9A81-71DAE3AD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97859-1C1E-48BC-8754-FB9982FC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6AA8E-F593-46CA-9059-7EB8A552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0DDF5-283C-4D72-8B1D-02AC9FB2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02B64-D6AA-4EB9-A804-CDA065EF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24798-3839-40DF-8013-C90645D2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16A49-591C-442C-8B7C-594697B1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8B33FE-7677-4011-B626-AD9FA1F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7266-39F1-457C-B465-68406486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3D87E-D2FB-41E3-8028-F03CC534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0639D-53EA-4A8C-AED5-2F8AE989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6F831-FF0F-48F5-B145-9DC5EA03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AAC87-754E-4792-BA54-B63988E3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407DA-8CE5-4B07-9CFC-3A60DA69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88DAE-BAD8-4D13-BB7D-A038AB34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5A1F9-6552-47A7-B31F-9BB4C721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62C32-840C-4D68-817E-8FBD734F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A8B81-D716-480C-A506-6EAB064A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A8662-2A1B-49A1-A5B6-E1665A4B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C41-3B47-45C2-87E8-BA5F6111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83FA-2C57-4981-B0D0-64B1F019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4AA9A-39B6-4826-B587-51F16E2F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412A5-8455-4E66-BCE5-D0BAC8B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70535-35B8-4A5A-AA43-4551A675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B2A81-3A8D-492B-95E0-B8C13540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7E4A4-666B-4BBB-B160-92D7CA57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3EA40-72C0-48FE-A5C1-8E8792C1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6F4FB1-E9FB-4CD5-AB25-3C0E2B95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340B3-6AB7-4D0D-9C0C-B28C0942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B8B98-FDD8-45AF-B165-B5531E35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9DBA7-3710-47E9-BF64-2127987C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F7CF-7AE1-4C9F-88D6-601CB9D1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1B537-CDA1-4607-ACAF-8E8455FC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02DC1-551F-467A-987B-272B199B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6A8DF-B6AD-42DB-A239-B104C32D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0903AD-5D1F-4886-801D-4D6BA4E3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5A0B29-4749-4C70-9D8A-06FE563A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6451D5-13D4-4EF2-A4A9-5A3B9F9C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F0B8C-0CA6-4B39-B953-ABE89FE3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F42080-0C55-4A27-AD63-A2F72B0E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8F477B-4801-403B-B267-AC1F3D18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DA549A-E019-4640-9C38-BDB696D5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FE65-3C41-4CD2-A2D2-2FCF3030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1BF3D5-0D01-4DE3-84CB-9C6ED7A6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08FE0-9B82-4FFF-AF54-106DEFB8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1AE13F-5061-4A86-B75E-9FD9BEB5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204DEB-07F6-4467-9A00-63773E9E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989ECE-778D-4270-88DD-AFAC30D7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CE7B7-42C8-4647-8417-BFD8F04E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B3323-89B7-4E06-B108-49565362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122645-3E47-4CD9-A2BF-373DA323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47BA0-375F-4A2F-87B6-D197F514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BB320-C688-4A4F-9241-C5BD7C91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DD7D-2210-49F5-87AF-95547A98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9CA46A-5E18-4DAE-889D-945DE2CB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BA3278-37AF-4B41-8623-21E99591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80AE32-5920-4C25-8DA1-D5FC0144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C0668D-5CE0-4D23-84BF-E0BEE18F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00702-C3ED-40E0-8C5B-2C411BD7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2D1D2-5889-4627-8C00-BA35B98F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7EBFF4-5C3E-4DE5-96C3-6F9CF7E5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6AC48-F6C0-4123-A6FC-3EF08B75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A920A7-BCD7-4D25-8793-46E1B55F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6114AF-A13A-4592-8180-545C5F3F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3CE5-3875-44A2-AE46-69C2F9CF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C31263-6063-47BB-9D51-0D2B5AC4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F062BD-EE40-48AF-AD32-4A7F67CB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ADEC2-2E26-4AAA-A7A7-6EDF6D61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7AA3F-57C5-478A-9A86-19E9C695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F4BF8C-C597-4B41-99F2-19998F5C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88F5EE-7956-4279-9FEB-249730CC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E868E5-F437-4E8C-959A-132BA662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76606B-C3D5-4305-A8A2-E21E866B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96DB7-E5B2-4C8F-BE23-5BB59E65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C0EC80-8961-42A3-82DC-CBAD72C5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CA0B-21EE-454D-8363-75D28B3A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7F280-64A6-4C13-9EA0-83264F76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213DC5-16A3-4967-9352-F04C0565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E10B68-B5E5-4B49-8E5B-D51C8A4A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1090A6-7EF4-4214-A104-63CF9479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507C0B-BC4F-43BF-B13E-6C2FF768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31A629-4E51-4870-AFDD-0833F8A7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80DCE1-BB24-4E37-AAB5-B5201361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FBFFFF-61BA-4C54-8E64-09278DB1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F63737-E0B0-4784-BF4A-B70B5D24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63ACD8-B0DA-492E-BD7C-4E19CE79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20AC7-A7C8-4F25-ACBD-BD5F47CD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91F638-DDAF-42C4-9FF5-EEE4E3BF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CE2FD7-06B5-4AA2-B338-096EE78D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09D991-A3FC-4B06-A7D3-90DBA18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8A88CE-3C41-429B-98E4-42B7E793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F0837B-E134-475F-8573-87566929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48872E-F2B8-48E9-BBDC-A914D402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206079-8093-4E3C-BDF5-43A1A5B1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9F502B-3171-43D1-8508-0D22EEA9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DCE48D-39A1-4B15-8077-BA7ACAA2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253C6F-F823-4EE3-AEF4-9758A428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E55F3-B1D0-4B97-8F6A-DC64008B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1295A1-13CE-4E20-AC4F-525A9918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BCB8ED-B0A5-466F-8769-3CDB0F87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6A88F5-E03C-467A-BC0B-E88E3262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8ED225-8370-4C96-BE6A-84E48AD3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4A8856-8B17-414D-B112-DA19858B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49F944-371F-40AC-BFD3-AE8650AC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955FE9-3CFD-402D-89F9-D1AF6155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FD1B41-39D9-4F73-A36B-9D2DBC1B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9B6CFC-BCE7-4CCE-879E-AC9024C5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BE1945-FCBD-4659-9A5D-6F6A2D8C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38A18-3068-49B8-B7C4-5DBECF15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462683-1BCC-4B8C-821D-286BA5EC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284F9B-0A10-4AF2-AEB9-BDCA3E4D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EB7358-118B-4586-B3D6-CC096334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0F3D7F-9E05-45C3-8B70-B48EEB51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33BF0D-3D26-424B-BB00-2B9360FC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5A2341-37E5-4645-9EE2-D35CFEE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2A214B-6AE7-4AF4-89F0-C98FC404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50DCDF-EE05-479E-8495-4092A58E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3ACDDE-D226-4946-8B04-1732BFC6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E579-1733-41A0-BF9B-822D6551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DCD-409C-4965-A4DC-336122C3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D22E-899B-497C-8F12-3C18C0B9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F8F99-1C02-4A7F-8635-27B4D6A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90FC-7C92-4871-95BE-45418B6D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677A-2B65-4923-9D6D-A96FA8DF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B406-31F5-4C1A-A69A-09C3F079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3D27-1ECA-4472-9F1C-A0C2954C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20A81-331F-4ABC-82A1-6010B114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8E392-7A80-4B6E-BE94-0C289D5A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84CD8-8094-4ECA-B565-2BF1B164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14BE-2BCD-49CF-92FD-BBE06DA0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422-EFAE-49F6-B6B7-69A4AE9E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19E7F-6E6D-4956-A2FD-69164FA8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CB41-7F8F-4B85-A88B-A9115559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3DD75-2293-405F-825B-B7ED433E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6EC6-889C-4D64-B4E3-AAF19520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32000-B822-4264-A019-178C6DF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1890-DD96-414F-BB16-EAB2127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9B9DD-DB6B-48B8-851C-4826416F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CCCA-55C1-4EBC-9387-4D34EF0A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F4CF9-965D-4267-86D0-F10AB1B8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CC38B-F246-4DAE-8925-BF55E504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5A9-97A6-4B9E-9169-497232BF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270FA-DE4B-4C75-8146-7D365F6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3756C-78B5-406E-9ACF-BDDEFFAF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48F6-6EBA-4E2F-B144-933BB7D4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CBB74-D550-476E-83F5-C81F9D45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5849A-7123-4752-AA1D-E62AA077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46F8A-DDE1-4948-84E4-C4F9C8DE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C7446-67A2-45D8-996E-30B9FBC5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96F45-DCFB-4F81-9E2C-6178CF47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86E24-1005-4256-A115-A03B2B93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65D66-5D1F-40E6-9179-1638206F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5F9-ECFF-4854-828D-A08254AB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18075-3A33-4803-9FF6-48E7960F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3C2AA-1F39-4997-BDD0-C2E8DD7C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E7C4E-C4E0-46A9-8BBE-DB556E36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4A6C2-2557-4B42-9E44-2F8CAFF6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3373D-DD62-49F7-AA19-171C74FD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8BECF-62E6-4B9C-8BB6-0914E13B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2C95-6F3F-4BFF-B1B3-65E8BB54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AF1E-5CE2-4C83-85A3-5124948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4E72F-00F6-4B2B-9DD2-47CC71B4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5054E-C5D7-4946-B0D7-D9412E5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957-C560-4371-93AF-B319A15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00A80-5D95-44A6-9F2F-F66AD20D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B4EFD-3F7C-4FD9-9E66-DF7369E5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FC99D-F9EF-4F87-AF54-066B9285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87C60-B09B-4B63-B3D8-03A22AAA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DF081-0D0C-4347-99CF-F51A423E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DD2F8-DB7A-4F4F-9A55-204C48E3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BBF7C-3159-44FA-9AA5-3BD520A1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07B3A-4DEA-4371-A2FC-E20C53AC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E35E3-4A0C-483C-A7C2-5FC9D467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9B3F7-3D1E-4FD0-86C6-124EF929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B36-DD7F-4B54-86FA-7A1E2FE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E7089-204B-40DF-A820-4680C590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205C8-9FB0-47D5-8ADE-5FFBFEE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54464-DC19-43B0-8EA2-BA32D8EF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1FCC7-4351-4E9C-A674-F5CB2D8F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7419-D5CC-40F4-A58E-89897500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B767B-110D-4E2E-B7FF-7F6D86B6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B00AE-80B3-40FE-A63C-E65EB263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68E19-DBA2-4F8C-A096-DAB2FA25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5317C-15F9-4396-B09F-AA2CDC80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D0EFC-8820-412C-8140-4A286B30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B19-FEF3-4735-AB42-A442B36C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19B5A-9B3B-449C-8F6A-309D1CC9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03928-6BE1-4931-B8FD-95C92AD0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2EEF2-A845-4E93-889B-9BF7FAD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EEB5E-C2BE-47D0-8BD7-CE6462AC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C833C-679B-4D57-A070-6E19BF83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CE182-2F40-463A-97DC-181B0606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3006F-58A7-44CF-B094-432AA379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BC3DF-1392-4D3A-9795-5BF9807A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361CD-CB28-4E73-878B-58A4ED5D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15CBC-3076-478A-9A3F-38A21069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3186-38E9-46A3-AFB1-87ECE1951728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16B3-9062-4EC4-AEFD-6B41476E3EF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4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C604-C771-4296-9173-5336BB89B3B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2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C771-43FC-4964-AD26-427F3E73EB8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9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AC39-70C1-4CB0-9010-CE27894B6CD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86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5BF9-A912-421F-B4E8-5B288680DFE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1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94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4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0F8D-E569-42AB-AF89-97F518C3776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1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02DD-96AE-4E7A-8A22-5C15EC97A7C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8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5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1AB1-4AD5-4572-8EA5-F5A117619FA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3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4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16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5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7BCB-FE4D-4D85-9D41-6967F307BA2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3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57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3692-ED65-4A86-BD0A-68714DC021C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BD60-D3B7-490D-AB43-741B8C1975D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6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7EE6-10D2-4FD7-9736-25C3F0AEF2C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8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B5E2-7616-410E-802A-40A7059D776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2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3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6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D7FF-F846-4881-8D60-9D7BF31B73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9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6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5333-DF0F-45B6-B1A8-98A667CDED0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7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CF7C-4B3D-4B75-AEED-A58505CB713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73A3-9C3B-4502-AC00-467E36BAD6BA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231A-2D42-416F-8DCE-592A4F2D02DD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4216-9FA9-41E8-ADBE-3A83C0E3A50D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6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451E-3655-4581-AEDE-560B1FE37E8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3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35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44A2-9E3E-4AB7-849F-F12FD8733BD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42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4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64BA-1ED7-4E94-BA3B-2C4BC806F5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1176-F246-4B10-9DA9-6079682D5A3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9281BDD39C87F3218B3AC503DFA8BEE3F12588B15DA6DF4A48D4F33551DF220D1F6398B8705A1704777545928C10681BB1A4257893729504hAm4H" TargetMode="External"/><Relationship Id="rId2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3B3CEBC88A1CC4C56F4AEF0A7CB4BB9016FAC6FF5594FF85EB6967FA2709A6E8BEB69EA3ACA394AF1F229E78DEBF360B738DFBA5E4272B87DX9E" TargetMode="External"/><Relationship Id="rId2" Type="http://schemas.openxmlformats.org/officeDocument/2006/relationships/hyperlink" Target="consultantplus://offline/ref=E3B3CEBC88A1CC4C56F4AEF0A7CB4BB90066A26BF1574FF85EB6967FA2709A6E8BEB69EE319E680CA6F47FB5D7BFFF7CB626DF7BX2E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.zdravohrana.ru/npd-doc.aspx?npmid=99&amp;npid=901807664&amp;anchor=XA00MCC2NT#XA00MCC2NT" TargetMode="External"/><Relationship Id="rId2" Type="http://schemas.openxmlformats.org/officeDocument/2006/relationships/slideLayout" Target="../slideLayouts/slideLayout25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6f54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1" name=""/>
          <p:cNvGraphicFramePr/>
          <p:nvPr/>
        </p:nvGraphicFramePr>
        <p:xfrm>
          <a:off x="324000" y="1327320"/>
          <a:ext cx="8450280" cy="453060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640">
                <a:tc gridSpan="8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из распорядительного акта органа государственной власти или организации, создавших аттестационную комиссию, о присвоении специалистам, прошедшим аттестацию, квалификационных категор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 и фармацевтическим работникам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2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4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766f54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</a:tr>
            </a:tbl>
          </a:graphicData>
        </a:graphic>
      </p:graphicFrame>
      <p:sp>
        <p:nvSpPr>
          <p:cNvPr id="1675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3"/>
          <p:cNvGrpSpPr/>
          <p:nvPr/>
        </p:nvGrpSpPr>
        <p:grpSpPr>
          <a:xfrm>
            <a:off x="257040" y="4149720"/>
            <a:ext cx="8429400" cy="2512440"/>
            <a:chOff x="257040" y="4149720"/>
            <a:chExt cx="8429400" cy="2512440"/>
          </a:xfrm>
        </p:grpSpPr>
        <p:grpSp>
          <p:nvGrpSpPr>
            <p:cNvPr id="1679" name="Group 4"/>
            <p:cNvGrpSpPr/>
            <p:nvPr/>
          </p:nvGrpSpPr>
          <p:grpSpPr>
            <a:xfrm>
              <a:off x="257040" y="4149720"/>
              <a:ext cx="8429400" cy="2512440"/>
              <a:chOff x="257040" y="4149720"/>
              <a:chExt cx="8429400" cy="2512440"/>
            </a:xfrm>
          </p:grpSpPr>
          <p:grpSp>
            <p:nvGrpSpPr>
              <p:cNvPr id="1680" name="Group 5"/>
              <p:cNvGrpSpPr/>
              <p:nvPr/>
            </p:nvGrpSpPr>
            <p:grpSpPr>
              <a:xfrm>
                <a:off x="257040" y="4149720"/>
                <a:ext cx="8392320" cy="2512440"/>
                <a:chOff x="257040" y="4149720"/>
                <a:chExt cx="8392320" cy="2512440"/>
              </a:xfrm>
            </p:grpSpPr>
            <p:sp>
              <p:nvSpPr>
                <p:cNvPr id="1681" name="AutoShape 7"/>
                <p:cNvSpPr/>
                <p:nvPr/>
              </p:nvSpPr>
              <p:spPr>
                <a:xfrm>
                  <a:off x="622800" y="4149720"/>
                  <a:ext cx="7974720" cy="1055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499a1"/>
                    </a:gs>
                    <a:gs pos="50000">
                      <a:srgbClr val="13737d"/>
                    </a:gs>
                    <a:gs pos="100000">
                      <a:srgbClr val="5499a1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"/>
                <p:cNvSpPr/>
                <p:nvPr/>
              </p:nvSpPr>
              <p:spPr>
                <a:xfrm>
                  <a:off x="257040" y="4149720"/>
                  <a:ext cx="8392320" cy="2512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2e1e0"/>
                    </a:gs>
                    <a:gs pos="100000">
                      <a:srgbClr val="83cfc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Line 9"/>
              <p:cNvSpPr/>
              <p:nvPr/>
            </p:nvSpPr>
            <p:spPr>
              <a:xfrm>
                <a:off x="572040" y="4736520"/>
                <a:ext cx="6764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Line 10"/>
              <p:cNvSpPr/>
              <p:nvPr/>
            </p:nvSpPr>
            <p:spPr>
              <a:xfrm>
                <a:off x="8010360" y="4736520"/>
                <a:ext cx="6760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Rectangle 11"/>
            <p:cNvSpPr/>
            <p:nvPr/>
          </p:nvSpPr>
          <p:spPr>
            <a:xfrm>
              <a:off x="1277280" y="4181040"/>
              <a:ext cx="667044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фа 15 + Графа 16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 может быть больше Графы 9 по всем строкам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В случае если графа 15+16 не равна графе 9 </a:t>
              </a:r>
              <a:r>
                <a:rPr b="1" lang="ru-RU" sz="2000" spc="-1" strike="noStrike" u="sng">
                  <a:solidFill>
                    <a:srgbClr val="cc3300"/>
                  </a:solidFill>
                  <a:uFillTx/>
                  <a:latin typeface="Arial"/>
                </a:rPr>
                <a:t>представить пояснительную записку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При отсутствии/окончании срока действия сертификата – специалист не имеет права заниматься медицинской деятельностью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523800" y="1227240"/>
            <a:ext cx="839952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ИНИСТЕРСТВО ЗДРАВООХРАНЕНИЯ РОССИЙСКОЙ ФЕДЕРАЦИИ ПРИКАЗ от 22 декабря 2017 г. N 1043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ОБ УТВЕРЖДЕНИИ СРОКОВ И ЭТАПОВ АККРЕДИТАЦИИ СПЕЦИАЛИСТОВ, А ТАКЖЕ КАТЕГОРИЙ ЛИЦ, ИМЕЮЩ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МЕДИЦИНСКОЕ, ФАРМАЦЕВТИЧЕСКОЕ ИЛИ ИНОЕ ОБРАЗОВАНИЕ И ПОДЛЕЖАЩИХ АККРЕДИТАЦИИ СПЕЦИАЛИСТ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7" name=""/>
          <p:cNvGraphicFramePr/>
          <p:nvPr/>
        </p:nvGraphicFramePr>
        <p:xfrm>
          <a:off x="357120" y="1125360"/>
          <a:ext cx="8339040" cy="5151600"/>
        </p:xfrm>
        <a:graphic>
          <a:graphicData uri="http://schemas.openxmlformats.org/drawingml/2006/table">
            <a:tbl>
              <a:tblPr/>
              <a:tblGrid>
                <a:gridCol w="938160"/>
                <a:gridCol w="7400880"/>
              </a:tblGrid>
              <a:tr h="252540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января 2019 год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высшее образование по основным образовательным программам в соответствии с федеральными государственными образовательными стандартами в области образования "Здравоохранение и медицинские науки"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,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ебования к результатам освоения основных образовательных программ профессионального образования в части профессиональной компетенции которых сформированы на основе соответствующих профессиональных стандартов (при наличии) &lt;2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дополнительное профессиональное образование по программам профессиональной переподготовки, разработанным на основании установленных квалификационных требований, профессиональных стандартов и требований соответствующих федеральных государственных образовательных стандартов высшего образования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результатам освоения образовательных программ &lt;3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ред. </a:t>
                      </a:r>
                      <a:r>
                        <a:rPr b="1" i="1" lang="ru-RU" sz="1600" spc="-1" strike="noStrike" u="sng">
                          <a:solidFill>
                            <a:srgbClr val="fb4a18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Приказа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здрава России от 21.12.2018 N 898н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 txBox="1"/>
          <p:nvPr/>
        </p:nvSpPr>
        <p:spPr>
          <a:xfrm>
            <a:off x="396360" y="355680"/>
            <a:ext cx="8450280" cy="62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Минздрав пересмотрел категории выпускников-медиков, подлежащих аккредитации с 2019 и 2020 год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Медорганизации не должны принимать на работу без свидетельства об аккредитации тех, кто в 2019 году или позже завершит обучение в ординатуре в рамках высшего или дополнительного образования по следующим специальностям: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невр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карди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бщая врачебная практика (семейная медицина)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нк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педиатр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терапия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По ранее действовавшим правилам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аккредитации с 2019 года подлежали и те, кто получит допобразование по программам профпереподготовки, основанным на квалификационных требованиях, профстандартах и ФГОС среднего профессионального и (или) высшего образования. Теперь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2"/>
              </a:rPr>
              <a:t>эта группа выпускников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должна получать свидетельства об аккредитации только с 2020 год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С 2020 года аккредитацию предстоит пройти и тем, кто после 1 января 2020 года получит высшее образование по основным образовательным программам "Здравоохранение и медицинские науки" (уровень бакалавриата, магистратуры, ординатуры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404040"/>
                </a:solidFill>
                <a:latin typeface="Times New Roman"/>
              </a:rPr>
              <a:t>Документ: Приказ Минздрава России от 21.12.2018 N 898н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29880" y="38412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МИНИСТЕРСТВО ЗДРАВООХРАНЕНИЯ РОССИЙСКОЙ ФЕДЕРАЦИИ ПИСЬМО от 8 августа 2019 г. N 16-7/И/2-7280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92120" y="140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месте с тем Положением наряду с выдачей свидетельства об аккредитации специалиста также предусмотрен еще один механизм подтверждения факта успешного прохождения процедуры аккредитации специалиста - выдача в течение трех дней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выписки из итогового протокола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, содержащей соответствующее решение (пункт 52 Положения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 связи с изложенным в настоящее время в медицинских и фармацевтических организациях, независимо от их формы собственности и ведомственной принадлежности, могут осуществлять медицинскую или фармацевтическую деятельность лица, успешно прошедшие в 2019 году процедуру первичной и первичной специализированной аккредитации специалистов,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имеющие выписку из итогового протокола и не имеющие до настоящего времени на руках свидетельства об аккредитации специалиста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Одновременно с этим, учитывая, что в соответствии с пунктом 53 Положения сведения о лицах, признанных прошедшими аккредитацию специалиста, вносятся в Федеральный регистр медицинских работников (далее - ФРМР), ведение которого предусмотрено приказом Минздрава России от 31.12.2013 N 1159н, осуществление проверки факта успешного прохождения процедуры аккредитации специалистом может осуществляться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путем получения соответствующей информации из ФРМР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 в процессе формирования личного дела при трудоустройстве указанного лица в медицинскую организацию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Дополнительно сообщаем, что факт успешного прохождения лицом аккредитации специалиста также может быть проверен на официальном сайте образовательной и (или) научной организаций в информационно-телекоммуникационной сети "Интернет", на базе которой проводилась аккредитация специалиста, путем сверки данных в выписке с данными в итоговом протокол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55280" y="290520"/>
            <a:ext cx="75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списка сотрудников, имеющих удостоверение об аккредитации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692" name="Объект 3" descr=""/>
          <p:cNvPicPr/>
          <p:nvPr/>
        </p:nvPicPr>
        <p:blipFill>
          <a:blip r:embed="rId1"/>
          <a:stretch/>
        </p:blipFill>
        <p:spPr>
          <a:xfrm>
            <a:off x="792000" y="1484280"/>
            <a:ext cx="8352000" cy="504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3" name="Прямоугольная выноска 2"/>
          <p:cNvSpPr/>
          <p:nvPr/>
        </p:nvSpPr>
        <p:spPr>
          <a:xfrm>
            <a:off x="684360" y="5516640"/>
            <a:ext cx="1800000" cy="576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ccc7b7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Диапазон дат -  с 2016 года по  настоящее врем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рямая соединительная линия 5"/>
          <p:cNvSpPr/>
          <p:nvPr/>
        </p:nvSpPr>
        <p:spPr>
          <a:xfrm>
            <a:off x="755640" y="6381720"/>
            <a:ext cx="1368360" cy="0"/>
          </a:xfrm>
          <a:prstGeom prst="line">
            <a:avLst/>
          </a:prstGeom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7"/>
          <p:cNvSpPr/>
          <p:nvPr/>
        </p:nvSpPr>
        <p:spPr>
          <a:xfrm>
            <a:off x="5940360" y="1665360"/>
            <a:ext cx="2808360" cy="1585800"/>
          </a:xfrm>
          <a:prstGeom prst="rect">
            <a:avLst/>
          </a:prstGeom>
          <a:solidFill>
            <a:srgbClr val="ee6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ату проведения аккредитации в диапазон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атус работника –работающ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ип занятия должности – основная должнос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8"/>
          <p:cNvSpPr/>
          <p:nvPr/>
        </p:nvSpPr>
        <p:spPr>
          <a:xfrm>
            <a:off x="2916360" y="6153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Стрелка вправо 9"/>
          <p:cNvSpPr/>
          <p:nvPr/>
        </p:nvSpPr>
        <p:spPr>
          <a:xfrm>
            <a:off x="6164280" y="4105440"/>
            <a:ext cx="360360" cy="7272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Стрелка вправо 10"/>
          <p:cNvSpPr/>
          <p:nvPr/>
        </p:nvSpPr>
        <p:spPr>
          <a:xfrm>
            <a:off x="6164280" y="4302000"/>
            <a:ext cx="36036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Прямая соединительная линия 12"/>
          <p:cNvSpPr/>
          <p:nvPr/>
        </p:nvSpPr>
        <p:spPr>
          <a:xfrm>
            <a:off x="4788000" y="4302000"/>
            <a:ext cx="792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0" name="Рисунок 13" descr=""/>
          <p:cNvPicPr/>
          <p:nvPr/>
        </p:nvPicPr>
        <p:blipFill>
          <a:blip r:embed="rId2"/>
          <a:stretch/>
        </p:blipFill>
        <p:spPr>
          <a:xfrm>
            <a:off x="4788000" y="4437000"/>
            <a:ext cx="811080" cy="30240"/>
          </a:xfrm>
          <a:prstGeom prst="rect">
            <a:avLst/>
          </a:prstGeom>
          <a:ln w="0">
            <a:noFill/>
          </a:ln>
        </p:spPr>
      </p:pic>
      <p:sp>
        <p:nvSpPr>
          <p:cNvPr id="1701" name="TextBox 14"/>
          <p:cNvSpPr/>
          <p:nvPr/>
        </p:nvSpPr>
        <p:spPr>
          <a:xfrm>
            <a:off x="5884920" y="394344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15"/>
          <p:cNvSpPr/>
          <p:nvPr/>
        </p:nvSpPr>
        <p:spPr>
          <a:xfrm>
            <a:off x="5877000" y="418932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3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4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6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7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.о. должность «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» сохраняется для специалистов с высшим профессиональным (немедицинским) образованием, принятых на работу до 01.10.1999 года. Эти работники могут продолжать профессиональную деятельность в занимаемых должностях без сертификата специалис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9" name=""/>
          <p:cNvGraphicFramePr/>
          <p:nvPr/>
        </p:nvGraphicFramePr>
        <p:xfrm>
          <a:off x="517680" y="1143000"/>
          <a:ext cx="8173800" cy="329256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Rectangle 108"/>
          <p:cNvSpPr/>
          <p:nvPr/>
        </p:nvSpPr>
        <p:spPr>
          <a:xfrm>
            <a:off x="577800" y="4587840"/>
            <a:ext cx="808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ем все должности врачей приемного отдел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Обратить внимание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казываем должности «врач приемного отделения», независимо от специаль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Text Box 3"/>
          <p:cNvSpPr/>
          <p:nvPr/>
        </p:nvSpPr>
        <p:spPr>
          <a:xfrm>
            <a:off x="328680" y="131616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м учреждении штатно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списан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авляется отдельно по бюджетным подразделениям, ОМС и оказывающим платные медицинские услуги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2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Врачи «скорой медицинской помощи», работающие в кабинетах неотложной помощ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или в больницах скорой медицинской помощи указываются по графам «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амбулаторных условиях» или «в стационарных условиях» соответственно, при услов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наличия должности «врач скорой медицинской помощи» в штатном расписани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1" name=""/>
          <p:cNvGraphicFramePr/>
          <p:nvPr/>
        </p:nvGraphicFramePr>
        <p:xfrm>
          <a:off x="260280" y="1424160"/>
          <a:ext cx="8532720" cy="344304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2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4" name=""/>
          <p:cNvGraphicFramePr/>
          <p:nvPr/>
        </p:nvGraphicFramePr>
        <p:xfrm>
          <a:off x="252360" y="363600"/>
          <a:ext cx="8672400" cy="58435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5" name="Rectangle 628"/>
          <p:cNvSpPr/>
          <p:nvPr/>
        </p:nvSpPr>
        <p:spPr>
          <a:xfrm>
            <a:off x="2259000" y="4270320"/>
            <a:ext cx="6591240" cy="13492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строк 124 и 125 равна строке 1. По подчинен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едеральные учреждения, подчинение субъекта РФ) медицински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распределяются по состоянию на конец отчетного года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629"/>
          <p:cNvSpPr/>
          <p:nvPr/>
        </p:nvSpPr>
        <p:spPr>
          <a:xfrm>
            <a:off x="2279520" y="2921040"/>
            <a:ext cx="6607440" cy="736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 txBox="1"/>
          <p:nvPr/>
        </p:nvSpPr>
        <p:spPr>
          <a:xfrm>
            <a:off x="838080" y="906480"/>
            <a:ext cx="830592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90360" indent="-90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токсиколог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8" name="Rectangle 629"/>
          <p:cNvSpPr/>
          <p:nvPr/>
        </p:nvSpPr>
        <p:spPr>
          <a:xfrm>
            <a:off x="1463760" y="6051600"/>
            <a:ext cx="6607080" cy="57780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 целью единого подхода использовать всем субъектам РФ данный перечень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347760" y="2122560"/>
          <a:ext cx="8450280" cy="29210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401d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1" name="Rectangle 2"/>
          <p:cNvSpPr/>
          <p:nvPr/>
        </p:nvSpPr>
        <p:spPr>
          <a:xfrm>
            <a:off x="1376280" y="746280"/>
            <a:ext cx="659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17"/>
          <p:cNvSpPr/>
          <p:nvPr/>
        </p:nvSpPr>
        <p:spPr>
          <a:xfrm>
            <a:off x="6802560" y="4413240"/>
            <a:ext cx="19270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541"/>
          <p:cNvSpPr/>
          <p:nvPr/>
        </p:nvSpPr>
        <p:spPr>
          <a:xfrm>
            <a:off x="5086440" y="4997520"/>
            <a:ext cx="3757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Строка 126 по графе 16 по логике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афа 17 – заполняе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4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5" name="Rectangle 915"/>
          <p:cNvSpPr/>
          <p:nvPr/>
        </p:nvSpPr>
        <p:spPr>
          <a:xfrm>
            <a:off x="3040200" y="2647800"/>
            <a:ext cx="5744880" cy="83844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917"/>
          <p:cNvSpPr/>
          <p:nvPr/>
        </p:nvSpPr>
        <p:spPr>
          <a:xfrm>
            <a:off x="3040200" y="3586320"/>
            <a:ext cx="5703840" cy="3999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915"/>
          <p:cNvSpPr/>
          <p:nvPr/>
        </p:nvSpPr>
        <p:spPr>
          <a:xfrm>
            <a:off x="3040200" y="4087800"/>
            <a:ext cx="5703840" cy="153504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Обратите вним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заполнени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 15 «Имеют сертификат» Сертификат указывается при наличи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документа установленного образц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16 «Имеют свидетельство об аккредитации»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8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7e18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9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медицинском 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3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43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4" name="Rectangle 719"/>
          <p:cNvSpPr/>
          <p:nvPr/>
        </p:nvSpPr>
        <p:spPr>
          <a:xfrm>
            <a:off x="2527200" y="2859120"/>
            <a:ext cx="6189840" cy="18288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в строке 150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804"/>
          <p:cNvSpPr/>
          <p:nvPr/>
        </p:nvSpPr>
        <p:spPr>
          <a:xfrm>
            <a:off x="2494080" y="4781520"/>
            <a:ext cx="6273720" cy="175896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строке 20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указывать должности помощников: врача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эпидемиолога, врача-паразитолога, врача по гигиене детей 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ростков, врача по гигиене питания, врача по гигиене труда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а по гигиеническому воспитанию, врача по коммунально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6" name=""/>
          <p:cNvGraphicFramePr/>
          <p:nvPr/>
        </p:nvGraphicFramePr>
        <p:xfrm>
          <a:off x="455760" y="468360"/>
          <a:ext cx="8442000" cy="575316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400" spc="-1" strike="noStrike">
                          <a:solidFill>
                            <a:srgbClr val="de7e18"/>
                          </a:solidFill>
                          <a:latin typeface="Times New Roman"/>
                          <a:ea typeface="Times New Roman"/>
                        </a:rPr>
                        <a:t>Разница (ошибка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7" name="AutoShape 17"/>
          <p:cNvSpPr/>
          <p:nvPr/>
        </p:nvSpPr>
        <p:spPr>
          <a:xfrm>
            <a:off x="2482920" y="4819680"/>
            <a:ext cx="13762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8" name=""/>
          <p:cNvGraphicFramePr/>
          <p:nvPr/>
        </p:nvGraphicFramePr>
        <p:xfrm>
          <a:off x="455760" y="468360"/>
          <a:ext cx="8442000" cy="539424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ница между гр.9 и гр. 1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 по строкам 45-47,67-68,69-70, 71-72, 73-74, 96-100, 109-110, 127-138, 139-142, 150-151, 152-153, 163-166, 198-201, 202-206, 208-21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9" name="AutoShape 17"/>
          <p:cNvSpPr/>
          <p:nvPr/>
        </p:nvSpPr>
        <p:spPr>
          <a:xfrm>
            <a:off x="7155000" y="3195720"/>
            <a:ext cx="556920" cy="812880"/>
          </a:xfrm>
          <a:custGeom>
            <a:avLst/>
            <a:gdLst>
              <a:gd name="textAreaLeft" fmla="*/ 27000 w 556920"/>
              <a:gd name="textAreaRight" fmla="*/ 529920 w 556920"/>
              <a:gd name="textAreaTop" fmla="*/ 27000 h 812880"/>
              <a:gd name="textAreaBottom" fmla="*/ 785880 h 812880"/>
            </a:gdLst>
            <a:ahLst/>
            <a:rect l="textAreaLeft" t="textAreaTop" r="textAreaRight" b="textAreaBottom"/>
            <a:pathLst>
              <a:path w="21600" h="31521">
                <a:moveTo>
                  <a:pt x="3600" y="0"/>
                </a:moveTo>
                <a:arcTo wR="3600" hR="3600" stAng="16200000" swAng="-5400000"/>
                <a:lnTo>
                  <a:pt x="0" y="27921"/>
                </a:lnTo>
                <a:arcTo wR="3600" hR="3600" stAng="10800000" swAng="-5400000"/>
                <a:lnTo>
                  <a:pt x="18000" y="31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Стрелка влево 1"/>
          <p:cNvSpPr/>
          <p:nvPr/>
        </p:nvSpPr>
        <p:spPr>
          <a:xfrm>
            <a:off x="7711920" y="3017880"/>
            <a:ext cx="1390680" cy="1598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530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а!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160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= стр.15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4"/>
          <p:cNvSpPr/>
          <p:nvPr/>
        </p:nvSpPr>
        <p:spPr>
          <a:xfrm>
            <a:off x="271440" y="1855800"/>
            <a:ext cx="8664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менования должностей указывается согласно квалификационным справочникам или профессиональным стандарта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необходимо, если сотрудники получают компенсации и льготы, например, досрочную пенсию или дополнительный отпуск. Или для должностей, по которым закон устанавливает ограничения, например, есть необходимость проходить предрейсовый медосмотр. Медработники, водители и педагоги подпадают под действие этой нормы (</a:t>
            </a:r>
            <a:r>
              <a:rPr b="0" lang="ru-RU" sz="18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ч. 2 ст. 57 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1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2" name="Rectangle 862"/>
          <p:cNvSpPr/>
          <p:nvPr/>
        </p:nvSpPr>
        <p:spPr>
          <a:xfrm>
            <a:off x="2522520" y="2884320"/>
            <a:ext cx="6369120" cy="20098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ах 168-173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880"/>
          <p:cNvSpPr/>
          <p:nvPr/>
        </p:nvSpPr>
        <p:spPr>
          <a:xfrm>
            <a:off x="2522520" y="5056200"/>
            <a:ext cx="6348600" cy="6094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67 может быть больше или равна сумме строк с 168 по 17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7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8" name="Rectangle 859"/>
          <p:cNvSpPr/>
          <p:nvPr/>
        </p:nvSpPr>
        <p:spPr>
          <a:xfrm>
            <a:off x="2490840" y="2610000"/>
            <a:ext cx="6345360" cy="1147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68 по 170. То есть специалисты с высш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863"/>
          <p:cNvSpPr/>
          <p:nvPr/>
        </p:nvSpPr>
        <p:spPr>
          <a:xfrm>
            <a:off x="2482920" y="4214880"/>
            <a:ext cx="6337080" cy="1171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71 по 173. То есть специалисты со средн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3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4" name="Rectangle 862"/>
          <p:cNvSpPr/>
          <p:nvPr/>
        </p:nvSpPr>
        <p:spPr>
          <a:xfrm>
            <a:off x="2558880" y="1198440"/>
            <a:ext cx="6370920" cy="155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имер: К профессиональной деятельности в качестве медицинской сестры врача общей практики допускаются лица, получившие высшее медицинское образование по специальности "Сестринское дело" и сертификат по специальности "Общая практика"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863"/>
          <p:cNvSpPr/>
          <p:nvPr/>
        </p:nvSpPr>
        <p:spPr>
          <a:xfrm>
            <a:off x="2584440" y="4221000"/>
            <a:ext cx="6337440" cy="2400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« и подготовка в интернатур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специальности "Управление сестринской деятельностью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меститель руководителя МО; главная медицинская сестра (главная акушерка, главный фельдшер); директор больницы (дома) сестринского ухода, хосписа; заведующий (начальник) структурного подразделения (отдела, отделения, лаборатории, кабинета, отряда и другое) медицинской организации - врач-статистик; заведующий (начальник) структурного подразделения (отдела, отделения, лаборатории, кабинета, отряда и другое) медицинской организации - врач-методист; врач-статистик; врач-методист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880"/>
          <p:cNvSpPr/>
          <p:nvPr/>
        </p:nvSpPr>
        <p:spPr>
          <a:xfrm>
            <a:off x="2575080" y="2901960"/>
            <a:ext cx="6251400" cy="1244520"/>
          </a:xfrm>
          <a:prstGeom prst="rect">
            <a:avLst/>
          </a:prstGeom>
          <a:solidFill>
            <a:srgbClr val="ede6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бакалавриа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 направлению подготовки "Сестринское дел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Медицинская сестра общей практики, медицинская сестра по паллиативной помощи, медицинская сестра по профилактике, медицинская сестра по реабилит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720"/>
          <p:cNvSpPr/>
          <p:nvPr/>
        </p:nvSpPr>
        <p:spPr>
          <a:xfrm flipV="1">
            <a:off x="2216160" y="2362320"/>
            <a:ext cx="560520" cy="87768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720"/>
          <p:cNvSpPr/>
          <p:nvPr/>
        </p:nvSpPr>
        <p:spPr>
          <a:xfrm>
            <a:off x="2376360" y="3908520"/>
            <a:ext cx="425520" cy="32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720"/>
          <p:cNvSpPr/>
          <p:nvPr/>
        </p:nvSpPr>
        <p:spPr>
          <a:xfrm>
            <a:off x="2131920" y="4390920"/>
            <a:ext cx="654120" cy="33336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0" name=""/>
          <p:cNvGraphicFramePr/>
          <p:nvPr/>
        </p:nvGraphicFramePr>
        <p:xfrm>
          <a:off x="291960" y="193680"/>
          <a:ext cx="8629920" cy="6467400"/>
        </p:xfrm>
        <a:graphic>
          <a:graphicData uri="http://schemas.openxmlformats.org/drawingml/2006/table">
            <a:tbl>
              <a:tblPr/>
              <a:tblGrid>
                <a:gridCol w="1643040"/>
                <a:gridCol w="532080"/>
                <a:gridCol w="538200"/>
                <a:gridCol w="633240"/>
                <a:gridCol w="676440"/>
                <a:gridCol w="615960"/>
                <a:gridCol w="661680"/>
                <a:gridCol w="601920"/>
                <a:gridCol w="723960"/>
                <a:gridCol w="992160"/>
                <a:gridCol w="1011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7: анестез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1" name="Rectangle 885"/>
          <p:cNvSpPr/>
          <p:nvPr/>
        </p:nvSpPr>
        <p:spPr>
          <a:xfrm>
            <a:off x="2516040" y="3301920"/>
            <a:ext cx="6321600" cy="38124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может быть больше суммы строк с 174 по 19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885"/>
          <p:cNvSpPr/>
          <p:nvPr/>
        </p:nvSpPr>
        <p:spPr>
          <a:xfrm>
            <a:off x="2573280" y="4135320"/>
            <a:ext cx="6264360" cy="3970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вная медсестра включается только в строку 16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3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571680"/>
                <a:gridCol w="70452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4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7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без медицинского образования занимающих должности 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8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их регистраторов, медицинских дезинфекторов, инструкторов по лечебной физкультур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(в том числе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удентов медицинских Вузов, имеющ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099800" y="47628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Несколько слов о трудоустройстве студентов.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риказом Минздрава РФ от 27.06.2016 N 419н утвержден Порядок допуска лиц к осуществлению медицинской (фармацевтической) деятельности на должностях среднего медицинского (фармацевтического) персонала, в соответствии с которым лиц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не завершившие освоение образовательных программ высшего медицинского (фармацевтического) образования, могут быть приняты на работу на указанные должности при наличи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справки об обучении или о периоде обучения, подтверждающей освоение образовательной программы в необходимом объеме и по специальност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положительного результата сдачи экзамена по допуску к осуществлению медицинской (фармацевтической) деятельности (проводится в образовательном учреждении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Например, лица с незаконченным высшим образованием, освоившие образовательную программу высшего медицинского образования по специальностям "Лечебное дело", "Педиатрия", "Медико-профилактическое дело", "Стоматология" в объеме трех курсов и более или по направлению подготовки "Сестринское дело" в объеме двух курсов и более либо имеющие диплом специалиста (диплом бакалавра) по специальности "Лечебное дело", "Педиатрия", "Медико-профилактическое дело", "Сестринское дело" или "Стоматология"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могут быть приняты на работу в качестве медицинской сестры (медбрата), в том числе палатной, перевязочной, процедурной, по приему вызовов скорой медицинской помощи, приемного отделения, участково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33240" y="628560"/>
            <a:ext cx="7909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Сверка т.1100 с данными федерального регистра медицинских работников (ФРМР)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160200" y="2641680"/>
          <a:ext cx="8856720" cy="2141280"/>
        </p:xfrm>
        <a:graphic>
          <a:graphicData uri="http://schemas.openxmlformats.org/drawingml/2006/table">
            <a:tbl>
              <a:tblPr/>
              <a:tblGrid>
                <a:gridCol w="608040"/>
                <a:gridCol w="696960"/>
                <a:gridCol w="754200"/>
                <a:gridCol w="941400"/>
                <a:gridCol w="834840"/>
                <a:gridCol w="922320"/>
                <a:gridCol w="1190880"/>
                <a:gridCol w="1285560"/>
                <a:gridCol w="852840"/>
                <a:gridCol w="769680"/>
              </a:tblGrid>
              <a:tr h="300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/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бъект Российской Федер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именование медицинской организ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личество сотрудник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и и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редн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ладш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визо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армацев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1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9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1785" name="Прямоугольник 3"/>
          <p:cNvSpPr/>
          <p:nvPr/>
        </p:nvSpPr>
        <p:spPr>
          <a:xfrm>
            <a:off x="160200" y="1943280"/>
            <a:ext cx="86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 об эксплуатации ФРМР на 31.12.2019 г. по сведениям о трудоустройстве по перечню организаций, заведенных в регистр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рямоугольник 4"/>
          <p:cNvSpPr/>
          <p:nvPr/>
        </p:nvSpPr>
        <p:spPr>
          <a:xfrm>
            <a:off x="160200" y="4896000"/>
            <a:ext cx="301788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, всего в отчете ФРМР на 31.12.2019 г. должно соответствовать сумме строк (1+143+217+139+213) по графе 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Прямоугольник 5"/>
          <p:cNvSpPr/>
          <p:nvPr/>
        </p:nvSpPr>
        <p:spPr>
          <a:xfrm>
            <a:off x="3249720" y="4896000"/>
            <a:ext cx="559260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 врачей, СМП, МПП, провизоров, фармацевтов в отчете ФРМР должно соответствовать стр. 1,143, 217, 139, 213 гр.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8" name="Прямая со стрелкой 6"/>
          <p:cNvCxnSpPr/>
          <p:nvPr/>
        </p:nvCxnSpPr>
        <p:spPr>
          <a:xfrm>
            <a:off x="357804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89" name="Прямая со стрелкой 14"/>
          <p:cNvCxnSpPr/>
          <p:nvPr/>
        </p:nvCxnSpPr>
        <p:spPr>
          <a:xfrm>
            <a:off x="86482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0" name="Прямая со стрелкой 15"/>
          <p:cNvCxnSpPr/>
          <p:nvPr/>
        </p:nvCxnSpPr>
        <p:spPr>
          <a:xfrm>
            <a:off x="78148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1" name="Прямая со стрелкой 16"/>
          <p:cNvCxnSpPr/>
          <p:nvPr/>
        </p:nvCxnSpPr>
        <p:spPr>
          <a:xfrm>
            <a:off x="674172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2" name="Прямая со стрелкой 17"/>
          <p:cNvCxnSpPr/>
          <p:nvPr/>
        </p:nvCxnSpPr>
        <p:spPr>
          <a:xfrm>
            <a:off x="550980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3" name="Прямая со стрелкой 18"/>
          <p:cNvCxnSpPr/>
          <p:nvPr/>
        </p:nvCxnSpPr>
        <p:spPr>
          <a:xfrm>
            <a:off x="266976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4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отделений (кабинетов) профилактики (из таблицы 1100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*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5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1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* </a:t>
            </a:r>
            <a:r>
              <a:rPr b="1" lang="ru-RU" sz="1600" spc="-1" strike="noStrike">
                <a:solidFill>
                  <a:srgbClr val="de7e18"/>
                </a:solidFill>
                <a:latin typeface="Times New Roman"/>
                <a:ea typeface="Arial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0" y="235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спехов в работе, коллег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Century Gothic"/>
              </a:rPr>
              <a:t>      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Должность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465120" y="3151080"/>
          <a:ext cx="8305920" cy="280512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6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0" name=""/>
          <p:cNvGraphicFramePr/>
          <p:nvPr/>
        </p:nvGraphicFramePr>
        <p:xfrm>
          <a:off x="228600" y="1371600"/>
          <a:ext cx="8686800" cy="435600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ач стати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евт участко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чебное дело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ая врачебная практика (семейная медицина)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1" name=""/>
          <p:cNvGraphicFramePr/>
          <p:nvPr/>
        </p:nvGraphicFramePr>
        <p:xfrm>
          <a:off x="490680" y="1371600"/>
          <a:ext cx="8196120" cy="4460760"/>
        </p:xfrm>
        <a:graphic>
          <a:graphicData uri="http://schemas.openxmlformats.org/drawingml/2006/table">
            <a:tbl>
              <a:tblPr/>
              <a:tblGrid>
                <a:gridCol w="3068640"/>
                <a:gridCol w="5127480"/>
              </a:tblGrid>
              <a:tr h="44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рганизаторы сестринского дела (стр.147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Директор больницы (дома) сестринского ухода, хосписа, заведующий молочной кухней, главная медицинская сестра, главный фельдшер, главная акушерка, старшая медицинская сестр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2" name="TextBox 1"/>
          <p:cNvSpPr/>
          <p:nvPr/>
        </p:nvSpPr>
        <p:spPr>
          <a:xfrm>
            <a:off x="2524320" y="4237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ИМАНИЕ!!!!!!!!!!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4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5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ого типа (центры, бюро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этом если такая 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стр.1): руководители организаций и их заместители (организаторы здравоохран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8" name="Прямоугольник 3"/>
          <p:cNvSpPr/>
          <p:nvPr/>
        </p:nvSpPr>
        <p:spPr>
          <a:xfrm>
            <a:off x="2197080" y="3621240"/>
            <a:ext cx="6616800" cy="10659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classuser</cp:lastModifiedBy>
  <cp:lastPrinted>2018-11-27T04:13:37Z</cp:lastPrinted>
  <dcterms:modified xsi:type="dcterms:W3CDTF">2019-12-08T11:12:14Z</dcterms:modified>
  <cp:revision>115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