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date/time&gt;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afbfe"/>
                </a:solidFill>
                <a:latin typeface="-윤고딕140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7309-19BC-4C8D-8EB9-1124E1A134FA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D23E-FBF9-4806-8C7E-ABA98D34D6BC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B544-4ED3-4984-9A28-4E842A64CC53}" type="slidenum">
              <a:rPr b="1" lang="ru-RU" sz="1200" spc="-1" strike="noStrike">
                <a:solidFill>
                  <a:srgbClr val="dafbfe"/>
                </a:solidFill>
                <a:latin typeface="-윤고딕140"/>
              </a:rPr>
              <a:t>&lt;number&gt;</a:t>
            </a:fld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4"/>
          <p:cNvGrpSpPr/>
          <p:nvPr/>
        </p:nvGrpSpPr>
        <p:grpSpPr>
          <a:xfrm>
            <a:off x="6622920" y="0"/>
            <a:ext cx="2521080" cy="451440"/>
            <a:chOff x="6622920" y="0"/>
            <a:chExt cx="2521080" cy="451440"/>
          </a:xfrm>
        </p:grpSpPr>
        <p:sp>
          <p:nvSpPr>
            <p:cNvPr id="1" name="Text Box 95"/>
            <p:cNvSpPr/>
            <p:nvPr/>
          </p:nvSpPr>
          <p:spPr>
            <a:xfrm>
              <a:off x="6622920" y="0"/>
              <a:ext cx="2232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POWER POINT TEMPLATE</a:t>
              </a:r>
              <a:endParaRPr b="1" lang="en-US" sz="11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  <p:sp>
          <p:nvSpPr>
            <p:cNvPr id="2" name="Rectangle 96"/>
            <p:cNvSpPr/>
            <p:nvPr/>
          </p:nvSpPr>
          <p:spPr>
            <a:xfrm>
              <a:off x="6622920" y="144360"/>
              <a:ext cx="25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Company's new low-cost and easy-to-use Web-site 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돋움"/>
                  <a:ea typeface="돋움"/>
                </a:rPr>
                <a:t>design tool will help entrepreneurs spiff up their online.</a:t>
              </a:r>
              <a:endParaRPr b="1" lang="en-US" sz="700" spc="-1" strike="noStrike">
                <a:solidFill>
                  <a:srgbClr val="dafbfe"/>
                </a:solidFill>
                <a:latin typeface="-윤고딕140"/>
              </a:endParaRPr>
            </a:p>
          </p:txBody>
        </p:sp>
      </p:grpSp>
      <p:sp>
        <p:nvSpPr>
          <p:cNvPr id="3" name="Rectangle 103"/>
          <p:cNvSpPr/>
          <p:nvPr/>
        </p:nvSpPr>
        <p:spPr>
          <a:xfrm>
            <a:off x="0" y="333360"/>
            <a:ext cx="9144000" cy="954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00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0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Line 301"/>
          <p:cNvSpPr/>
          <p:nvPr/>
        </p:nvSpPr>
        <p:spPr>
          <a:xfrm>
            <a:off x="3995640" y="3757680"/>
            <a:ext cx="503280" cy="720720"/>
          </a:xfrm>
          <a:prstGeom prst="line">
            <a:avLst/>
          </a:prstGeom>
          <a:ln w="76320">
            <a:solidFill>
              <a:srgbClr val="0056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9" name="Line 300"/>
          <p:cNvSpPr/>
          <p:nvPr/>
        </p:nvSpPr>
        <p:spPr>
          <a:xfrm>
            <a:off x="4140360" y="3757680"/>
            <a:ext cx="502920" cy="720720"/>
          </a:xfrm>
          <a:prstGeom prst="line">
            <a:avLst/>
          </a:prstGeom>
          <a:ln w="76320">
            <a:solidFill>
              <a:srgbClr val="0056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0" name="Rectangle 298"/>
          <p:cNvSpPr/>
          <p:nvPr/>
        </p:nvSpPr>
        <p:spPr>
          <a:xfrm>
            <a:off x="2484360" y="4164120"/>
            <a:ext cx="6659640" cy="215640"/>
          </a:xfrm>
          <a:prstGeom prst="rect">
            <a:avLst/>
          </a:prstGeom>
          <a:solidFill>
            <a:srgbClr val="0056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1" name="Rectangle 193"/>
          <p:cNvSpPr/>
          <p:nvPr/>
        </p:nvSpPr>
        <p:spPr>
          <a:xfrm>
            <a:off x="4346640" y="3662280"/>
            <a:ext cx="183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" name="Rectangle 297"/>
          <p:cNvSpPr/>
          <p:nvPr/>
        </p:nvSpPr>
        <p:spPr>
          <a:xfrm rot="10800000">
            <a:off x="0" y="4246200"/>
            <a:ext cx="9144000" cy="1487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3" name="Freeform 296"/>
          <p:cNvSpPr/>
          <p:nvPr/>
        </p:nvSpPr>
        <p:spPr>
          <a:xfrm>
            <a:off x="-9360" y="3949560"/>
            <a:ext cx="9153360" cy="2908440"/>
          </a:xfrm>
          <a:custGeom>
            <a:avLst/>
            <a:gdLst/>
            <a:ahLst/>
            <a:rect l="l" t="t" r="r" b="b"/>
            <a:pathLst>
              <a:path w="5746" h="2159">
                <a:moveTo>
                  <a:pt x="5746" y="2159"/>
                </a:moveTo>
                <a:lnTo>
                  <a:pt x="0" y="2159"/>
                </a:lnTo>
                <a:lnTo>
                  <a:pt x="0" y="0"/>
                </a:lnTo>
                <a:lnTo>
                  <a:pt x="31" y="35"/>
                </a:lnTo>
                <a:lnTo>
                  <a:pt x="69" y="76"/>
                </a:lnTo>
                <a:lnTo>
                  <a:pt x="132" y="125"/>
                </a:lnTo>
                <a:lnTo>
                  <a:pt x="212" y="184"/>
                </a:lnTo>
                <a:lnTo>
                  <a:pt x="316" y="254"/>
                </a:lnTo>
                <a:lnTo>
                  <a:pt x="375" y="289"/>
                </a:lnTo>
                <a:lnTo>
                  <a:pt x="441" y="323"/>
                </a:lnTo>
                <a:lnTo>
                  <a:pt x="514" y="362"/>
                </a:lnTo>
                <a:lnTo>
                  <a:pt x="594" y="400"/>
                </a:lnTo>
                <a:lnTo>
                  <a:pt x="681" y="435"/>
                </a:lnTo>
                <a:lnTo>
                  <a:pt x="775" y="473"/>
                </a:lnTo>
                <a:lnTo>
                  <a:pt x="876" y="508"/>
                </a:lnTo>
                <a:lnTo>
                  <a:pt x="984" y="546"/>
                </a:lnTo>
                <a:lnTo>
                  <a:pt x="1098" y="577"/>
                </a:lnTo>
                <a:lnTo>
                  <a:pt x="1224" y="612"/>
                </a:lnTo>
                <a:lnTo>
                  <a:pt x="1352" y="643"/>
                </a:lnTo>
                <a:lnTo>
                  <a:pt x="1495" y="671"/>
                </a:lnTo>
                <a:lnTo>
                  <a:pt x="1641" y="699"/>
                </a:lnTo>
                <a:lnTo>
                  <a:pt x="1797" y="723"/>
                </a:lnTo>
                <a:lnTo>
                  <a:pt x="1961" y="744"/>
                </a:lnTo>
                <a:lnTo>
                  <a:pt x="2134" y="761"/>
                </a:lnTo>
                <a:lnTo>
                  <a:pt x="2319" y="775"/>
                </a:lnTo>
                <a:lnTo>
                  <a:pt x="2510" y="786"/>
                </a:lnTo>
                <a:lnTo>
                  <a:pt x="2711" y="793"/>
                </a:lnTo>
                <a:lnTo>
                  <a:pt x="2923" y="796"/>
                </a:lnTo>
                <a:lnTo>
                  <a:pt x="3135" y="793"/>
                </a:lnTo>
                <a:lnTo>
                  <a:pt x="3334" y="786"/>
                </a:lnTo>
                <a:lnTo>
                  <a:pt x="3525" y="775"/>
                </a:lnTo>
                <a:lnTo>
                  <a:pt x="3706" y="761"/>
                </a:lnTo>
                <a:lnTo>
                  <a:pt x="3879" y="744"/>
                </a:lnTo>
                <a:lnTo>
                  <a:pt x="4039" y="723"/>
                </a:lnTo>
                <a:lnTo>
                  <a:pt x="4192" y="699"/>
                </a:lnTo>
                <a:lnTo>
                  <a:pt x="4338" y="671"/>
                </a:lnTo>
                <a:lnTo>
                  <a:pt x="4474" y="643"/>
                </a:lnTo>
                <a:lnTo>
                  <a:pt x="4599" y="612"/>
                </a:lnTo>
                <a:lnTo>
                  <a:pt x="4721" y="577"/>
                </a:lnTo>
                <a:lnTo>
                  <a:pt x="4832" y="546"/>
                </a:lnTo>
                <a:lnTo>
                  <a:pt x="4933" y="508"/>
                </a:lnTo>
                <a:lnTo>
                  <a:pt x="5030" y="473"/>
                </a:lnTo>
                <a:lnTo>
                  <a:pt x="5117" y="435"/>
                </a:lnTo>
                <a:lnTo>
                  <a:pt x="5200" y="400"/>
                </a:lnTo>
                <a:lnTo>
                  <a:pt x="5277" y="362"/>
                </a:lnTo>
                <a:lnTo>
                  <a:pt x="5343" y="323"/>
                </a:lnTo>
                <a:lnTo>
                  <a:pt x="5405" y="289"/>
                </a:lnTo>
                <a:lnTo>
                  <a:pt x="5461" y="254"/>
                </a:lnTo>
                <a:lnTo>
                  <a:pt x="5513" y="219"/>
                </a:lnTo>
                <a:lnTo>
                  <a:pt x="5555" y="184"/>
                </a:lnTo>
                <a:lnTo>
                  <a:pt x="5631" y="125"/>
                </a:lnTo>
                <a:lnTo>
                  <a:pt x="5683" y="76"/>
                </a:lnTo>
                <a:lnTo>
                  <a:pt x="5718" y="35"/>
                </a:lnTo>
                <a:lnTo>
                  <a:pt x="5746" y="0"/>
                </a:lnTo>
                <a:lnTo>
                  <a:pt x="5746" y="2159"/>
                </a:lnTo>
                <a:close/>
              </a:path>
            </a:pathLst>
          </a:custGeom>
          <a:gradFill rotWithShape="0">
            <a:gsLst>
              <a:gs pos="0">
                <a:srgbClr val="0056d4"/>
              </a:gs>
              <a:gs pos="100000">
                <a:srgbClr val="002a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 ЧИСЛЕ ЗАБОЛЕВАНИЙ,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РЕГИСТРИРОВАННЫХ В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-9360" y="2707920"/>
            <a:ext cx="91533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й Иванович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ьков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 ноября 2019 года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Москв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7" name="Прямоугольник 32"/>
          <p:cNvSpPr/>
          <p:nvPr/>
        </p:nvSpPr>
        <p:spPr>
          <a:xfrm>
            <a:off x="468360" y="692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611280" y="1989000"/>
            <a:ext cx="806436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В данный  отчет  включаются сведения об  общем числе зарегистрированных в данном  учреждении у пациентов  заболеваний и о больных с заболеваниям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</a:rPr>
              <a:t>по поводу которых осуществляется диспансеризац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17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1601640" y="1724040"/>
            <a:ext cx="59407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Autofit/>
          </a:bodyPr>
          <a:p>
            <a:pPr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object 139"/>
          <p:cNvSpPr/>
          <p:nvPr/>
        </p:nvSpPr>
        <p:spPr>
          <a:xfrm>
            <a:off x="6727680" y="6356520"/>
            <a:ext cx="1495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9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7e7e7e"/>
                </a:solidFill>
                <a:latin typeface="Arial"/>
                <a:ea typeface="Arial"/>
              </a:rPr>
              <a:t>РОССИЯ 2019</a:t>
            </a:r>
            <a:endParaRPr b="1" lang="en-US" sz="17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5" name="Прямоугольник 4"/>
          <p:cNvSpPr/>
          <p:nvPr/>
        </p:nvSpPr>
        <p:spPr>
          <a:xfrm>
            <a:off x="163440" y="789120"/>
            <a:ext cx="88394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 Минздрава от 29.03.19 г. № 173н и от 02.04.19 г. № 190н не регламентируют порядок статистического учета, который осуществляется в соответствии с МКБ-10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, классифицируемые рубриками R73.0 «Нарушение толерантности к глюкозе» и R73.9 «Неуточненная гипергликемия» относятся к классу XVIII «Симптомы, признаки и отклонения от нормы, выявленные при клинических и лабораторных исследованиях»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состояния являются: первое – результатом проведенного теста на толерантность к глюкозе, а второе – результатом лабораторного исследования крови на содержание глюкозы. Оба результата не являются диагнозом какого-либо заболевания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характерных жалоб, объективных данных и данных дополнительных инструментальных и лабораторных исследований должны быть установлены следующие диагнозы: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озрение на сахарный диабет – код Z03.8 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ахарный диабет – коды Е10-Е14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ругие заболевания с гипергликемией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 с конкретными диагнозами, а не симптомами (!) и должны быть зарегистрированы в форме № 12 и взяты под диспансерное наблюдение.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циентов с любыми результатами анализов, исследований, проб без установления  диагноза или с симптомами не регистрируют в форме № 12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же касается рубрики R54 «Старость, или старческая астения». Данное состояние является симптомом и может быть указано только в качестве предварительного диагноза. В госпитальной практике в течение трех дней должен быть установлен клинический диагноз в соответствии с правилами МКБ-10 (том 2, стр. 107)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е симптома в качестве основного состояния в конце эпизода оказания медицинской помощи в соответствии с МКБ-10 является для врача-статистика или медицинского статистика основанием для возврата медицинской карты стационарного больного и карты выбывшего из стационара лечащему врачу для исправления. Данные документы не должны быть приняты в статистическую  разработку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заболеваемости рубрика I69 «Последствия цереброваскулярных болезней» не используется, так как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ключает в себя несколько различных нозологических единиц (энцефалопатии, нарушения речи, параличи, парезы и т.д.), каждая из которых должна быть выставлена в качестве самостоятельного заболевания, зарегистрирована в форме №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и при необходимости взята под диспансерное наблюдение соответствующим  специалистом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стике смертности рубрика I69 используется без расшифровки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27" name="Прямоугольник 1"/>
          <p:cNvSpPr/>
          <p:nvPr/>
        </p:nvSpPr>
        <p:spPr>
          <a:xfrm>
            <a:off x="684360" y="765000"/>
            <a:ext cx="784836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Юрий Иванович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ьков</a:t>
            </a:r>
            <a:br>
              <a:rPr sz="4000"/>
            </a:br>
            <a:r>
              <a:rPr b="1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ведующий отделением статистики  специализированных служб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 05 февраля 2020 года</a:t>
            </a:r>
            <a:br>
              <a:rPr sz="3600"/>
            </a:br>
            <a:r>
              <a:rPr b="0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8-495-618-31-83 доп. 220, 236, 235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 06 февраля 2020 год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OskovYI@mail.ru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0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611280" y="1341360"/>
            <a:ext cx="806436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 форму  включают  один  раз в  год сведения об основном, фоновом,  конкурирующем  и сопутствующем заболеваниях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об осложнениях  основного  и других заболеваний в форму не включают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, имеющие  два  и более  заболевания, показываются по соот-ветствующим  строкам по  числу  выявленных  и  зарегистрированных забо-леваний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3" name="Прямоугольник 30"/>
          <p:cNvSpPr/>
          <p:nvPr/>
        </p:nvSpPr>
        <p:spPr>
          <a:xfrm>
            <a:off x="971640" y="90792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611280" y="1341360"/>
            <a:ext cx="806436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заполняется на основании первичной учетной медицинской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кумент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755640" y="1484280"/>
            <a:ext cx="74883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заболеваниях с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дами по МКБ-10,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меченных  звездочкой (*)</a:t>
            </a:r>
            <a:br>
              <a:rPr sz="24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755640" y="1484280"/>
            <a:ext cx="7488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форму 12 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дения о подозрении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заболевание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0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684360" y="1557360"/>
            <a:ext cx="792000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Форма 12 собирается в двух разрезах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0 – заболеваемость всего населения 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1 – заболеваемость сельского населени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бъекта РФ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менения в форме 12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 2019 год 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6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1. Дети (0-14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1000)  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8" name="Таблица 1" descr=""/>
          <p:cNvPicPr/>
          <p:nvPr/>
        </p:nvPicPr>
        <p:blipFill>
          <a:blip r:embed="rId1"/>
          <a:stretch/>
        </p:blipFill>
        <p:spPr>
          <a:xfrm>
            <a:off x="628560" y="2603520"/>
            <a:ext cx="788688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0" name="Прямоугольник 21"/>
          <p:cNvSpPr/>
          <p:nvPr/>
        </p:nvSpPr>
        <p:spPr>
          <a:xfrm>
            <a:off x="755640" y="620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6060"/>
                </a:solidFill>
                <a:latin typeface="-윤고딕140"/>
              </a:rPr>
              <a:t>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2. Дети первых трех лет жизни                     (1500)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101" name="Таблица 1" descr=""/>
          <p:cNvPicPr/>
          <p:nvPr/>
        </p:nvPicPr>
        <p:blipFill>
          <a:blip r:embed="rId1"/>
          <a:stretch/>
        </p:blipFill>
        <p:spPr>
          <a:xfrm>
            <a:off x="749160" y="1006560"/>
            <a:ext cx="757260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2. Дети первых трех лет жизни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굴림"/>
                <a:ea typeface="-윤고딕140"/>
              </a:rPr>
              <a:t>таблица 160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Дети первого года жизни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Факторы, влияющие на состояние здоровья населения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и обращения в медицинские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  <a:ea typeface="-윤고딕140"/>
              </a:rPr>
              <a:t>(с профилактической и иной целью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굴림"/>
                <a:ea typeface="-윤고딕140"/>
              </a:rPr>
              <a:t>Таблица заполняется по обращениям детей первого года жизн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7" name="Прямоугольник 20"/>
          <p:cNvSpPr/>
          <p:nvPr/>
        </p:nvSpPr>
        <p:spPr>
          <a:xfrm>
            <a:off x="900000" y="1557360"/>
            <a:ext cx="7775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ВЕДЕНИЯ О ЧИСЛЕ ЗАБОЛЕВАНИЙ, ЗАРЕГИСТРИРОВАННЫХ У                   ПАЦИЕНТОВ, ПРОЖИВАЮЩИХ          В РАЙОНЕ ОБСЛУЖИВАНИЯ                МЕДИЦИНСКОЙ ОРГАНИЗАЦИИ </a:t>
            </a:r>
            <a:br>
              <a:rPr sz="3200"/>
            </a:br>
            <a:r>
              <a:rPr b="1" i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 2019 год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8" name="Прямоугольник 21"/>
          <p:cNvSpPr/>
          <p:nvPr/>
        </p:nvSpPr>
        <p:spPr>
          <a:xfrm>
            <a:off x="1332000" y="620640"/>
            <a:ext cx="67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ЕДЕРАЛЬНОЕ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ТИСТИЧЕСКОЕ НАБЛЮДЕНИ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№1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107" name="Прямоугольник 2" descr=""/>
          <p:cNvPicPr/>
          <p:nvPr/>
        </p:nvPicPr>
        <p:blipFill>
          <a:blip r:embed="rId1"/>
          <a:stretch/>
        </p:blipFill>
        <p:spPr>
          <a:xfrm>
            <a:off x="536400" y="2779560"/>
            <a:ext cx="813780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09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3. Дети  (15-17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2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Таблица 4" descr=""/>
          <p:cNvPicPr/>
          <p:nvPr/>
        </p:nvPicPr>
        <p:blipFill>
          <a:blip r:embed="rId1"/>
          <a:stretch/>
        </p:blipFill>
        <p:spPr>
          <a:xfrm>
            <a:off x="628560" y="2535120"/>
            <a:ext cx="788688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3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굴림"/>
              </a:rPr>
              <a:t>                                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4. Взрослые 18 лет и более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3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Таблица 1" descr=""/>
          <p:cNvPicPr/>
          <p:nvPr/>
        </p:nvPicPr>
        <p:blipFill>
          <a:blip r:embed="rId1"/>
          <a:stretch/>
        </p:blipFill>
        <p:spPr>
          <a:xfrm>
            <a:off x="628560" y="2822400"/>
            <a:ext cx="78868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7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</a:t>
            </a: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5. Взрослые старше трудоспособного возраста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                     (с 55 лет у женщин и с 60 лет у мужчин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굴림"/>
              </a:rPr>
              <a:t>(4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9" name="Таблица 1" descr=""/>
          <p:cNvPicPr/>
          <p:nvPr/>
        </p:nvPicPr>
        <p:blipFill>
          <a:blip r:embed="rId1"/>
          <a:stretch/>
        </p:blipFill>
        <p:spPr>
          <a:xfrm>
            <a:off x="628560" y="2749680"/>
            <a:ext cx="78868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2276280"/>
            <a:ext cx="8064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полнение формы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250920" y="2421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фа 8 трактовка не изменена???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468360" y="-633240"/>
            <a:ext cx="820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5 за 2016 г) – (переходные дети в подростки) + (впервые взятые на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Д-учет в текущем году) + (вновь прибывшие) + (ранее стоящие на Д-учете «оторвавшиеся» и кому диагноз был ранее установлен, но на Д-учете не состоял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5 за 2016 г) – (переходные подростки во взрослые) + (впервые взятые на Д-учет в текущем году) + (вновь прибывшие) + (ранее стоящие на Д-учете «оторвавшиеся» и кому диагноз был ранее установлен, но на Д-учете не состоял) + (переходные из детей, таблицы 1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5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прибывшие) + (ранее стоящие на Д-учете «оторвавшиеся» и кому диагноз был ранее установлен, но на Д-учете не состоял) + (переходные из подростков, таблицы 2000) = графа 8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468360" y="285264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- трактовка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468360" y="162864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4 – снято с диспансерного наблюдения (по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сем 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еход в другую возрастную группу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входит в графу 14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250920" y="2060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ответственно графы 8 и графы 14 не создают  движение диспансерной группы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всем строкам таблиц 1000, 2000, 3000, 4000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из графы 8 минус графа 14 равно графе 15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ом числе и строкам раздела 6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0" name="Прямоугольник 31"/>
          <p:cNvSpPr/>
          <p:nvPr/>
        </p:nvSpPr>
        <p:spPr>
          <a:xfrm>
            <a:off x="468360" y="836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395280" y="907920"/>
            <a:ext cx="8353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-болеваний, зарегистрированных  у  пациентов, проживающих в районе обслужива-ния  медицинской организации»,  составляется  всеми  медицинскими организаци-ями, входящие в номенклатуру медицинских организаций, оказывающие  медицин-скую  помощь  в  амбулаторных  условия (приказ Минздрава  России  от 6  августа  2013 г.  № 529н «Об утверждении номенклатуры медицинских организаций», заре-гистрирован Министерством юстиции Российской Федерации 13.09.2013 № 29950,в соответствии с приказом от 21 июля 2016 года № 355 «Об утверждении статисти-ческого  инструментария  для  организации  Министерством здравоохранения Рос-сийской Федерации федерального  статистического  наблюдения  в  сфере  охраны здоровья» Федеральной службы государственной статистик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250920" y="2060640"/>
            <a:ext cx="871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15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ая таблица не сравнивается с  другими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ми  формы 12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другими формами годового отчет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333360"/>
            <a:ext cx="68580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43000" y="1699920"/>
            <a:ext cx="6858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1001, 1002, 1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1601, 1650, 1700, 1800, 1900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2001, 2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3002, 3003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4001, 4003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1100,2100,3100,4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굴림"/>
              </a:rPr>
              <a:t>заполняются в соответствии с требованиями по заполнению формы 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9" name="Прямоугольник 2"/>
          <p:cNvSpPr/>
          <p:nvPr/>
        </p:nvSpPr>
        <p:spPr>
          <a:xfrm>
            <a:off x="250920" y="2060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а 2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250920" y="765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3. Дети  (15-17 лет включительно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2000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95280" y="1557360"/>
          <a:ext cx="8424720" cy="4032360"/>
        </p:xfrm>
        <a:graphic>
          <a:graphicData uri="http://schemas.openxmlformats.org/drawingml/2006/table">
            <a:tbl>
              <a:tblPr/>
              <a:tblGrid>
                <a:gridCol w="1606680"/>
                <a:gridCol w="482400"/>
                <a:gridCol w="541440"/>
                <a:gridCol w="465120"/>
                <a:gridCol w="463680"/>
                <a:gridCol w="541080"/>
                <a:gridCol w="540000"/>
                <a:gridCol w="542880"/>
                <a:gridCol w="620640"/>
                <a:gridCol w="622440"/>
                <a:gridCol w="465120"/>
                <a:gridCol w="463320"/>
                <a:gridCol w="622440"/>
                <a:gridCol w="447480"/>
              </a:tblGrid>
              <a:tr h="18720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Наименование классов и отдельных болезне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трок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Код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по МКБ-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пере-смотр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Зарегистрировано заболеваний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нято с диспан-серного наблю-дения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них (из гр. 15)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них: 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них (из гр. 4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заболеваний с впервые в жизни установленным диагнозом 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(из гр. 9):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из заболе-ваний с впервые в жизни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установ-ленны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(из гр. 9)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юнош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 впервы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 жизни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установ- ленны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агно-зом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зято под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испансер-ное наблю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дени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ыявле-но при проф-осмотре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выявлено при диспан-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еризации определен-ных групп взрослого населения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0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7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9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1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2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3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4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5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6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Зарегистрировано заболеваний – всего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1.0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А00-Т98</a:t>
                      </a:r>
                      <a:endParaRPr b="1" lang="en-US" sz="12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Прямоугольник 4"/>
          <p:cNvSpPr/>
          <p:nvPr/>
        </p:nvSpPr>
        <p:spPr>
          <a:xfrm>
            <a:off x="468360" y="53006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рафа 12 - выявлено при диспансеризации определенных групп взрослого населения (гр. 12) – следует читать -  выявлено при диспансеризации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971640" y="15573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всего» (гр.4) – «из них: юноши» (гр.7) = «всего девушки»;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с впервые в жизни ..» (гр.9) – «из заболеваний … юноши»  (гр.13) =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«девушки впервые»  -  не должно быть отрицательных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й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47" name="Прямоугольник 2"/>
          <p:cNvSpPr/>
          <p:nvPr/>
        </p:nvSpPr>
        <p:spPr>
          <a:xfrm>
            <a:off x="755640" y="2492280"/>
            <a:ext cx="756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11280" y="1246320"/>
          <a:ext cx="7993080" cy="4483080"/>
        </p:xfrm>
        <a:graphic>
          <a:graphicData uri="http://schemas.openxmlformats.org/drawingml/2006/table">
            <a:tbl>
              <a:tblPr/>
              <a:tblGrid>
                <a:gridCol w="1523880"/>
                <a:gridCol w="457200"/>
                <a:gridCol w="514440"/>
                <a:gridCol w="441360"/>
                <a:gridCol w="439560"/>
                <a:gridCol w="514440"/>
                <a:gridCol w="512640"/>
                <a:gridCol w="514440"/>
                <a:gridCol w="588960"/>
                <a:gridCol w="590400"/>
                <a:gridCol w="439920"/>
                <a:gridCol w="441360"/>
                <a:gridCol w="588960"/>
                <a:gridCol w="425520"/>
              </a:tblGrid>
              <a:tr h="122040"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굴림"/>
                        </a:rPr>
                        <a:t>Состоит под диспан-серным наблюде-нием на конец отчетного года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3040" rIns="23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600"/>
                      </a:b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10)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3040" marR="23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marL="88920"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00-Е8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функция яичник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5.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Е2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исфункция яичек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2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3560" rIns="43560" tIns="0" bIns="0" anchor="ctr">
                      <a:noAutofit/>
                    </a:bodyPr>
                    <a:p>
                      <a:pPr marL="8568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омните о данных строчках</a:t>
                      </a:r>
                      <a:endParaRPr b="1" lang="en-US" sz="1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лезни предстатель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.5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40-N42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оброкачественная дисплазия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молочной железы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оспалительные болезни женских тазовых органов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-N73, 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5-N7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560" rIns="43560" tIns="0" bIns="0" anchor="ctr">
                      <a:noAutofit/>
                    </a:bodyPr>
                    <a:p>
                      <a:pPr marL="26676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сальпингит и оофорит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7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ндометриоз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эрозия и эктропион шейки матки 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86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43560" rIns="43560" tIns="0" bIns="0" anchor="ctr">
                      <a:noAutofit/>
                    </a:bodyPr>
                    <a:p>
                      <a:pPr marL="176040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расстройства менструаций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.1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1-</a:t>
                      </a:r>
                      <a:r>
                        <a:rPr b="0" lang="en-US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6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1" lang="en-US" sz="6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858960" y="1773360"/>
            <a:ext cx="74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4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468360" y="76500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оответствии с Порядком заполнения формы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едерального статистического наблюдения №12</a:t>
            </a:r>
            <a:br>
              <a:rPr sz="2800"/>
            </a:br>
            <a:r>
              <a:rPr b="0" lang="ru-RU" sz="2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все таблицы заполняются по всем строкам и графам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539640" y="3860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крещенные графоклетки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 заполняются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395280" y="1341360"/>
            <a:ext cx="84247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ация заболеваний осуществляется по году рождения. Если в отчетном году ребенку исполняется 15 лет (с 1 января – по 31 дека-бря), то он считается подростком; 18 лет – взрослым, т.е. переход из одной возрастной группы в другую производится на начало года в не зависимости от того, когда у ребёнка или подростка день рождения. При этом вся их ранее известная заболеваемость показывается в 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е 4 – всего, и только вновь выявленная в текущем году в </a:t>
            </a:r>
            <a:br>
              <a:rPr sz="2200"/>
            </a:br>
            <a:r>
              <a:rPr b="0" lang="ru-RU" sz="22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ервичной  заболеваемости  (графы 9 и 11  у  подростков, графа 9 у взрослых) соответствующих  таблиц.</a:t>
            </a:r>
            <a:endParaRPr b="1" lang="en-US" sz="2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539640" y="1268280"/>
            <a:ext cx="8064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заболеваниях, выявленных у  больных, поступивших в стаци-онар, минуя поликлинику, следует включать в отчёт на общих основания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он амбулаторного пациента  может  быть  заполнен в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ционаре и пере-дан в поликлиник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либо заполнен в поликлинике на основании выписки из кар-ты стационарного больног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8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3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412920" y="836640"/>
            <a:ext cx="8407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ганизация, имеющая в своем составе подразделения, оказывающие медицинскую помощь в амбулаторных условиях  и ведущая  только консультативный прием, составляет форму по соответствующим строкам лишь в том случае, если в дан-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организации у пациентов  не только выявляются  эти заболевания, но  и осуществляется их лечение,  а также  и диспансерное наблюдение за пациен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59" name="Прямоугольник 2"/>
          <p:cNvSpPr/>
          <p:nvPr/>
        </p:nvSpPr>
        <p:spPr>
          <a:xfrm>
            <a:off x="611280" y="1197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аждый случай острого заболевания зарегистрированный в текущем году не подлежит перерегистрации в следующем. В заболеваемость  не следует вклю-чать заболевания, коды которых отмечены «звездочкой» (альтерна-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ивные), используемые только для специальных разработок по проявлениям ос-новного заболевания и только вместе с кодом основного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755640" y="105264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которые острые  заболевания  и состояния (например: острый отит, ос-трый миокардит, острые  респираторные  инфекции  верхних и нижних  дыха-тельных  путей,  грипп, а  также травмы, за  исключением  по следствий и др.) регистрируются столько раз, сколько они возникают в течение отчетного года. При этом графа 4 должна быть равна  графе  9  по  соответствующим  строкам  таблиц 1000, 1500, 2000, 3000 и  4000. На  начало года по данным строкам 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о не относится к тем заболеваниям, при которых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рые формы могут переходить в хронические. Пр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острении хронических заболеваний регистрируют эти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ие заболевания, а не их острые фор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684360" y="1341360"/>
            <a:ext cx="806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 при составлении отчета о заболеваемости населения  сверять данные отдельных строк с профильными специалистам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для заполнения отчета в различны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еркуле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онные заболевания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потребнадзор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1116000" y="98100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468360" y="1773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9.2.1, 10.1, 10.4.1.1, 10.4.2, 10.4.3, 10.4.4, 10.5.1, 10.5.2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5.3, 10.6.1, 10.6.2, 10.6.3, 10.6.4, 10.6.7, 11.1, 11.1.1,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1.1.2, 11.2, 11.3, 11.4, 17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строке 20.0 может быть неравенство на коды Т90-Т98, больных  вибрационной  болезнью  (др.  профзаболевания) и больных получающих лечение по травме больше год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 неравенство, которое требует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енного     поясне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1,  2.2,  7.1,  7.1.1,  7.1.2,  12.9.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684360" y="278136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МНИТЕ О ПРЕЕМСТВЕННОСТИ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0" name="Прямоугольник 2"/>
          <p:cNvSpPr/>
          <p:nvPr/>
        </p:nvSpPr>
        <p:spPr>
          <a:xfrm>
            <a:off x="755640" y="105264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пациент обратился за медицинской помощью, минуя поликлинику, в больницу, то «Талон  амбулаторного пациента» (далее - Талон) заполняют в поликлинике после выписки пациента из стационара на основании "Выпис- ного эпикриза". При этом если пациент пришел на прием, то в Талоне произ-водится отметка о регистрации всех заболеваний для включения  этих сведе-ний в форму федерального  статистического наблюдения № 12 и вносится от-метка о посещении. Если  пациент на  прием  не  пришел, то в  Талоне регис-трируются все заболевания без отметки о посещении. В Талоне такж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олжно быть зарегистрировано  обращение  по поводу  заболевания, включа-ющее в себя одно или несколько посещений, в результате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торых цель обращения достигнута. При  заполнении  Талона  врач   также делает отметки о дате впервые выявленного основного и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путствующих заболеваний, взятии и снятии с диспансерного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чета. Эта данные  необходимы для заполнения формы федерального статис-тического наблюдения № 12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900000" y="16286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. Некоторые инфекционные и паразитарные болезни. А00-И99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. Новообразов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C00-D48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4" name="Прямоугольник 2"/>
          <p:cNvSpPr/>
          <p:nvPr/>
        </p:nvSpPr>
        <p:spPr>
          <a:xfrm>
            <a:off x="468360" y="3068640"/>
            <a:ext cx="83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4.2 включает в себя коды D65-D69 и включает в себя тромбоцитопении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омбоцитопатии, аллергический васкулит (код D69.X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3. Болезни крови, кроветворных органов и отдельные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я, вовлекающие иммунный механизм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D50-D8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7" name="Прямоугольник 2"/>
          <p:cNvSpPr/>
          <p:nvPr/>
        </p:nvSpPr>
        <p:spPr>
          <a:xfrm>
            <a:off x="826920" y="1341360"/>
            <a:ext cx="7921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4. Болезни эндокринной системы, расстройства питания и наруше-ния обмена веществ. Е00-Е9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 u="sng">
                <a:solidFill>
                  <a:srgbClr val="606060"/>
                </a:solidFill>
                <a:uFillTx/>
                <a:latin typeface="Times New Roman"/>
                <a:ea typeface="Times New Roman"/>
              </a:rPr>
              <a:t>Гиперплазия щитовидной железы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шифруется кодом – E04.0. Отставание в физическом развитии кодируют по эндокринной патологии–E45.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Строки 5.4, 5.15 у взрослых и подростков диагноз «Гипофизарный нанизм, Гипопитуитаризм  юношеский» - всегда учитывается с «-»,  так  как  первично диагноз устанавливается еще в детском возрасте (код – Е23.0).   Причины воз-никновения нанизма (карликовости)  могут  быть различны, соответственно  и кодировать  его  нужно  по-разному. Пример:  гипопитуитаризм вызванный ле-карственными средствами – Е23.1; гипопитуитаризм, обусловленный гипофизэктомией – Е89.3, гипопитуитаризм, обусловленный гормонально неактивной аденомой гипофиза – Е23.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755640" y="21337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5. Психические расстройства и расстройства повед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-F99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ы 4, 9, 15 формы 12 равны соответствующим графам и строка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 10, 11, 36, 37 (за минусом *) и с обязательным движение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й группы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поряжение МЗ РФ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89928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108000" y="1557360"/>
            <a:ext cx="849636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я форма 12 формируется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основании сведений о пациентах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01 января по 31 декабря 2019 года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!!</a:t>
            </a:r>
            <a:endParaRPr b="1" lang="en-US" sz="1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684360" y="62064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F00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Деменция  при болезни Альцгеймера (G30.-+)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F02*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менция при других болезнях, классифицированных в других рубрика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G3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1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здняя болезнь Альцгеймера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8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ие формы болезни Альцгеймера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30.9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Альцгеймера неуточненная</a:t>
            </a:r>
            <a:br>
              <a:rPr sz="1800"/>
            </a:b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20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Паркинсона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2" name="Прямоугольник 3"/>
          <p:cNvSpPr/>
          <p:nvPr/>
        </p:nvSpPr>
        <p:spPr>
          <a:xfrm>
            <a:off x="1619280" y="522936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агнозы по неврологии показываются п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чке 7.0, по строке 6.0 не показываютс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1403280" y="981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6. Болезни нервной системы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G00-G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684360" y="1916280"/>
            <a:ext cx="7848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7.0.  Вегетативные расстройства, которые проявляются в наруш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ии регуляции сердечно-сосудистой, дыхательной и др. систем организма, мо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ут быть синдромом таких заболеваний, как: гипертоническая болезнь, хрони-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шемическ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болезнь сердца, эндокринные нарушения и т.д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этом случа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учет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лежит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новно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е.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егетативной нервной системы кодируются G90.8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матоформна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функция вегетатив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ой нервной системы F45.3 (диагноз ставит психиатр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7.6 и 7.9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гд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больше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уммы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дстрочников. У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х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в строку 7.9 должны быть включены последствия травм, ОНМК в виде парезов, параличей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(письмо МЗиСР РФ от 26 апреля 2011 г. №14-9/10/2-415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7" name="Прямоугольник 1"/>
          <p:cNvSpPr/>
          <p:nvPr/>
        </p:nvSpPr>
        <p:spPr>
          <a:xfrm>
            <a:off x="755640" y="549360"/>
            <a:ext cx="77770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Преходящие транзиторные церебральные ишемические приступы [атаки] и родственные синдромы (ТИА)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.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 </a:t>
            </a:r>
            <a:r>
              <a:rPr b="0" lang="en-US" sz="1800" spc="-1" strike="noStrike">
                <a:solidFill>
                  <a:srgbClr val="606060"/>
                </a:solidFill>
                <a:latin typeface="-윤고딕140"/>
              </a:rPr>
              <a:t>G4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здоровья, относящееся к группе эпизодические и пароксизмальные расстройств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нзиторные ишемические атаки расцениваются врачами как предупредительный сигнал возникновения острого ишемического инсульт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тиология. Хотя ТИА часто обусловлены атеросклерозом и эссенциальной артериальной гипертензией, возможны и другие состояния, включая кардиогенную эмболию, расслоение артериальной стенки, фибромиодисплазию, гематологические заболевания, мигрень, судорожные припадки, опухоль и субдуральную гематому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словно к пароксизмальным расстройствам можно отнести все заболевания нервной системы, проявляющиеся в виде приступов (пароксизмов) – это мигренозные атаки (приступообразные мучительные головные боли, начинающиеся в одной половине головы), и обмороки, возникающие при различных других болезнях, и внезапно развивающиеся головокружения при болезни или синдроме Меньера, и т.н. диэнцефальные кризы или панические атаки (вегетативные приступы, сопровождающиеся повышением артериального давления, учащением пульса, страхом, выраженным беспокойством), и собственно эпилептические приступы, которые могут протекать как с судорогами - так и без них, как с потерей сознания - так и без нее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89" name="Прямоугольник 1"/>
          <p:cNvSpPr/>
          <p:nvPr/>
        </p:nvSpPr>
        <p:spPr>
          <a:xfrm>
            <a:off x="1476360" y="112392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7. Болезни глаза и его придаточного аппарата. Н00-Н5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0" name="Прямоугольник 2"/>
          <p:cNvSpPr/>
          <p:nvPr/>
        </p:nvSpPr>
        <p:spPr>
          <a:xfrm>
            <a:off x="468360" y="253692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8.0 в графе «диспансерные» показываются: миопия и гипермет-ропия средней и высокой степени, паралитическое и не аккомадационно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соглазие, сложный астигматизм …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Миопия и гиперметропия лёгкой степени, аккомадационный астигматизм, спазм аккомодации и др. показываются только по графам «всего и впервые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8.3 и 8.8 показывать катаракту и глаукому только приобретенные (врожденные соответственно показать по классу Q). Строка 8.12 включает в себя слепоту на один глаз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2" name="Прямоугольник 1"/>
          <p:cNvSpPr/>
          <p:nvPr/>
        </p:nvSpPr>
        <p:spPr>
          <a:xfrm>
            <a:off x="1187280" y="14130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8. Болезни уха и сосцевидного отростка. Н60-Н9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3" name="Прямоугольник 2"/>
          <p:cNvSpPr/>
          <p:nvPr/>
        </p:nvSpPr>
        <p:spPr>
          <a:xfrm>
            <a:off x="900000" y="3075120"/>
            <a:ext cx="741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9.4 – включать врожденную глухоту (код H90.X), одностороннюю и смешанную тугоухость. Таким образом, она должна быть больше суммы своих подстрочнико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5" name="Прямоугольник 2"/>
          <p:cNvSpPr/>
          <p:nvPr/>
        </p:nvSpPr>
        <p:spPr>
          <a:xfrm>
            <a:off x="971640" y="90792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9. Болезни системы кровообращ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00-I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684360" y="249228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7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98" name="Прямоугольник 1"/>
          <p:cNvSpPr/>
          <p:nvPr/>
        </p:nvSpPr>
        <p:spPr>
          <a:xfrm>
            <a:off x="611280" y="26370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ые гипертензии не учитываются в форме 12. Статталон не заполняется, а кодируется основное заболевание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: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с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торичной гипертензией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I67.2; ил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церебральный атеросклероз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ипертоническая болезнь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– 2 талона (I67.2 и  I10) разносятся по двум строкам – строка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0.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и строка 10.3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0" name="Прямоугольник 1"/>
          <p:cNvSpPr/>
          <p:nvPr/>
        </p:nvSpPr>
        <p:spPr>
          <a:xfrm>
            <a:off x="611280" y="25653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2" name="Прямоугольник 1"/>
          <p:cNvSpPr/>
          <p:nvPr/>
        </p:nvSpPr>
        <p:spPr>
          <a:xfrm>
            <a:off x="1042920" y="213372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4.1.1 – </a:t>
            </a:r>
            <a:r>
              <a:rPr b="1" lang="en-US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I20.0 –</a:t>
            </a: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егистрируется раз в год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полняются графы 4 и 9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4 = графе 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4" name="Прямоугольник 1"/>
          <p:cNvSpPr/>
          <p:nvPr/>
        </p:nvSpPr>
        <p:spPr>
          <a:xfrm>
            <a:off x="900000" y="285264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971640" y="692280"/>
            <a:ext cx="77770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а 12 формируется по 6 разделам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0-14 лет включительно) - 1000, 1001, 1002, 1003, 1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ервых трех лет жизни - 1500, 1600, 1601, 1650, 1700, 1800, 190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2000, 2001, 2003, 2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(18 лет и более) - 3000, 3002, 3003, 3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зрослые  старше  трудоспособного  возраста (с  55 лет  у женщин и 60 лет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мужчин) - 4000, 4001, 4003, 4100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изация студентов высших учебных заведений – 5000, 5100.                                     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6" name="Прямоугольник 1"/>
          <p:cNvSpPr/>
          <p:nvPr/>
        </p:nvSpPr>
        <p:spPr>
          <a:xfrm>
            <a:off x="755640" y="263700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, повторными инфарктами миокарда острыми нарушениями мозгового кровообращения наблюдаются в течение 28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08" name="Прямоугольник 1"/>
          <p:cNvSpPr/>
          <p:nvPr/>
        </p:nvSpPr>
        <p:spPr>
          <a:xfrm>
            <a:off x="900000" y="27813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 включает пролапс митрального клапана (код I34.1)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5.4 включает только идиопатические (самостоятельные)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формы заболеваний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0" name="Прямоугольник 1"/>
          <p:cNvSpPr/>
          <p:nvPr/>
        </p:nvSpPr>
        <p:spPr>
          <a:xfrm>
            <a:off x="1042920" y="2205000"/>
            <a:ext cx="734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5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684360" y="2205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и 10.6.1 – 10.6.4 острое нарушение мозгового кровообращения всегда первичный (+), с (-) нет. Таким образом, гр. 4 всегда равна гр. 9. По диагнозу «Инсульт» больные подлежат диспансерному наблюдению по гр. 15  на протяжении 30 дней от момента начальных проявлений или более в пределах одного эпизода лечения. В дальнейшем диспансер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8.2 - не включать флебит портальной вены (K75.1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4" name="Прямоугольник 2"/>
          <p:cNvSpPr/>
          <p:nvPr/>
        </p:nvSpPr>
        <p:spPr>
          <a:xfrm>
            <a:off x="1042920" y="299880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строке 10.6.7 заполняются графы 4, 9 и они равн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1187280" y="1197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0. Болезни органов дыха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J00-J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826920" y="2690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ети по приказу №725 от 15.06.83г – 12 месяцев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19" name="Прямоугольник 2"/>
          <p:cNvSpPr/>
          <p:nvPr/>
        </p:nvSpPr>
        <p:spPr>
          <a:xfrm>
            <a:off x="755640" y="1989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 до 1 года жизни хронических заболеваний быть не должно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стматический статус – J46.0 – J 46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РВИ (ОРЗ) – J06.9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невмония - графа 4 = графе 9, графа 8 = графе 1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зница между выявлено и взято на Д-учет может быть за счет умерших, выбывших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900000" y="227664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- рые (со знаком  +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 этим строкам графы 4 и 9 таблиц 1000, 2000, 3000 и 4000 равны.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1692360" y="1125360"/>
            <a:ext cx="619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1. Болезни органов пищевар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K00-K93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755640" y="2781360"/>
            <a:ext cx="770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Заболевания зубов включают в форму 12 только в том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лучае, если больной подлежит диспансерному наблюдению</a:t>
            </a: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.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6" name="Прямоугольник 1"/>
          <p:cNvSpPr/>
          <p:nvPr/>
        </p:nvSpPr>
        <p:spPr>
          <a:xfrm>
            <a:off x="611280" y="126828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форму 12 включаются заболевания, которые подлежат диспансерному наблюдению множественным прогрессирующим кариесом зубов (4 раза в год]; легкой формой пародонтита (1 раз в 6 мес], тяжелой формой (каждые 3 мес); пародонтозом (1 раз в 6 мес для профилактики осложнений); хроническими гингивитами, стоматитами,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ейлитами, глоссальгией (от 2 до 4 раз в год); одонтогенными невралгиями тройничного и невритами лицевого нервов (от 2 до 4 раз в год); хроническими остеомиелитами костей лица (2 раза в год); хрони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аковыми заболеваниями челюстей и полости рта, злокачественными новообразованиями челюстей и полости рта (совместно с онкологами в зависимости от стадии заболевания); врожденными расщелинами челюстно-лицевой области (2 раза в год); зубочелюстными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номалиями (2—3 раза в год); врожденными и приобретенными деформациями челюстей (2 раза в год)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971640" y="692280"/>
            <a:ext cx="7777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28560" y="2276640"/>
          <a:ext cx="7886880" cy="3025440"/>
        </p:xfrm>
        <a:graphic>
          <a:graphicData uri="http://schemas.openxmlformats.org/drawingml/2006/table">
            <a:tbl>
              <a:tblPr/>
              <a:tblGrid>
                <a:gridCol w="1503360"/>
                <a:gridCol w="452520"/>
                <a:gridCol w="506520"/>
                <a:gridCol w="434880"/>
                <a:gridCol w="434880"/>
                <a:gridCol w="506520"/>
                <a:gridCol w="506520"/>
                <a:gridCol w="506160"/>
                <a:gridCol w="582840"/>
                <a:gridCol w="582480"/>
                <a:gridCol w="433440"/>
                <a:gridCol w="434880"/>
                <a:gridCol w="582840"/>
                <a:gridCol w="419040"/>
              </a:tblGrid>
              <a:tr h="233280"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Наименование классов и отдельных болезне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Код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о МКБ-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пере-смотр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егистрировано заболеваний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нято с диспан-серного наблю-дения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Calibri"/>
                          <a:ea typeface="Times New Roman"/>
                        </a:rPr>
                        <a:t>Состоит под диспан-серным наблюде-нием на конец отчетного года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15)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: 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них (из гр. 4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ваний с впервые в жизни установленным диагнозом 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: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9160" rIns="291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из заболе-ваний с впервые в жизни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ленны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(из гр. 9)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29160" marR="29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 впервы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 жизни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установ- ленны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агно-зом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зято под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испансер-ное наблю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дени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-но при проф-осмотре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выявлено при диспан-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серизации определен-ных групп взрослого населения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606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700" spc="-1" strike="noStrike">
                        <a:solidFill>
                          <a:srgbClr val="dafbfe"/>
                        </a:solidFill>
                        <a:latin typeface="-윤고딕140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1116000" y="1197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2. Болезни кожи и подкожной клетчатки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L00-L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9" name="Прямоугольник 2"/>
          <p:cNvSpPr/>
          <p:nvPr/>
        </p:nvSpPr>
        <p:spPr>
          <a:xfrm>
            <a:off x="1042920" y="206064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3. Болезни костно-мышечной системы и соединительной ткани. М00-М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0" name="Прямоугольник 3"/>
          <p:cNvSpPr/>
          <p:nvPr/>
        </p:nvSpPr>
        <p:spPr>
          <a:xfrm>
            <a:off x="755640" y="2997360"/>
            <a:ext cx="76327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испансерному учёту подлежат сколиозы, плоскостопие, остеохондропатии, остеохондроз. Нарушение осанки,  плоская стопа,  сутулость,  вальгусная  и  варусная  деформация  стоп  наблюдаются   по   списочному   составу  и  соответственно  в графе 15 (диспансерные) не показываются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,   сутулость – М53.2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колиоз – М4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2" name="Прямоугольник 1"/>
          <p:cNvSpPr/>
          <p:nvPr/>
        </p:nvSpPr>
        <p:spPr>
          <a:xfrm>
            <a:off x="826920" y="1989000"/>
            <a:ext cx="7705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льгусная деформация стопы – М21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-варусная деформация стопы – М21.1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лоскостопие и плоская стопа – М21.4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Нарушение осанки включать в строку 14.0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4" name="Прямоугольник 1"/>
          <p:cNvSpPr/>
          <p:nvPr/>
        </p:nvSpPr>
        <p:spPr>
          <a:xfrm>
            <a:off x="826920" y="1844640"/>
            <a:ext cx="8066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еохондроз у взрослых кодируется M50 – M54 и показывается по строке 14.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М42.1</a:t>
            </a:r>
            <a:r>
              <a:rPr b="1" lang="ru-RU" sz="1800" spc="-1" strike="noStrike" u="sng">
                <a:solidFill>
                  <a:srgbClr val="606060"/>
                </a:solidFill>
                <a:uFillTx/>
                <a:latin typeface="-윤고딕140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 у взрослых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Остеохондроз позвоночника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-윤고딕140"/>
              </a:rPr>
              <a:t>клинические рекомендаци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(М48.0, М 54, М50.0, М50.1, М50.2, М50.3, М50.8, М50.9, М51.0, М51.1, М51.2, М51.3, М51.8, М51.9, М53.2)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-윤고딕140"/>
              </a:rPr>
              <a:t>прошу обратить внимание специалистов на более точную формулировку диагнозов при остеохондрозе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6" name="Прямоугольник 1"/>
          <p:cNvSpPr/>
          <p:nvPr/>
        </p:nvSpPr>
        <p:spPr>
          <a:xfrm>
            <a:off x="1258920" y="134136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4. Болезни мочеполовой системы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N00-N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684360" y="261288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денома простаты – N4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39" name="Прямоугольник 1"/>
          <p:cNvSpPr/>
          <p:nvPr/>
        </p:nvSpPr>
        <p:spPr>
          <a:xfrm>
            <a:off x="826920" y="206064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7 – всегда больше строки 15.7.1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8 - эндометриоз с Д-учёта снимается посмертно или в глубокой менопауз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5.9 - расстройства менструаций – на Д-учёт берётся олиго- и аменорея 1, 2 степени. У девочек до 17 лет эрозия шейки матки (если нет возможности лечить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Альгодисменорею в графе «диспансерные» показывать не нужно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1" name="Прямоугольник 1"/>
          <p:cNvSpPr/>
          <p:nvPr/>
        </p:nvSpPr>
        <p:spPr>
          <a:xfrm>
            <a:off x="900000" y="1268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5. Беременность, роды и послеродовый период. О00-О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826920" y="2612880"/>
            <a:ext cx="777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ключаются случаи акушерской патологии. Данные этой строки  должны  определённым  образом соотноситься с данными по форме № 32 таблицы 2130 (все нозологии) и  таблицы  2111  (учитывая  патологию,   требующую   дальнейшего диспансерного наблюдения)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Если соматическое заболевание возникло во время беременности  –  кодировать его необходимо по классу О.   Ранее известную  (и  зарегистрированную)  соматическую патоло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</a:t>
            </a: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.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4" name="Прямоугольник 1"/>
          <p:cNvSpPr/>
          <p:nvPr/>
        </p:nvSpPr>
        <p:spPr>
          <a:xfrm>
            <a:off x="900000" y="105264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6. Отдельные состояния, возникающие в перинатальном периоде. Р00-Р96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5" name="Прямоугольник 2"/>
          <p:cNvSpPr/>
          <p:nvPr/>
        </p:nvSpPr>
        <p:spPr>
          <a:xfrm>
            <a:off x="755640" y="2921040"/>
            <a:ext cx="784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трока 17.0 таблиц 2000 и 3000 заполняется только в случаях перинатальной смертности  и касается состояния здоровья матери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таблице 1000 коды МКБ-10 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P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05-Р9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7" name="Прямоугольник 1"/>
          <p:cNvSpPr/>
          <p:nvPr/>
        </p:nvSpPr>
        <p:spPr>
          <a:xfrm>
            <a:off x="838080" y="148428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У детей, заболевания регистрируются как острые (таблица 1000 и 1500), дети наблюдаются в  течение 1 месяца, поэтому в графе 15 на конец отчетного периода  показывают  детей, у которых эти состояния развились в декабре месяце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статков с прошлого года нет (0) т.к. за год формируется патология, которая кодируется другим классом. Данная строка равна  (крайне редко) или больше данных по форме  № 32,  т.к.  частично  диагнозы выставляются в поликлинике педиатрами, неврологами и др. врачами. Внимание:  из  выписки родильного  отделения в поликлинике кодируем только то, что вынесено в диагноз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се текстовые описания кодированию не подлежат.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49" name="Прямоугольник 1"/>
          <p:cNvSpPr/>
          <p:nvPr/>
        </p:nvSpPr>
        <p:spPr>
          <a:xfrm>
            <a:off x="755640" y="93492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7. Врожденные аномалии (пороки развития), деформации и хромосомные наруш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Q00-Q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826920" y="256536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8. Симптомы, признаки и отклонения от нормы, выявленные при </a:t>
            </a:r>
            <a:br>
              <a:rPr sz="1800"/>
            </a:b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инических и лабораторных исследованиях, не классифицированные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других рубриках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R00-R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395280" y="387504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Состояния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з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18 класса (стр. 19.0), не должны регистрироваться как заболевания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3" name="Прямоугольник 1"/>
          <p:cNvSpPr/>
          <p:nvPr/>
        </p:nvSpPr>
        <p:spPr>
          <a:xfrm>
            <a:off x="611280" y="14130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19. Травмы, отравления и некоторые другие последствия воздействия внешних причин.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S00-T98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539640" y="2781360"/>
            <a:ext cx="820908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я  должны соответствовать патологическим состояниям, указанным в форме №57 «Сведения  о  травмах, отравлениях и  некоторых  других  последствиях  воздействия внешних причин»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 4 и 9  могут быть не  равны.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1187280" y="119700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аблицы 1000, 2000, 3000, 4000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4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и повторно один  раз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году (+ и -)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5 – в возрасте 0-4 года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6 – в возрасте 5-9 лет, из графы 4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            при этом графа 4 </a:t>
            </a:r>
            <a:r>
              <a:rPr b="0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&gt;</a:t>
            </a: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= графам 5+6 в таблице 1000;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8 – взято под диспансерное наблюдение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ечение года, из графы 4 «всего» (+ и -);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9 - заболевания, зарегистрированные у  </a:t>
            </a:r>
            <a:br>
              <a:rPr sz="1800"/>
            </a:b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пациентов впервые в жизни (+),  из графы 4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6" name="Прямоугольник 1"/>
          <p:cNvSpPr/>
          <p:nvPr/>
        </p:nvSpPr>
        <p:spPr>
          <a:xfrm>
            <a:off x="684360" y="177336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меры шифрования последствий травм: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тдалённые последствия перелома можно шифровать  -  М84.1 – несрастание перелома,  М82.2 – замедленное сращение перелома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оследствия ЧМТ кодируются в зависимости от клиники проявлений: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хроническая посттравматическая  головная боль G44.3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травматическая  транзиторная  церебральная  ишемия  G45.8,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. уточнённое  поражение головного мозга, в том числе травматическая болезнь мозга G93.8,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энцефалопатия   посттравматическая  F07.2,   энцефалопатия  неуточнённая  G93.4,  относящиеся к патологии нервной системы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8" name="Прямоугольник 1"/>
          <p:cNvSpPr/>
          <p:nvPr/>
        </p:nvSpPr>
        <p:spPr>
          <a:xfrm>
            <a:off x="971640" y="1125360"/>
            <a:ext cx="770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Z00-Z9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755640" y="287496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971640" y="1125360"/>
            <a:ext cx="770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 2000, 3000,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1.1, 5.11, 5.12, 5.13, 5.14, 5.15, 7.8.2, 18.2, 18.5, 18.6, 18.7, 18.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е 9 – (Х – должен стоять 0) стоит число – представить пояснительную записку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лица 4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оки: 5.7, 5.8, 7.10, 3.1, 15.9, 15.11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графа 9 – (Х – должен стоять 0) стоит число – проверить первичную документацию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2" name="Прямоугольник 2"/>
          <p:cNvSpPr/>
          <p:nvPr/>
        </p:nvSpPr>
        <p:spPr>
          <a:xfrm>
            <a:off x="755640" y="28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4" name="Прямоугольник 1"/>
          <p:cNvSpPr/>
          <p:nvPr/>
        </p:nvSpPr>
        <p:spPr>
          <a:xfrm>
            <a:off x="755640" y="1989000"/>
            <a:ext cx="777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Обязательно проводить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внутриформенный, межформенный </a:t>
            </a:r>
            <a:br>
              <a:rPr sz="4000"/>
            </a:br>
            <a:r>
              <a:rPr b="1" lang="ru-RU" sz="4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и межгодовой контроли</a:t>
            </a:r>
            <a:br>
              <a:rPr sz="40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907920"/>
            <a:ext cx="7886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606060"/>
                </a:solidFill>
                <a:latin typeface="굴림"/>
              </a:rPr>
              <a:t>Контроль таблиц </a:t>
            </a:r>
            <a:br>
              <a:rPr sz="4000"/>
            </a:br>
            <a:r>
              <a:rPr b="0" lang="en-US" sz="4000" spc="-1" strike="noStrike">
                <a:solidFill>
                  <a:srgbClr val="606060"/>
                </a:solidFill>
                <a:latin typeface="굴림"/>
              </a:rPr>
              <a:t>1000, 2000, 3000, 4000 </a:t>
            </a:r>
            <a:br>
              <a:rPr sz="4000"/>
            </a:br>
            <a:r>
              <a:rPr b="0" lang="ru-RU" sz="4000" spc="-1" strike="noStrike">
                <a:solidFill>
                  <a:srgbClr val="606060"/>
                </a:solidFill>
                <a:latin typeface="굴림"/>
              </a:rPr>
              <a:t>в </a:t>
            </a:r>
            <a:r>
              <a:rPr b="1" lang="en-US" sz="4000" spc="-1" strike="noStrike">
                <a:solidFill>
                  <a:srgbClr val="c00000"/>
                </a:solidFill>
                <a:latin typeface="굴림"/>
              </a:rPr>
              <a:t>Excel</a:t>
            </a:r>
            <a:r>
              <a:rPr b="0" lang="ru-RU" sz="4000" spc="-1" strike="noStrike">
                <a:solidFill>
                  <a:srgbClr val="60606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9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70" name="Рисунок 1" descr=""/>
          <p:cNvPicPr/>
          <p:nvPr/>
        </p:nvPicPr>
        <p:blipFill>
          <a:blip r:embed="rId1"/>
          <a:stretch/>
        </p:blipFill>
        <p:spPr>
          <a:xfrm>
            <a:off x="250920" y="1776240"/>
            <a:ext cx="8642160" cy="33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2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73" name="Рисунок 2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75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76" name="Рисунок 5" descr=""/>
          <p:cNvPicPr/>
          <p:nvPr/>
        </p:nvPicPr>
        <p:blipFill>
          <a:blip r:embed="rId1"/>
          <a:stretch/>
        </p:blipFill>
        <p:spPr>
          <a:xfrm>
            <a:off x="0" y="506520"/>
            <a:ext cx="9109080" cy="63514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0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81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3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84" name="Рисунок 1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63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870840" y="260280"/>
            <a:ext cx="235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539640" y="765000"/>
            <a:ext cx="82090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dafbfe"/>
                </a:solidFill>
                <a:latin typeface="Times New Roman"/>
                <a:ea typeface="Times New Roman"/>
              </a:rPr>
              <a:t>-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buClr>
                <a:srgbClr val="606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афа 10 - взято под диспансерное наблюдение в течение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ода (+) , из графы 9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1 – выявлено впервые при профосмотре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2 – выявлено  при  диспансеризации определенны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групп взрослого населения, из графы 9;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в таблице 2000 - выявлено  при  диспансеризации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4 – снято с диспансерного наблюдения (по всем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другое место жительства и др.)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а 15 – состоит под диспансерным наблюдением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конец отчетного года; </a:t>
            </a:r>
            <a:br>
              <a:rPr sz="2400"/>
            </a:br>
            <a:r>
              <a:rPr b="0" lang="ru-RU" sz="24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- графы 7,13,16-в таблице 2000 –все данные о юношах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6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87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89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0" name="Рисунок 1" descr=""/>
          <p:cNvPicPr/>
          <p:nvPr/>
        </p:nvPicPr>
        <p:blipFill>
          <a:blip r:embed="rId1"/>
          <a:stretch/>
        </p:blipFill>
        <p:spPr>
          <a:xfrm>
            <a:off x="19080" y="506520"/>
            <a:ext cx="912492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2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3" name="Рисунок 1" descr=""/>
          <p:cNvPicPr/>
          <p:nvPr/>
        </p:nvPicPr>
        <p:blipFill>
          <a:blip r:embed="rId1"/>
          <a:stretch/>
        </p:blipFill>
        <p:spPr>
          <a:xfrm>
            <a:off x="4680" y="527040"/>
            <a:ext cx="91393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5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6" name="Рисунок 1" descr=""/>
          <p:cNvPicPr/>
          <p:nvPr/>
        </p:nvPicPr>
        <p:blipFill>
          <a:blip r:embed="rId1"/>
          <a:stretch/>
        </p:blipFill>
        <p:spPr>
          <a:xfrm>
            <a:off x="0" y="506520"/>
            <a:ext cx="9252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98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299" name="Рисунок 1" descr=""/>
          <p:cNvPicPr/>
          <p:nvPr/>
        </p:nvPicPr>
        <p:blipFill>
          <a:blip r:embed="rId1"/>
          <a:stretch/>
        </p:blipFill>
        <p:spPr>
          <a:xfrm>
            <a:off x="9360" y="503280"/>
            <a:ext cx="913464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1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02" name="Рисунок 1" descr=""/>
          <p:cNvPicPr/>
          <p:nvPr/>
        </p:nvPicPr>
        <p:blipFill>
          <a:blip r:embed="rId1"/>
          <a:stretch/>
        </p:blipFill>
        <p:spPr>
          <a:xfrm>
            <a:off x="31680" y="506520"/>
            <a:ext cx="91123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4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05" name="Рисунок 1" descr=""/>
          <p:cNvPicPr/>
          <p:nvPr/>
        </p:nvPicPr>
        <p:blipFill>
          <a:blip r:embed="rId1"/>
          <a:stretch/>
        </p:blipFill>
        <p:spPr>
          <a:xfrm>
            <a:off x="15840" y="507960"/>
            <a:ext cx="916452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7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635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0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11" name="Рисунок 1" descr=""/>
          <p:cNvPicPr/>
          <p:nvPr/>
        </p:nvPicPr>
        <p:blipFill>
          <a:blip r:embed="rId1"/>
          <a:stretch/>
        </p:blipFill>
        <p:spPr>
          <a:xfrm>
            <a:off x="0" y="495360"/>
            <a:ext cx="918036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855720" y="260280"/>
            <a:ext cx="2374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6060"/>
                </a:solidFill>
                <a:latin typeface="Times New Roman"/>
                <a:ea typeface="돋움"/>
              </a:rPr>
              <a:t>ФГБУ ЦНИИОИЗ Минздрава России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13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314" name="Рисунок 1" descr=""/>
          <p:cNvPicPr/>
          <p:nvPr/>
        </p:nvPicPr>
        <p:blipFill>
          <a:blip r:embed="rId1"/>
          <a:stretch/>
        </p:blipFill>
        <p:spPr>
          <a:xfrm>
            <a:off x="12600" y="506520"/>
            <a:ext cx="913140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ГолубевНА</cp:lastModifiedBy>
  <dcterms:modified xsi:type="dcterms:W3CDTF">2019-12-18T10:03:58Z</dcterms:modified>
  <cp:revision>431</cp:revision>
  <dc:subject/>
  <dc:title>슬라이드 1</dc:title>
</cp:coreProperties>
</file>